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77F-B365-4FDF-8621-4C15D3C7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D9E-0986-4496-B156-091221B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8F3-AA47-496A-BC02-FD422424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C42-BFDF-4692-93B2-8A4E59E8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641-43A4-4A3B-B254-5FAA10E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D3A-393D-408C-A567-366048FB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103-0842-4678-A359-9A965D7A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420-C14A-4EED-A896-9A2DA62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4F0-CAB3-4592-AA88-57450A1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B8A-76DE-417D-B1DB-55FB877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93F-30A9-4609-8090-C6E0138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875-F2DB-4E65-9A3F-A99A2E9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5A81-5C5C-473D-B0E4-DA14C0F6B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минар-практикум для воспитателей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Формирование у дошкольников  познавательного интереса к истории и культуре Кубани»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спитатель Сахно Н.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БДОУ №41 «Подснежник» ст.Анапска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енский казачий костюм сложился на Кубани к концу 19 века. Женская казачья одежда, даже повседневная шилась и украшалась с любовью.На все случаи жизни казачки имели одежду. Самый красивый и любимый-свадебный,она надевала его один раз в жизни.Итак- костюм состоял из юбки и кофты. Одежду шили из ситца, шёлка и бархата. Внизу юбка украшалась оборками, кружевами. Кофты украшались тесьмой.вышивкой,бисером,кружевами.На голову надевали красивые платки,на ноги полусапожки. Шею украшали бусами, монистами,украшениями из янтар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7550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14716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лодые девушки носили косу и вплетали в неё ленты.Женщины заплетали волосы вокруг головы. Женщины-казачки одевали стёганую кофту с глубоким запахом. Так было удобно носить ребёнка( не заворачивая в одеяльце), на ноги зимние валенк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гра «Украшаем женский казачий костюм».Силуэты и детали. Женщины носили кружевные платки, без них нельзя было появляться на людях. А казаку полагалась фуражка и шапка. Дети донашивали одежду старших братьев и сестёр,т.к. семьи были большие и не очень богатые.Но жили дружно и весело.На праздниках, их называли игрищами, пели песни, частушки, водили хороводы, одевались в нарядные одеж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560" y="33336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орка народных кубанских игр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гра «Звонок»- Дети встают в круг.В круг заходят два ребёнка, у одного в руках колокольчик, у лругого верёвочка(ему завязывают глаза).Он должен по звуку поймать своего противника, набросить на него верёвочку.Круг не позволяет играющим далеко расходитьс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ружева»- Один ребёнок ткач, другой челнок. Дети парами стоят по кругу.Подымают вверх руки-ворота. Челнок встаёт у первой пары,ткач у второй.Челнок по сигналу начинает бегать змейкой, не пропуская ни одни ворота, а ткач догоняет.Если ткач догонит челнока раньше чем добежит до конца круга , то он становится челноком,  а ткач выбирается из других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«Кузнецы» – Выбирается кузнец, остальные жеребцы.Чтение стих. С.Я.Маршака «Эй,кузнец,молодец».Жеребцы на слове готово- убегают, а кузнец догоня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«Подкова»- Под музыку передаётся подкова, тот у кого она окажется в руках по окончанию музыки- читает стихи или танцует, или поёт песн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льно-печатная игра «Кто лишний»- рыбы Чёрного моря, животные и растения степей и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ань- песенный край.Казачьи песни , частушки, формируют у детей устойчивый интерес к песенному твор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енный венок КУб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25360"/>
            <a:ext cx="821844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ть свою историю- значит твёрдо стоять на родной земле,гордиться её героическим прошлым, быть достойным её славного будущего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ё А.С.Пушкин говорил: «Уважение к минувшему – вот черта, отличающая образованность  от  дикости». Эти слова актуальны и сейчас. Чтобы воспитать настоящего патриота своего  Отечества- важно не забывать нравственные ценности, накопленные нар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ль: Повысить  профессиональную  компетентность педагогов по  вопросу формирования у дошкольников познавательного интереса к истории и культуре Кубан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атериал: слайды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дварительная работа: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обзор методической литературы по теме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подбор наглядного материала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оформление картотеки игр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астники: педагоги МБДОУ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ы живём в благодатном красивом крае. Наша Кубань богата традициями, обычаями, обрядами и промыслами,которые сохраняются и бережно передаются из поколения в поколение.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27280" cy="4526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429000"/>
            <a:ext cx="8447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ждый педагог задаётся вопросом: «Как развить познавательный интерес ребёнка?»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жде всего надо обозначить задачи для достижения поставленной цел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оспитание чувства привязанности и любви к семье,дому, станице, краю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формирование познавательного интереса к прошлому и настоящему края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оспитание чувства гордости за своих земляков, ответственности за всё, что происходит в станице, городе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Воспитывать уважительное отношение к обычаям, традициям других национальностей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Формировать творческое воображение через знакомство с народно-прикладным искусством,музыкальным фольклором.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13000"/>
            <a:ext cx="8291520" cy="1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спитание любви  к своей станице – одно из направлений нравственно- патриотического воспитания.Дети узнают историю своей станицы и казачества в целом, знакомятся с обычаями, языком, одеждой, бытом,особенностями воспитания маленьких казачат. Этому было посвящено открытое занятие в средней группе «Путешествие в прошлое» . Сейчас хочется подробнее описать казачий костюм. Эта тема интересна и вызывает желание побольше узнать об эт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ужской костюм-это прежде всего широкие шаровары,в узких не сядешь на коня.Конные казаки носилисиние шаровары и кафтан красного цвета. Но была и другая форма костюма. Это – черкесска чёрного цвета и шаровары, башлык-тёплая накидка с двумя длинными концами. Зимой казаки сверху надевали бурку. Рукава были с широкими отворотами. На груди газыри- кармашки для патронов.На голове шапка, на ногах сапоги, кинжал и сабля вешались к поясу казака.Капющон- бешме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195640" y="430200"/>
            <a:ext cx="4968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353440" cy="1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зачьх семьях глава семьи- казак. Он работал в поле, добывал пищу для мемьи, а самое главное- охранял границу от врагов. Настоящий казак одевался в полный комплект, при нём обязательно конь и оружие. Во время первой мировой войны казачья форма изменилась. Черкесску и бешмет заменили на гимнастёрку, а шапку на фуражку. Прежняя осталась как парадная её надевали по праздникам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закрепления с детьми проводится игра: «Кто больше назовёт деталей одежды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тям предлагаются силуэты казачьих костюмов и детали одежды. Дети выбирают и прикладывают к силуэтам, называя 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332000" y="-316080"/>
            <a:ext cx="640872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46:38Z</dcterms:created>
  <dc:creator>1</dc:creator>
  <dc:description/>
  <dc:language>en-US</dc:language>
  <cp:lastModifiedBy>1</cp:lastModifiedBy>
  <dcterms:modified xsi:type="dcterms:W3CDTF">2012-02-05T07:52:04Z</dcterms:modified>
  <cp:revision>21</cp:revision>
  <dc:subject/>
  <dc:title>Семинар-практикум для воспитателей «Формирование у дошкольников  познавательного интереса к истории и культуре Кубани» воспитатель Сахно Н.И. МБДОУ №41 «Подснежник» ст.Анапская </dc:title>
</cp:coreProperties>
</file>