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E0F92-2816-45CE-BC39-B68FFA5E8CB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132A-8D34-4B2F-8AA3-7F807FF67FA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6DB9-976A-4887-BB4C-6A916E9D3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2DE3-6CDE-46DC-9B2B-EFD097FEA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BEEF-0491-423E-9F01-3067F5EA9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9814-1C2C-4229-BB07-1CC92D089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31277-8DDD-4C72-88B1-503BEDD4D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E84A9-4C57-4507-80EC-8D1947F1A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53A8B-6F2A-49D7-B3C1-B28538AA9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06D63-202B-42FF-98AD-74C9B2D70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346AB-A458-4682-B58B-C847FFD05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D6E92-0C44-4D88-AC0D-2AFEC1C7D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68556-FFC4-4959-91F2-AD6A4A28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4338-678F-41EB-A8E9-278C92750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4454B-77E5-4A89-9698-E94D2403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216A2-58A8-4572-B431-0222BF24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50E02-226F-4F38-B4B7-1FAACCDCD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DCC0A-064A-47C3-B7AD-DDA0380C6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A7A36-4335-4A5E-8ABC-2EB5F1BC6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E81C-DAD8-4FC0-B920-1A6CAAB8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11D9-A65C-45F0-A57C-CED115CCD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9838-7FF8-4175-9BBB-FA34C8E94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F1C4-1965-4F45-900A-C69164084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666F-75E6-4C12-9EE5-23812BBE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458D-073E-4FB9-997A-38840230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0A42-E8D8-4939-8B16-D2ACBBF9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2C9F1-119E-45EC-847F-9DC5BA5B310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01686-0B78-4F98-B0E7-09F92B3D486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WordArt 7"/>
          <p:cNvSpPr txBox="1"/>
          <p:nvPr/>
        </p:nvSpPr>
        <p:spPr>
          <a:xfrm>
            <a:off x="-324000" y="2421000"/>
            <a:ext cx="8677440" cy="19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сенний серпантин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4" descr="IMG_4520"/>
          <p:cNvPicPr/>
          <p:nvPr/>
        </p:nvPicPr>
        <p:blipFill>
          <a:blip r:embed="rId1"/>
          <a:stretch/>
        </p:blipFill>
        <p:spPr>
          <a:xfrm>
            <a:off x="-3643200" y="-2786040"/>
            <a:ext cx="16581240" cy="124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4" descr="IMG_4549"/>
          <p:cNvPicPr/>
          <p:nvPr/>
        </p:nvPicPr>
        <p:blipFill>
          <a:blip r:embed="rId1"/>
          <a:stretch/>
        </p:blipFill>
        <p:spPr>
          <a:xfrm>
            <a:off x="-3718080" y="-2789280"/>
            <a:ext cx="16581600" cy="124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5" descr="IMG_4578"/>
          <p:cNvPicPr/>
          <p:nvPr/>
        </p:nvPicPr>
        <p:blipFill>
          <a:blip r:embed="rId1"/>
          <a:stretch/>
        </p:blipFill>
        <p:spPr>
          <a:xfrm>
            <a:off x="-3718080" y="-2789280"/>
            <a:ext cx="16581600" cy="124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6" descr="IMG_4747"/>
          <p:cNvPicPr/>
          <p:nvPr/>
        </p:nvPicPr>
        <p:blipFill>
          <a:blip r:embed="rId1"/>
          <a:stretch/>
        </p:blipFill>
        <p:spPr>
          <a:xfrm>
            <a:off x="-3718080" y="-2789280"/>
            <a:ext cx="16581600" cy="124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6" descr="IMG_4556"/>
          <p:cNvPicPr/>
          <p:nvPr/>
        </p:nvPicPr>
        <p:blipFill>
          <a:blip r:embed="rId1"/>
          <a:stretch/>
        </p:blipFill>
        <p:spPr>
          <a:xfrm>
            <a:off x="-3718080" y="-2789280"/>
            <a:ext cx="16581600" cy="124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4" descr="IMG_4222"/>
          <p:cNvPicPr/>
          <p:nvPr/>
        </p:nvPicPr>
        <p:blipFill>
          <a:blip r:embed="rId1"/>
          <a:stretch/>
        </p:blipFill>
        <p:spPr>
          <a:xfrm>
            <a:off x="-2011320" y="-1508040"/>
            <a:ext cx="13166640" cy="987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9T17:09:57Z</dcterms:created>
  <dc:creator>www.PHILka.RU</dc:creator>
  <dc:description/>
  <dc:language>en-US</dc:language>
  <cp:lastModifiedBy>Игорь</cp:lastModifiedBy>
  <dcterms:modified xsi:type="dcterms:W3CDTF">2012-02-05T16:33:33Z</dcterms:modified>
  <cp:revision>18</cp:revision>
  <dc:subject/>
  <dc:title>Слайд 1</dc:title>
</cp:coreProperties>
</file>