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4.jpeg" ContentType="image/jpeg"/>
  <Override PartName="/ppt/media/image22.png" ContentType="image/png"/>
  <Override PartName="/ppt/media/image23.wmf" ContentType="image/x-wmf"/>
  <Override PartName="/ppt/media/image21.wmf" ContentType="image/x-wmf"/>
  <Override PartName="/ppt/media/image18.png" ContentType="image/png"/>
  <Override PartName="/ppt/media/image20.png" ContentType="image/png"/>
  <Override PartName="/ppt/media/image16.png" ContentType="image/png"/>
  <Override PartName="/ppt/media/image26.wmf" ContentType="image/x-wmf"/>
  <Override PartName="/ppt/media/image7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8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31.wmf" ContentType="image/x-wmf"/>
  <Override PartName="/ppt/media/image6.wmf" ContentType="image/x-wmf"/>
  <Override PartName="/ppt/media/image19.jpeg" ContentType="image/jpeg"/>
  <Override PartName="/ppt/media/image35.png" ContentType="image/png"/>
  <Override PartName="/ppt/media/image34.jpeg" ContentType="image/jpeg"/>
  <Override PartName="/ppt/media/image36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10.wmf" ContentType="image/x-wmf"/>
  <Override PartName="/ppt/media/image2.png" ContentType="image/png"/>
  <Override PartName="/ppt/media/image28.wmf" ContentType="image/x-wmf"/>
  <Override PartName="/ppt/media/image37.jpeg" ContentType="image/jpeg"/>
  <Override PartName="/ppt/media/image4.wmf" ContentType="image/x-wmf"/>
  <Override PartName="/ppt/media/image27.wmf" ContentType="image/x-wmf"/>
  <Override PartName="/ppt/media/image1.png" ContentType="image/png"/>
  <Override PartName="/ppt/media/image14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onnel.ru/gzl/1199668093_tonnel.gif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 u="sng">
                <a:solidFill>
                  <a:srgbClr val="33cc66"/>
                </a:solidFill>
                <a:uFillTx/>
                <a:latin typeface="Arial"/>
              </a:rPr>
              <a:t>Системы счисления</a:t>
            </a:r>
            <a:endParaRPr b="1" i="1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1963800"/>
            <a:ext cx="915696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66"/>
                </a:solidFill>
                <a:latin typeface="Times New Roman"/>
              </a:rPr>
              <a:t>      </a:t>
            </a:r>
            <a:r>
              <a:rPr b="0" lang="en-GB" sz="4000" spc="-1" strike="noStrike">
                <a:solidFill>
                  <a:srgbClr val="ff9966"/>
                </a:solidFill>
                <a:latin typeface="Times New Roman"/>
              </a:rPr>
              <a:t>Исследовательская работа           </a:t>
            </a:r>
            <a:r>
              <a:rPr b="0" lang="ru-RU" sz="4000" spc="-1" strike="noStrike">
                <a:solidFill>
                  <a:srgbClr val="ff9966"/>
                </a:solidFill>
                <a:latin typeface="Arial"/>
              </a:rPr>
              <a:t>учащейся МОУ «Гимназия №2»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Жигаловой Елены</a:t>
            </a:r>
            <a:r>
              <a:rPr b="0" lang="en-GB" sz="4000" spc="-1" strike="noStrike">
                <a:solidFill>
                  <a:srgbClr val="ff99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Научный руководитель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Игнатова Лариса Евгеньевна.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5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3366"/>
                </a:solidFill>
                <a:uFillTx/>
                <a:latin typeface="Arial"/>
              </a:rPr>
              <a:t>Алфавитная аддитивная</a:t>
            </a:r>
            <a:br>
              <a:rPr sz="4400"/>
            </a:br>
            <a:r>
              <a:rPr b="1" lang="en-GB" sz="4400" spc="-1" strike="noStrike" u="sng">
                <a:solidFill>
                  <a:srgbClr val="ff3366"/>
                </a:solidFill>
                <a:uFillTx/>
                <a:latin typeface="Arial"/>
              </a:rPr>
              <a:t> система счислен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9000" y="1260360"/>
            <a:ext cx="8477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b84700"/>
                </a:solidFill>
                <a:latin typeface="Times New Roman"/>
              </a:rPr>
              <a:t>Латинская (Римская) нумерация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63520" y="3059280"/>
            <a:ext cx="1800360" cy="45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6913440" y="3009960"/>
            <a:ext cx="3167280" cy="454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3156120" y="1860480"/>
          <a:ext cx="3144600" cy="2638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6120" y="1860480"/>
                    <a:ext cx="31446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2611440" y="4627440"/>
            <a:ext cx="3780000" cy="2932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b84700"/>
                </a:solidFill>
                <a:latin typeface="Arial"/>
              </a:rPr>
              <a:t>Славянская кириллическая нумерац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800360"/>
            <a:ext cx="2700360" cy="5736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00720" y="1279440"/>
            <a:ext cx="5580000" cy="37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4"/>
          <p:cNvGraphicFramePr/>
          <p:nvPr/>
        </p:nvGraphicFramePr>
        <p:xfrm>
          <a:off x="3040200" y="5208480"/>
          <a:ext cx="5286240" cy="18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0200" y="5208480"/>
                    <a:ext cx="52862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12348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b84700"/>
                </a:solidFill>
                <a:latin typeface="Arial"/>
              </a:rPr>
              <a:t>Славянская глаголическая нумерац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480000" y="2340000"/>
            <a:ext cx="329724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3"/>
          <p:cNvGraphicFramePr/>
          <p:nvPr/>
        </p:nvGraphicFramePr>
        <p:xfrm>
          <a:off x="426960" y="1424160"/>
          <a:ext cx="5945400" cy="575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1424160"/>
                    <a:ext cx="594540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Мультипликативные  системы счисления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9000" y="1440000"/>
            <a:ext cx="84772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b84700"/>
                </a:solidFill>
                <a:latin typeface="Times New Roman"/>
              </a:rPr>
              <a:t>Вавилонская нумерация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3587760" cy="515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4"/>
          <p:cNvGraphicFramePr/>
          <p:nvPr/>
        </p:nvGraphicFramePr>
        <p:xfrm>
          <a:off x="4243320" y="1979640"/>
          <a:ext cx="3318120" cy="290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3320" y="1979640"/>
                    <a:ext cx="33181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3959280" y="4767120"/>
          <a:ext cx="4182840" cy="2794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9280" y="4767120"/>
                    <a:ext cx="4182840" cy="27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1"/>
          <p:cNvGraphicFramePr/>
          <p:nvPr/>
        </p:nvGraphicFramePr>
        <p:xfrm>
          <a:off x="539640" y="179280"/>
          <a:ext cx="450072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9280"/>
                    <a:ext cx="45007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"/>
          <p:cNvGraphicFramePr/>
          <p:nvPr/>
        </p:nvGraphicFramePr>
        <p:xfrm>
          <a:off x="1800360" y="2700360"/>
          <a:ext cx="6833880" cy="424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360" y="2700360"/>
                    <a:ext cx="683388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b84700"/>
                </a:solidFill>
                <a:latin typeface="Arial"/>
              </a:rPr>
              <a:t>Китайская нумерац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969240" y="3276720"/>
            <a:ext cx="3109680" cy="42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3"/>
          <p:cNvGraphicFramePr/>
          <p:nvPr/>
        </p:nvGraphicFramePr>
        <p:xfrm>
          <a:off x="1397160" y="851040"/>
          <a:ext cx="6119640" cy="502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7160" y="851040"/>
                    <a:ext cx="6119640" cy="50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0" y="5137200"/>
          <a:ext cx="6119640" cy="1077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13720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611280" y="5994360"/>
          <a:ext cx="611964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599436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b84700"/>
                </a:solidFill>
                <a:latin typeface="Arial"/>
              </a:rPr>
              <a:t>Новая, или арабская нумерация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380360" y="3780000"/>
            <a:ext cx="2624040" cy="367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?id=5297492&amp;tov=4"/>
          <p:cNvPicPr/>
          <p:nvPr/>
        </p:nvPicPr>
        <p:blipFill>
          <a:blip r:embed="rId2"/>
          <a:stretch/>
        </p:blipFill>
        <p:spPr>
          <a:xfrm>
            <a:off x="863640" y="1476360"/>
            <a:ext cx="3166920" cy="424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4824360" y="1547640"/>
            <a:ext cx="496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319640" y="2627280"/>
            <a:ext cx="496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, 2, 3, 4, 5, 6, 7, 8, 9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41240" y="11736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8920" indent="-35892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 u="sng">
                <a:solidFill>
                  <a:srgbClr val="eb613d"/>
                </a:solidFill>
                <a:uFillTx/>
                <a:latin typeface="Arial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60360" y="1979640"/>
            <a:ext cx="4751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66"/>
                </a:solidFill>
                <a:latin typeface="Times New Roman"/>
              </a:rPr>
              <a:t>Адди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66"/>
                </a:solidFill>
                <a:latin typeface="Times New Roman"/>
              </a:rPr>
              <a:t>(непозиционная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c2300"/>
                </a:solidFill>
                <a:latin typeface="Times New Roman"/>
              </a:rPr>
              <a:t>Каждая цифра имеет своё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c2300"/>
                </a:solidFill>
                <a:latin typeface="Times New Roman"/>
              </a:rPr>
              <a:t>Нужно знать все цифры-символы с их значениями (бывает до 5 десятков) и порядок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c2300"/>
                </a:solidFill>
                <a:latin typeface="Times New Roman"/>
              </a:rPr>
              <a:t>Для того чтобы прочесть число нужно сложить значения всех циф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040360" y="1979640"/>
            <a:ext cx="486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cc66"/>
                </a:solidFill>
                <a:latin typeface="Times New Roman"/>
              </a:rPr>
              <a:t>Мультипликативная (позиционная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deb3d"/>
                </a:solidFill>
                <a:latin typeface="Times New Roman"/>
              </a:rPr>
              <a:t>Каждая цифра может иметь разное значение в зависимости от местоположения в чи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deb3d"/>
                </a:solidFill>
                <a:latin typeface="Times New Roman"/>
              </a:rPr>
              <a:t>Нужно знать изображение цифр и основание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deb3d"/>
                </a:solidFill>
                <a:latin typeface="Times New Roman"/>
              </a:rPr>
              <a:t>Чтобы «собрать» число используется 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979640" y="1079640"/>
            <a:ext cx="181080" cy="900000"/>
          </a:xfrm>
          <a:prstGeom prst="downArrow">
            <a:avLst>
              <a:gd name="adj1" fmla="val 100000"/>
              <a:gd name="adj2" fmla="val 73057"/>
            </a:avLst>
          </a:prstGeom>
          <a:solidFill>
            <a:srgbClr val="ff9966"/>
          </a:solidFill>
          <a:ln w="36000">
            <a:solidFill>
              <a:srgbClr val="eb61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7920000" y="1079640"/>
            <a:ext cx="181080" cy="900000"/>
          </a:xfrm>
          <a:prstGeom prst="downArrow">
            <a:avLst>
              <a:gd name="adj1" fmla="val 100000"/>
              <a:gd name="adj2" fmla="val 73057"/>
            </a:avLst>
          </a:prstGeom>
          <a:solidFill>
            <a:srgbClr val="ff9966"/>
          </a:solidFill>
          <a:ln w="36000">
            <a:solidFill>
              <a:srgbClr val="eb61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Картинка 2 из 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1908000"/>
            <a:ext cx="3236760" cy="4314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1008000" y="539640"/>
            <a:ext cx="820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ьер  Симон  Лапл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103640" y="1979640"/>
            <a:ext cx="568980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imes New Roman"/>
              </a:rPr>
              <a:t>«Мысль выражать все числа девятью знаками, придавая им, кроме значения по форме, еще значения по месту, настолько проста, что именно из-за этой простоты трудно понять, насколько она удивитель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"/>
          <p:cNvGraphicFramePr/>
          <p:nvPr/>
        </p:nvGraphicFramePr>
        <p:xfrm>
          <a:off x="974880" y="480960"/>
          <a:ext cx="8383320" cy="217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480960"/>
                    <a:ext cx="83833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771480" y="3060720"/>
            <a:ext cx="2468520" cy="377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4"/>
          <a:stretch/>
        </p:blipFill>
        <p:spPr>
          <a:xfrm>
            <a:off x="7020000" y="3060720"/>
            <a:ext cx="2700360" cy="3779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 flipV="1">
            <a:off x="3468600" y="4637160"/>
            <a:ext cx="3443400" cy="285840"/>
          </a:xfrm>
          <a:prstGeom prst="pie">
            <a:avLst/>
          </a:prstGeom>
          <a:solidFill>
            <a:srgbClr val="99cc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1079640" y="1979640"/>
            <a:ext cx="4140000" cy="4809960"/>
          </a:xfrm>
          <a:prstGeom prst="rect">
            <a:avLst/>
          </a:prstGeom>
          <a:ln w="0">
            <a:noFill/>
          </a:ln>
        </p:spPr>
      </p:pic>
      <p:sp>
        <p:nvSpPr>
          <p:cNvPr id="43" name="Oval 2"/>
          <p:cNvSpPr/>
          <p:nvPr/>
        </p:nvSpPr>
        <p:spPr>
          <a:xfrm>
            <a:off x="5400720" y="1440000"/>
            <a:ext cx="4140000" cy="19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4006b"/>
                </a:solidFill>
                <a:latin typeface="Arial"/>
              </a:rPr>
              <a:t>«Числа – это боги»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340000" y="360360"/>
            <a:ext cx="6661080" cy="720720"/>
          </a:xfrm>
          <a:prstGeom prst="roundRect">
            <a:avLst>
              <a:gd name="adj" fmla="val 218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944794"/>
                </a:solidFill>
                <a:latin typeface="Arial"/>
              </a:rPr>
              <a:t>400 лет до нашей э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6633"/>
                </a:solidFill>
                <a:latin typeface="Arial"/>
              </a:rPr>
              <a:t>ЦЕЛЬ:</a:t>
            </a:r>
            <a:r>
              <a:rPr b="1" lang="en-GB" sz="40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6633"/>
                </a:solidFill>
                <a:latin typeface="Arial"/>
              </a:rPr>
              <a:t>расширить представление о системах счисления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22040"/>
            <a:ext cx="8772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Times New Roman"/>
              </a:rPr>
              <a:t>Познакомить с историей возникновения числа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Times New Roman"/>
              </a:rPr>
              <a:t>Дать представление о различных системах счисления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Times New Roman"/>
              </a:rPr>
              <a:t>Сравнить аддитивные и мультипликативные системы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Times New Roman"/>
              </a:rPr>
              <a:t>Познакомить с историей славянских систем счисления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 u="sng">
                <a:solidFill>
                  <a:srgbClr val="dc2300"/>
                </a:solidFill>
                <a:uFillTx/>
                <a:latin typeface="Times New Roman"/>
              </a:rPr>
              <a:t>САМАЯ ПРОСТАЯ СИСТЕМА СЧИСЛЕНИЯ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36560" y="2519280"/>
            <a:ext cx="3224160" cy="46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3"/>
          <p:cNvGraphicFramePr/>
          <p:nvPr/>
        </p:nvGraphicFramePr>
        <p:xfrm>
          <a:off x="3060720" y="2519280"/>
          <a:ext cx="5940360" cy="450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60720" y="2519280"/>
                    <a:ext cx="594036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2400" y="77760"/>
            <a:ext cx="8609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 u="sng">
                <a:solidFill>
                  <a:srgbClr val="b84700"/>
                </a:solidFill>
                <a:uFillTx/>
                <a:latin typeface="Arial"/>
              </a:rPr>
              <a:t>Аддитивные системы счисления</a:t>
            </a:r>
            <a:endParaRPr b="1" i="1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2700360" y="1387440"/>
          <a:ext cx="5040360" cy="18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387440"/>
                    <a:ext cx="50403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1079640" y="2695680"/>
          <a:ext cx="8134200" cy="28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2695680"/>
                    <a:ext cx="813420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2036880" y="5442120"/>
          <a:ext cx="6622920" cy="107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6880" y="5442120"/>
                    <a:ext cx="66229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 u="sng">
                <a:solidFill>
                  <a:srgbClr val="b84700"/>
                </a:solidFill>
                <a:uFillTx/>
                <a:latin typeface="Arial"/>
              </a:rPr>
              <a:t>Египетская нумерация</a:t>
            </a:r>
            <a:endParaRPr b="1" i="1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700360" y="4319640"/>
            <a:ext cx="73803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1684440"/>
            <a:ext cx="666108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89000" y="899640"/>
            <a:ext cx="791208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b84700"/>
                </a:solidFill>
                <a:latin typeface="Times New Roman"/>
              </a:rPr>
              <a:t>5 тысяч лет тому назад</a:t>
            </a:r>
            <a:endParaRPr b="0" lang="en-US" sz="5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"/>
          <p:cNvGraphicFramePr/>
          <p:nvPr/>
        </p:nvGraphicFramePr>
        <p:xfrm>
          <a:off x="360360" y="361800"/>
          <a:ext cx="9132840" cy="719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61800"/>
                    <a:ext cx="9132840" cy="719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"/>
          <p:cNvGraphicFramePr/>
          <p:nvPr/>
        </p:nvGraphicFramePr>
        <p:xfrm>
          <a:off x="766800" y="777960"/>
          <a:ext cx="818676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77960"/>
                    <a:ext cx="818676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b84700"/>
                </a:solidFill>
                <a:latin typeface="Arial"/>
              </a:rPr>
              <a:t>Нумерация индейцев Майя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3780000"/>
            <a:ext cx="3421080" cy="37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3"/>
          <p:cNvGraphicFramePr/>
          <p:nvPr/>
        </p:nvGraphicFramePr>
        <p:xfrm>
          <a:off x="1111320" y="851040"/>
          <a:ext cx="5234040" cy="3338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851040"/>
                    <a:ext cx="523404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396720" y="3851280"/>
          <a:ext cx="6426360" cy="345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" y="3851280"/>
                    <a:ext cx="64263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2-05T10:34:16Z</dcterms:modified>
  <cp:revision>10</cp:revision>
  <dc:subject/>
  <dc:title>Системы счисления</dc:title>
</cp:coreProperties>
</file>