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31F74-84D3-4D15-B845-956303A51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BEF6B-4F90-4E03-B5A7-6CA673F99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19E3136-BC05-47BD-8960-C004918A64D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C796F67-695C-43AA-8CC5-9ED550BAFDB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12AFA91-C113-4CA5-8927-1EAB8AB25D9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8D7F8E5-F9CD-41EF-A6BC-8B038BAD13D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4AD03A3-1680-4977-8A00-BF1B3493D4B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C201AE8-5EE6-4B2D-8872-621A650461F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897BF76-4EA8-4B8E-96F8-9967ABDA42A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4A3F0FC-397E-4E02-82E8-08F9A50D11A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25B1D3C-5AEB-44A8-869C-6FB95E2530F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14BDCBC-F4C9-4029-B2D7-68AD38DBDE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BA2D5-66A2-46B1-896D-AE733CB7E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B5FCA71-8C92-4B65-A16D-3DB347DD42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3D3043A-0205-482E-8BBE-6A32EE1BEB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C7AB3F1-FA50-4823-83B9-C3B91AC308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FDEB8FC-894F-4856-A9F6-E1F05A61ED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624038F-F488-462C-A872-121C21946B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42F783B-B851-4ACB-ADE4-529FE80E70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F59ABFD-531E-425F-B294-DC4FF44D8D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E906F3B-E36D-4E95-AD2D-894517DDB5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9897B62-238C-4EA0-9D57-65CD7F7FF6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0A53846-0789-4668-80FF-33A44A7BDF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8DB2C-96BF-4FF9-81DF-1858AF138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26DA4B5-9B60-484D-A425-5E62A277EB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9E5698-AD7B-4372-B32E-A7E4F5CCF36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38F8FF-0B4E-4B65-8729-282776A0B8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4EAAFB-124E-48E8-8ECE-19644AD93F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158D87-F51E-4DAB-8A2D-F175E2D94F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E94E39-38DD-4B7A-8CB3-599B458304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8AAA7A-283D-4954-8B67-82C33F4A34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C574B7-D2A8-447F-B7BB-3B7D520612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8ACA2E-7F6C-4295-B1AB-FC45A6CFE0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31E4F9-7D2D-4640-8AE3-D468EFDA7C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1C605-16B3-442F-AAE3-29CBB2993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15F7C1-3856-42FC-81F8-44B4AE683B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AB2824-590C-44F2-8F67-C0FD8B803A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9CEF94-E093-498E-BDB4-0D4EF973120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E60331C-A168-4341-99D7-7D22649218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9223D55-CCD3-4089-A680-E753BF9165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AC4EA8D-1AFA-49A7-8C25-3937B7DD59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A0A53AC-8A61-4FF2-BD75-BFAF502D76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B7F8CEA-A02F-405F-A6D3-FD96AA7600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6ADCD24-2FD2-46EE-B94A-9C2501C4E0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4CBBBB7-4AEE-4B29-8F76-745F815B03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7BEB0-7483-47E8-9939-7B0CC22DA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9B71087-301C-4B0F-8973-77E236D0E6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B582784-B3EA-49E6-811F-46F25E4D3F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B6D0953-FC96-440A-9E1F-4E5C29D7EB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092374A-75A0-4DA3-8F11-97AB8A9CDC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86D5EB3-5350-4C64-96D8-1EF08460E0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A8B44-931C-4CF5-9C25-F531255BB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33E8D-6858-42F7-97CA-0918D8CAD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56E63-45CB-4EB4-81E5-500720F9D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08996-E504-402E-9B51-7DFE657B6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BBAD0-C677-4B80-8534-131EAC9F2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1B7E7-E074-4E59-8BCA-4E8419B25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F937E-FD8D-405B-9F7A-E1B9907A5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8409F-A27D-4E18-BDD7-38DD8DF09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03B1C-5E2D-4256-8DFF-D7FEFD1E3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E0A8C1-B17A-4E0C-916B-1FFBAE52D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7E809F-D5ED-47C3-AE7C-8F5A0CBFC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FB1ECA-5E4E-4BD6-8666-949B2A77E5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11EA28-46F8-48DE-B9F7-47C87CB94B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0E39F8-FBE1-4662-A610-8CAE734FB3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5D0020-1049-4996-AF9E-14D9AD5A17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2B2962-3E53-44CC-8D34-67B796C306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7B358-F9DB-488A-956F-E54E9978F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34DDAF-2E33-4B66-83FB-835A03ED72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320D80-4080-483A-A95B-13F7A11A67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F8F2F3-E821-4D3E-B47C-DADB5DA82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4BDFB-08F4-4D58-A6E3-44D1BA7C2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60C5B1-13D3-4984-90A3-B318EF2F0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597F72-4307-4FC5-93A2-087D352ABD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79AE79-B619-421D-ABAE-995BF0A8FE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C737D46-D103-46F7-A8AF-A0FD03B955E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467879A-F16D-42EC-B48E-57B7A8B3A85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AEF7672-C73C-4402-A987-EDC0A445E3D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C516E-D952-41C3-9E44-587206707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6FDDEC6-BD1B-4326-A619-E3A7B73E1CC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205059C-08EC-4642-936D-328CE50EDFF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74C3984-9F17-41C8-B600-1C8C3520C6A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CD5AE07-9417-4A9A-871D-8534352483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3702BFE-DE44-42F3-AC84-DCEA98E31A1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422543D-6336-476F-B50C-7FBFAE4FF0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38631E6-1832-480B-947F-39395A2840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A263B8D-A8E6-4DAF-B919-10192456C76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ACAB87A-F896-480F-A6F9-55B2DB7127A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8700EE-4497-45CB-8A51-FF10B1DB20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B7CB1-A8E6-452D-9B2B-CD5821C08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BE7929-3D66-4C6C-95B0-3C021AA80C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3D3F7C-F8D2-4D41-9337-CE5C80EE14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D831EA-019A-4C5F-98AB-2CAA69063B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FA17BA-85BE-4CB1-8FC8-AE9FBA1F14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A039E3-B2FE-4317-88F5-AD19947352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741A7-7D81-4B25-B353-27AF27DD86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6CB02E-3B83-4605-B11E-70DC1C089A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481745-DBC2-4B5E-999F-019A235DD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15C51C-04DC-43D3-A945-5B28123BCC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715D6A-1AD5-4BCE-8393-4BA311D705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4940A-5CB3-40A3-BCF0-5C3BF1C1D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315BE6-5464-4343-A154-793461F97B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7BB07E-B557-4E84-BE83-C1D588D524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36A9B9-DFEF-4F6C-BF04-C565A87FF2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FD4952-E342-44C5-BA28-3322B43100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0FEA2B-B267-4D58-BFA5-6A89B2CB69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07DB47-97F0-4B66-9DD8-00E2520BFB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B1D6A9-7F70-477E-8B7C-E5F585992F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6F2C9E-61FD-4950-A382-EA6ECC45A5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2578AF-4DBF-42A5-9D18-A5DCBE6F32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16F04-591C-4660-92A8-5B56CA2D0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4D19E-ADA9-4493-8254-EC943E2EE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E4F008-1490-4412-92DC-1A34F7780A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D2A0A6-2F5A-4662-984F-BA2D9DCB25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0756E7-7DEF-4852-A7EF-8DA5024C04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BB88E2-A5AD-4F15-95FE-23F6F347A1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F2605F-8CEE-45F9-A4BD-6E3BA9B213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0FA825-44F6-424D-8EE5-D52F7B8A89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6E3FD4-3C18-4710-980C-E9B0EAB8F7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C1009C-C7E4-42A3-AADF-B616A4D746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4220BF-02D2-4050-A0C2-23A28AD244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8AB9EB-05C0-4687-8B51-F8B7A2D468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B7526-BCE3-43F6-84A3-70D784948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E4B23F-807D-4F8F-84C7-96E02E41E6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A483C5-D557-4C94-8C50-B73735CD02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3437F9-BB31-45D9-AE2D-7AB489F31F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E6FD7C-6B8E-41D9-A615-D17F9563C8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350E66-C7D7-46A5-B2B7-7C46B19E9C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3BC641-8965-4943-865A-500148A204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F27DD3-153D-4D17-8F65-6A0FF554EE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CD0EA0-079B-4C55-B58E-4688DC7EE5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474584-8841-4443-B539-057D2A890B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F4CFFA-745D-4E84-B604-9831B719B9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97611-5BD4-446A-BB78-EF939729A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AA12BB-6864-4396-98C8-C14F0026F1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6C8D02-F1EC-4085-A342-25C45D381C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996463-7189-466C-A46A-E15AB76B88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DDD1B9-06BD-4D06-95ED-EE2227499D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FFE679-766C-4FD0-8DFB-49D718C926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6E1848-57BC-4E06-9D24-64696C51F8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303F2B-FF61-465A-89C0-7760292AC5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6E7AD7F-7434-4E00-97D6-C7632A664E6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8D88C1F-8206-4F29-868D-7F6DCEA9D19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986AA8A-F155-4B91-B424-DCE0F59619B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26E7-9A7E-4EA4-92DB-3C08395B5B3E}"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FB5E-E61F-40F4-82DC-F069F8347F5F}"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6B1A-92CC-4BBA-AE8F-C62C30D6E073}"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C1D2-36AD-4F92-9A84-AAF0B0BDA50A}"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AD2D-ECE6-4086-9508-9463D97B133B}"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345E-0CD5-4873-974B-D8142A0DD773}"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087D-5727-4AB6-B649-9FE0A96D2B1E}"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7C80-9094-4545-9CDF-E283A309C281}"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99A3-AA33-44DA-91B3-50CFA3B28F8E}"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1A8B2-B565-44CB-93BD-4135C1291E48}"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9A95-3E34-49AB-9B2D-56814B78489A}"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2A6E-6A43-43B0-9691-1A8829A747C1}"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Рисунок 3" descr="1271950586_image00026.jpg"/>
          <p:cNvPicPr/>
          <p:nvPr/>
        </p:nvPicPr>
        <p:blipFill>
          <a:blip r:embed="rId1"/>
          <a:stretch/>
        </p:blipFill>
        <p:spPr>
          <a:xfrm>
            <a:off x="3000240" y="1571760"/>
            <a:ext cx="3803760" cy="5072040"/>
          </a:xfrm>
          <a:prstGeom prst="rect">
            <a:avLst/>
          </a:prstGeom>
          <a:ln w="0">
            <a:noFill/>
          </a:ln>
        </p:spPr>
      </p:pic>
      <p:sp>
        <p:nvSpPr>
          <p:cNvPr id="607" name="PlaceHolder 1"/>
          <p:cNvSpPr>
            <a:spLocks noGrp="1"/>
          </p:cNvSpPr>
          <p:nvPr>
            <p:ph type="subTitle"/>
          </p:nvPr>
        </p:nvSpPr>
        <p:spPr>
          <a:xfrm>
            <a:off x="1371600" y="4857840"/>
            <a:ext cx="6400800" cy="1285920"/>
          </a:xfrm>
          <a:prstGeom prst="rect">
            <a:avLst/>
          </a:prstGeom>
          <a:noFill/>
          <a:ln w="0">
            <a:noFill/>
          </a:ln>
        </p:spPr>
        <p:txBody>
          <a:bodyPr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Georgia"/>
              </a:rPr>
              <a:t>ГОДЫ ЖИЗНИ</a:t>
            </a:r>
            <a:endParaRPr b="0" lang="en-US" sz="3400" spc="-1" strike="noStrike">
              <a:solidFill>
                <a:srgbClr val="000000"/>
              </a:solidFill>
              <a:latin typeface="Georgia"/>
            </a:endParaRPr>
          </a:p>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Georgia"/>
              </a:rPr>
              <a:t>(15.02.1901-26.01.1966)</a:t>
            </a:r>
            <a:endParaRPr b="0" lang="en-US" sz="3400" spc="-1" strike="noStrike">
              <a:solidFill>
                <a:srgbClr val="000000"/>
              </a:solidFill>
              <a:latin typeface="Georgia"/>
            </a:endParaRPr>
          </a:p>
        </p:txBody>
      </p:sp>
      <p:sp>
        <p:nvSpPr>
          <p:cNvPr id="608" name="PlaceHolder 2"/>
          <p:cNvSpPr>
            <a:spLocks noGrp="1"/>
          </p:cNvSpPr>
          <p:nvPr>
            <p:ph type="title"/>
          </p:nvPr>
        </p:nvSpPr>
        <p:spPr>
          <a:xfrm>
            <a:off x="685800" y="142560"/>
            <a:ext cx="7772400" cy="1428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Georgia"/>
              </a:rPr>
              <a:t>Театральные роли Н.Д.Мордвинова</a:t>
            </a:r>
            <a:endParaRPr b="0" lang="en-US" sz="4800" spc="-1" strike="noStrike">
              <a:solidFill>
                <a:srgbClr val="7b9899"/>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Рисунок 3" descr="1242298569_icon.jpg"/>
          <p:cNvPicPr/>
          <p:nvPr/>
        </p:nvPicPr>
        <p:blipFill>
          <a:blip r:embed="rId1"/>
          <a:stretch/>
        </p:blipFill>
        <p:spPr>
          <a:xfrm>
            <a:off x="0" y="0"/>
            <a:ext cx="9144000" cy="7500960"/>
          </a:xfrm>
          <a:prstGeom prst="rect">
            <a:avLst/>
          </a:prstGeom>
          <a:ln w="0">
            <a:noFill/>
          </a:ln>
        </p:spPr>
      </p:pic>
      <p:sp>
        <p:nvSpPr>
          <p:cNvPr id="634" name="PlaceHolder 1"/>
          <p:cNvSpPr>
            <a:spLocks noGrp="1"/>
          </p:cNvSpPr>
          <p:nvPr>
            <p:ph type="title"/>
          </p:nvPr>
        </p:nvSpPr>
        <p:spPr>
          <a:xfrm>
            <a:off x="301320" y="649440"/>
            <a:ext cx="8534520" cy="163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0000"/>
                </a:solidFill>
                <a:latin typeface="Georgia"/>
              </a:rPr>
              <a:t>Спасибо за внимание!!!</a:t>
            </a:r>
            <a:endParaRPr b="0" lang="en-US" sz="5400" spc="-1" strike="noStrike">
              <a:solidFill>
                <a:srgbClr val="7b9899"/>
              </a:solidFill>
              <a:latin typeface="Georgia"/>
            </a:endParaRPr>
          </a:p>
        </p:txBody>
      </p:sp>
      <p:sp>
        <p:nvSpPr>
          <p:cNvPr id="635" name=""/>
          <p:cNvSpPr txBox="1"/>
          <p:nvPr/>
        </p:nvSpPr>
        <p:spPr>
          <a:xfrm>
            <a:off x="457200" y="5214960"/>
            <a:ext cx="8229600" cy="164304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Georgia"/>
              </a:rPr>
              <a:t>Работу выполнила ученица </a:t>
            </a:r>
            <a:r>
              <a:rPr b="1" lang="en-US" sz="2000" spc="-1" strike="noStrike">
                <a:solidFill>
                  <a:srgbClr val="f2f2f2"/>
                </a:solidFill>
                <a:latin typeface="Georgia"/>
              </a:rPr>
              <a:t>10</a:t>
            </a:r>
            <a:r>
              <a:rPr b="1" lang="ru-RU" sz="2000" spc="-1" strike="noStrike">
                <a:solidFill>
                  <a:srgbClr val="f2f2f2"/>
                </a:solidFill>
                <a:latin typeface="Georgia"/>
              </a:rPr>
              <a:t> класса МОУ «Селоядринская СОШ» Скворцова Галина.</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Georgia"/>
              </a:rPr>
              <a:t>Руководитель работы: учитель чувашского языка и литературы Токарева Марина Васильевна.</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c00000"/>
                </a:solidFill>
                <a:latin typeface="Georgia"/>
              </a:rPr>
              <a:t>Театральные роли Н.Д.Мордвинова</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Georgia"/>
              </a:rPr>
              <a:t>Актерские судьбы разнообразны. Случается, что опытный театральный актер по тем или иным причинам так и не получает признания в кино. Но бывает и наоборот: великолепный киноартист влачит довольно жалкое существование в театре. И, наконец, уже совсем не редкость, когда актер в театре играет роли одного плана, а в кино другого, причем сценические создания вписываются в историю театра, а экранные - забываются вместе с картинами. С Н. Д. Мордвиновым этого не произошло. Его кинематографические роли естественно вырастали из сценических, а те в свою очередь обогащались за счет кино.</a:t>
            </a:r>
            <a:endParaRPr b="0" lang="en-US" sz="2300" spc="-1" strike="noStrike">
              <a:solidFill>
                <a:srgbClr val="0000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646b86"/>
                </a:solidFill>
                <a:latin typeface="Georgia"/>
              </a:rPr>
              <a:t>Роль Арбенина в пьесе «Маскарад»</a:t>
            </a:r>
            <a:endParaRPr b="0" lang="en-US" sz="3300" spc="-1" strike="noStrike">
              <a:solidFill>
                <a:srgbClr val="7b9899"/>
              </a:solidFill>
              <a:latin typeface="Georgia"/>
            </a:endParaRPr>
          </a:p>
        </p:txBody>
      </p:sp>
      <p:pic>
        <p:nvPicPr>
          <p:cNvPr id="612" name="Picture 2" descr=""/>
          <p:cNvPicPr/>
          <p:nvPr/>
        </p:nvPicPr>
        <p:blipFill>
          <a:blip r:embed="rId1"/>
          <a:stretch/>
        </p:blipFill>
        <p:spPr>
          <a:xfrm>
            <a:off x="142920" y="1285920"/>
            <a:ext cx="1886040" cy="3398760"/>
          </a:xfrm>
          <a:prstGeom prst="rect">
            <a:avLst/>
          </a:prstGeom>
          <a:ln w="0">
            <a:noFill/>
          </a:ln>
        </p:spPr>
      </p:pic>
      <p:pic>
        <p:nvPicPr>
          <p:cNvPr id="613" name="Picture 3" descr=""/>
          <p:cNvPicPr/>
          <p:nvPr/>
        </p:nvPicPr>
        <p:blipFill>
          <a:blip r:embed="rId2"/>
          <a:stretch/>
        </p:blipFill>
        <p:spPr>
          <a:xfrm>
            <a:off x="4000680" y="1214280"/>
            <a:ext cx="2287440" cy="3000600"/>
          </a:xfrm>
          <a:prstGeom prst="rect">
            <a:avLst/>
          </a:prstGeom>
          <a:ln w="0">
            <a:noFill/>
          </a:ln>
        </p:spPr>
      </p:pic>
      <p:pic>
        <p:nvPicPr>
          <p:cNvPr id="614" name="Рисунок 5" descr="mordvinov27.jpg"/>
          <p:cNvPicPr/>
          <p:nvPr/>
        </p:nvPicPr>
        <p:blipFill>
          <a:blip r:embed="rId3"/>
          <a:stretch/>
        </p:blipFill>
        <p:spPr>
          <a:xfrm>
            <a:off x="6357960" y="2786040"/>
            <a:ext cx="2395440" cy="3357720"/>
          </a:xfrm>
          <a:prstGeom prst="rect">
            <a:avLst/>
          </a:prstGeom>
          <a:ln w="0">
            <a:noFill/>
          </a:ln>
        </p:spPr>
      </p:pic>
      <p:pic>
        <p:nvPicPr>
          <p:cNvPr id="615" name="Picture 4" descr=""/>
          <p:cNvPicPr/>
          <p:nvPr/>
        </p:nvPicPr>
        <p:blipFill>
          <a:blip r:embed="rId4"/>
          <a:stretch/>
        </p:blipFill>
        <p:spPr>
          <a:xfrm>
            <a:off x="1857240" y="3143160"/>
            <a:ext cx="2059200" cy="2903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2060"/>
                </a:solidFill>
                <a:latin typeface="Georgia"/>
              </a:rPr>
              <a:t>«Волки и овцы»</a:t>
            </a:r>
            <a:endParaRPr b="0" lang="en-US" sz="3300" spc="-1" strike="noStrike">
              <a:solidFill>
                <a:srgbClr val="7b9899"/>
              </a:solidFill>
              <a:latin typeface="Georgia"/>
            </a:endParaRPr>
          </a:p>
        </p:txBody>
      </p:sp>
      <p:pic>
        <p:nvPicPr>
          <p:cNvPr id="617" name="Содержимое 3" descr="Mordvinov10.jpg"/>
          <p:cNvPicPr/>
          <p:nvPr/>
        </p:nvPicPr>
        <p:blipFill>
          <a:blip r:embed="rId1"/>
          <a:stretch/>
        </p:blipFill>
        <p:spPr>
          <a:xfrm>
            <a:off x="1857240" y="1785960"/>
            <a:ext cx="4500720" cy="4687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a96d2b"/>
                </a:solidFill>
                <a:latin typeface="Georgia"/>
              </a:rPr>
              <a:t>Награды Мордвинова Н.Д.</a:t>
            </a:r>
            <a:endParaRPr b="0" lang="en-US" sz="3300" spc="-1" strike="noStrike">
              <a:solidFill>
                <a:srgbClr val="7b9899"/>
              </a:solidFill>
              <a:latin typeface="Georgia"/>
            </a:endParaRPr>
          </a:p>
        </p:txBody>
      </p:sp>
      <p:sp>
        <p:nvSpPr>
          <p:cNvPr id="619" name=""/>
          <p:cNvSpPr txBox="1"/>
          <p:nvPr/>
        </p:nvSpPr>
        <p:spPr>
          <a:xfrm>
            <a:off x="457200" y="1214280"/>
            <a:ext cx="4829040" cy="4911840"/>
          </a:xfrm>
          <a:prstGeom prst="rect">
            <a:avLst/>
          </a:prstGeom>
          <a:noFill/>
          <a:ln w="0">
            <a:noFill/>
          </a:ln>
        </p:spPr>
        <p:txBody>
          <a:bodyPr anchor="t">
            <a:normAutofit fontScale="97000"/>
          </a:bodyPr>
          <a:p>
            <a:pPr marL="264600" indent="-2646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  </a:t>
            </a:r>
            <a:r>
              <a:rPr b="0" lang="ru-RU" sz="2100" spc="-1" strike="noStrike">
                <a:solidFill>
                  <a:srgbClr val="000000"/>
                </a:solidFill>
                <a:latin typeface="Georgia"/>
              </a:rPr>
              <a:t>В 1949 году Николаю Дмитриевичу Мордвинову было присвоено звание народного артиста СССР. За большие заслуги в театральном искусстве и киноискусстве народному артисту СССР Н.Д. Мордвинову трижды было присвоено звание лауреата Государственной премии СССР (1942, 1949,1951 г.г.). Четверть века работал Н.Д.Мордвинов над образом Арбенина по драме Лермонтова "Маскарад". Более 300 раз сыграл артист свою любимую роль. В 1965 году этот спектакль был показан в Париже и высоко оценен публикой.</a:t>
            </a:r>
            <a:endParaRPr b="0" lang="en-US" sz="2100" spc="-1" strike="noStrike">
              <a:solidFill>
                <a:srgbClr val="000000"/>
              </a:solidFill>
              <a:latin typeface="Georgia"/>
            </a:endParaRPr>
          </a:p>
        </p:txBody>
      </p:sp>
      <p:pic>
        <p:nvPicPr>
          <p:cNvPr id="620" name="Picture 2" descr=""/>
          <p:cNvPicPr/>
          <p:nvPr/>
        </p:nvPicPr>
        <p:blipFill>
          <a:blip r:embed="rId1"/>
          <a:stretch/>
        </p:blipFill>
        <p:spPr>
          <a:xfrm>
            <a:off x="5286240" y="2500200"/>
            <a:ext cx="3403800" cy="2535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7b9899"/>
                </a:solidFill>
                <a:latin typeface="Georgia"/>
              </a:rPr>
              <a:t>Роли Мордвинова Н.Д.</a:t>
            </a:r>
            <a:endParaRPr b="0" lang="en-US" sz="3300" spc="-1" strike="noStrike">
              <a:solidFill>
                <a:srgbClr val="7b9899"/>
              </a:solidFill>
              <a:latin typeface="Georgia"/>
            </a:endParaRPr>
          </a:p>
        </p:txBody>
      </p:sp>
      <p:sp>
        <p:nvSpPr>
          <p:cNvPr id="622" name=""/>
          <p:cNvSpPr txBox="1"/>
          <p:nvPr/>
        </p:nvSpPr>
        <p:spPr>
          <a:xfrm>
            <a:off x="456840" y="1600200"/>
            <a:ext cx="3543480" cy="4525920"/>
          </a:xfrm>
          <a:prstGeom prst="rect">
            <a:avLst/>
          </a:prstGeom>
          <a:noFill/>
          <a:ln w="0">
            <a:noFill/>
          </a:ln>
        </p:spPr>
        <p:txBody>
          <a:bodyPr anchor="t">
            <a:normAutofit/>
          </a:bodyPr>
          <a:p>
            <a:pPr marL="272880" indent="-2728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Georgia"/>
              </a:rPr>
              <a:t>В свое время были знамениты его Ваграм ("Ваграмова ночь" Л. Первомайского), Тигран ("Тигран" Ф. Готьяна), Огнев ("Фронт" А. Корнейчука), Отелло, Петруччио, король Лир, Арбенин в "Маскараде". </a:t>
            </a:r>
            <a:endParaRPr b="0" lang="en-US" sz="2300" spc="-1" strike="noStrike">
              <a:solidFill>
                <a:srgbClr val="000000"/>
              </a:solidFill>
              <a:latin typeface="Georgia"/>
            </a:endParaRPr>
          </a:p>
        </p:txBody>
      </p:sp>
      <p:pic>
        <p:nvPicPr>
          <p:cNvPr id="623" name="Рисунок 12" descr="Николай Мордвинов и Николай Крючков в фильме &quot;Котовский&quot;"/>
          <p:cNvPicPr/>
          <p:nvPr/>
        </p:nvPicPr>
        <p:blipFill>
          <a:blip r:embed="rId1"/>
          <a:stretch/>
        </p:blipFill>
        <p:spPr>
          <a:xfrm>
            <a:off x="3784680" y="1035000"/>
            <a:ext cx="3573360" cy="2679840"/>
          </a:xfrm>
          <a:prstGeom prst="rect">
            <a:avLst/>
          </a:prstGeom>
          <a:ln w="0">
            <a:noFill/>
          </a:ln>
        </p:spPr>
      </p:pic>
      <p:pic>
        <p:nvPicPr>
          <p:cNvPr id="624" name="Рисунок 4" descr="Николай Мордвинов"/>
          <p:cNvPicPr/>
          <p:nvPr/>
        </p:nvPicPr>
        <p:blipFill>
          <a:blip r:embed="rId2"/>
          <a:stretch/>
        </p:blipFill>
        <p:spPr>
          <a:xfrm>
            <a:off x="5643720" y="4000680"/>
            <a:ext cx="3143160" cy="263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900" spc="-1" strike="noStrike">
                <a:solidFill>
                  <a:srgbClr val="435e40"/>
                </a:solidFill>
                <a:latin typeface="Georgia"/>
              </a:rPr>
              <a:t>На родине актера</a:t>
            </a:r>
            <a:endParaRPr b="0" lang="en-US" sz="4900" spc="-1" strike="noStrike">
              <a:solidFill>
                <a:srgbClr val="7b9899"/>
              </a:solidFill>
              <a:latin typeface="Georgia"/>
            </a:endParaRPr>
          </a:p>
        </p:txBody>
      </p:sp>
      <p:sp>
        <p:nvSpPr>
          <p:cNvPr id="626" name=""/>
          <p:cNvSpPr txBox="1"/>
          <p:nvPr/>
        </p:nvSpPr>
        <p:spPr>
          <a:xfrm>
            <a:off x="457200" y="1600200"/>
            <a:ext cx="4471920" cy="4525920"/>
          </a:xfrm>
          <a:prstGeom prst="rect">
            <a:avLst/>
          </a:prstGeom>
          <a:noFill/>
          <a:ln w="0">
            <a:noFill/>
          </a:ln>
        </p:spPr>
        <p:txBody>
          <a:bodyPr anchor="t">
            <a:normAutofit/>
          </a:bodyPr>
          <a:p>
            <a:pPr marL="272880" indent="-2728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71481c"/>
                </a:solidFill>
                <a:latin typeface="Georgia"/>
              </a:rPr>
              <a:t>В городе Ядрине имя Н.Д. Мордвинова носит одна из улиц, на здании бывшего реального училища (ныне которое занимает национальная гимназия) мемориальная доска напоминает о том, что здесь учился великий артист. На улице К.Маркса сохранился дом, где родился и вырос Н.Д.Мордвинов. </a:t>
            </a:r>
            <a:endParaRPr b="0" lang="en-US" sz="2300" spc="-1" strike="noStrike">
              <a:solidFill>
                <a:srgbClr val="000000"/>
              </a:solidFill>
              <a:latin typeface="Georgia"/>
            </a:endParaRPr>
          </a:p>
          <a:p>
            <a:pPr marL="272880" indent="-2728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pic>
        <p:nvPicPr>
          <p:cNvPr id="627" name="Рисунок 3" descr="1910.JPG"/>
          <p:cNvPicPr/>
          <p:nvPr/>
        </p:nvPicPr>
        <p:blipFill>
          <a:blip r:embed="rId1"/>
          <a:stretch/>
        </p:blipFill>
        <p:spPr>
          <a:xfrm>
            <a:off x="5214960" y="1571760"/>
            <a:ext cx="3214800" cy="4798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300" spc="-1" strike="noStrike">
                <a:solidFill>
                  <a:srgbClr val="c00000"/>
                </a:solidFill>
                <a:latin typeface="Georgia"/>
              </a:rPr>
              <a:t>Помять о Мордвинове</a:t>
            </a:r>
            <a:endParaRPr b="0" lang="en-US" sz="3300" spc="-1" strike="noStrike">
              <a:solidFill>
                <a:srgbClr val="7b9899"/>
              </a:solidFill>
              <a:latin typeface="Georgia"/>
            </a:endParaRPr>
          </a:p>
        </p:txBody>
      </p:sp>
      <p:sp>
        <p:nvSpPr>
          <p:cNvPr id="629" name=""/>
          <p:cNvSpPr txBox="1"/>
          <p:nvPr/>
        </p:nvSpPr>
        <p:spPr>
          <a:xfrm>
            <a:off x="456840" y="1600200"/>
            <a:ext cx="3900600" cy="452592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Georgia"/>
              </a:rPr>
              <a:t>Николай Дмитриевич умер в Москве 26 января 1966 года от инфаркта. Похоронен на Новодевичьем кладбище. На доме в Москве, где он жил, установлена мемориальная доска. </a:t>
            </a:r>
            <a:endParaRPr b="0" lang="en-US" sz="2500" spc="-1" strike="noStrike">
              <a:solidFill>
                <a:srgbClr val="000000"/>
              </a:solidFill>
              <a:latin typeface="Georgia"/>
            </a:endParaRPr>
          </a:p>
        </p:txBody>
      </p:sp>
      <p:pic>
        <p:nvPicPr>
          <p:cNvPr id="630" name="Рисунок 15" descr="Могила Николая Мордвинова на Новодевичьем кладбище"/>
          <p:cNvPicPr/>
          <p:nvPr/>
        </p:nvPicPr>
        <p:blipFill>
          <a:blip r:embed="rId1"/>
          <a:stretch/>
        </p:blipFill>
        <p:spPr>
          <a:xfrm>
            <a:off x="4286160" y="2357280"/>
            <a:ext cx="4523040" cy="3500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8fb08c"/>
                </a:solidFill>
                <a:latin typeface="Georgia"/>
              </a:rPr>
              <a:t>Преданность театру</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Своей нескорушимой силой и верой, своей стойкостью и рыцарской преданностью искусству он утверждал высокую миссию театра, утверждал жизнь в её неисчерпаемости и красоте, веру в завтрашний день театра. Он умножал силы каждого, кто был рядом с ним, кто объединялся с ним такой же верой в дело, доверием товарищу по театру, а главное - своей мечтой о театре и верой в то, что мечта эта чиста и непреложна. </a:t>
            </a:r>
            <a:endParaRPr b="0" lang="en-US" sz="2700" spc="-1" strike="noStrike">
              <a:solidFill>
                <a:srgbClr val="000000"/>
              </a:solidFill>
              <a:latin typeface="Georg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30T17:48:01Z</dcterms:created>
  <dc:creator>Admin</dc:creator>
  <dc:description/>
  <dc:language>en-US</dc:language>
  <cp:lastModifiedBy>Admin</cp:lastModifiedBy>
  <dcterms:modified xsi:type="dcterms:W3CDTF">2012-02-05T16:56:34Z</dcterms:modified>
  <cp:revision>6</cp:revision>
  <dc:subject/>
  <dc:title>Театральные роли Н.Д.Мордвинова</dc:title>
</cp:coreProperties>
</file>