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D77A-B4C8-40D4-BB7C-AABEFF9D9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DBF-9DA0-45CB-AE0A-AC9672FC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9E2-7CD1-49CF-9C59-37355345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042-E16D-4EB8-A499-97604285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7DA-B123-4B5F-AA83-A21833F4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1653-60BE-4F16-AF43-15746D44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4E1C-9F80-455E-9593-60925CCB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EB74-6E46-45A6-929D-2AD17146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DAE2-6C38-4916-B4C8-050AA293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523-C79D-419D-BDBF-2BB88713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48DF-5BC4-433F-A1AB-93EB0606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64EE-A5EF-4149-AAA4-6DB3F50E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772-B35D-4A1F-BDB6-4D1EE2B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B653-37AB-4614-922F-D9FDF9C1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776C-874C-4C6C-A04F-813F7C8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71C3-66B9-4B32-9186-6C4C0E14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A9CD-D5FB-4FBD-B494-CD9D3F84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333B-E3C9-427F-AA26-1AF2E50B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263-CA39-4D6F-AED7-0E8216E0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8C2-8BF3-4A63-89D5-D1FA66FB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3D9-0682-4939-8F2E-9CA41907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CCE-453B-41B9-92CD-E39BCBDB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B56-8724-440E-AC40-41AB0FA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079-7264-4466-93FE-438460F3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62E-92CA-47AE-9E19-BA74BD92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E30E-641A-48C4-8132-F3EFE3A772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ED03-13F5-40BE-AADE-5268F666D6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9.radikal.ru/i126/1101/4d/dfd9eca6e1a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sunny7.com.ua/sites/default/files/imagecache/article-main-image/images/gemeinsam_zu_abend_essen_1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foto.prag.ru/44/Sichrov(11)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адиции празднования рождества в разных стран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Картинка 17 из 1974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58640"/>
            <a:ext cx="9144000" cy="75913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68360" y="333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Arial"/>
              </a:rPr>
              <a:t>Традиции празднования Рождества в России и разных стран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Arial"/>
              </a:rPr>
              <a:t>(приложение к конспект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5734080"/>
            <a:ext cx="82072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Подготовила воспитатель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I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 квалификационной категор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ГОУ детский сад комбинированного вида № 24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Голубовская Елена Анатолье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Картинка1" descr="Картинка 4 из 754"/>
          <p:cNvPicPr/>
          <p:nvPr/>
        </p:nvPicPr>
        <p:blipFill>
          <a:blip r:embed="rId1"/>
          <a:srcRect l="0" t="11671" r="0" b="0"/>
          <a:stretch/>
        </p:blipFill>
        <p:spPr>
          <a:xfrm>
            <a:off x="169236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45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ех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Картинка1" descr="Картинка 18 из 1111"/>
          <p:cNvPicPr/>
          <p:nvPr/>
        </p:nvPicPr>
        <p:blipFill>
          <a:blip r:embed="rId1"/>
          <a:stretch/>
        </p:blipFill>
        <p:spPr>
          <a:xfrm>
            <a:off x="179280" y="3573360"/>
            <a:ext cx="3146400" cy="3162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3" name="" descr="Картинка 28 из 513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549360"/>
            <a:ext cx="6948360" cy="28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4" name="" descr="Картинка 7 из 4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789360"/>
            <a:ext cx="4321080" cy="2878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88000" y="277920"/>
            <a:ext cx="389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Австр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Картинка1" descr="Картинка 18 из 2400"/>
          <p:cNvPicPr/>
          <p:nvPr/>
        </p:nvPicPr>
        <p:blipFill>
          <a:blip r:embed="rId1"/>
          <a:stretch/>
        </p:blipFill>
        <p:spPr>
          <a:xfrm>
            <a:off x="179280" y="189000"/>
            <a:ext cx="4824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Ш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Картинка1" descr="Картинка 14 из 103121"/>
          <p:cNvPicPr/>
          <p:nvPr/>
        </p:nvPicPr>
        <p:blipFill>
          <a:blip r:embed="rId1"/>
          <a:stretch/>
        </p:blipFill>
        <p:spPr>
          <a:xfrm>
            <a:off x="441360" y="0"/>
            <a:ext cx="8702640" cy="6513480"/>
          </a:xfrm>
          <a:prstGeom prst="rect">
            <a:avLst/>
          </a:prstGeom>
          <a:ln w="0">
            <a:noFill/>
          </a:ln>
        </p:spPr>
      </p:pic>
      <p:pic>
        <p:nvPicPr>
          <p:cNvPr id="239" name="Картинка1" descr="Картинка 13 из 103121"/>
          <p:cNvPicPr/>
          <p:nvPr/>
        </p:nvPicPr>
        <p:blipFill>
          <a:blip r:embed="rId2"/>
          <a:srcRect l="0" t="0" r="0" b="2201"/>
          <a:stretch/>
        </p:blipFill>
        <p:spPr>
          <a:xfrm>
            <a:off x="0" y="3773520"/>
            <a:ext cx="34336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Картинка1" descr="Картинка 10 из 1452"/>
          <p:cNvPicPr/>
          <p:nvPr/>
        </p:nvPicPr>
        <p:blipFill>
          <a:blip r:embed="rId1"/>
          <a:stretch/>
        </p:blipFill>
        <p:spPr>
          <a:xfrm>
            <a:off x="197964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Картинка1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7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Картинка1" descr="ёлку украшали конфетами"/>
          <p:cNvPicPr/>
          <p:nvPr/>
        </p:nvPicPr>
        <p:blipFill>
          <a:blip r:embed="rId1"/>
          <a:srcRect l="0" t="0" r="50395" b="0"/>
          <a:stretch/>
        </p:blipFill>
        <p:spPr>
          <a:xfrm>
            <a:off x="395280" y="115920"/>
            <a:ext cx="4319640" cy="65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3" name="Картинка1" descr="Картинка 1 из 17458"/>
          <p:cNvPicPr/>
          <p:nvPr/>
        </p:nvPicPr>
        <p:blipFill>
          <a:blip r:embed="rId2"/>
          <a:stretch/>
        </p:blipFill>
        <p:spPr>
          <a:xfrm>
            <a:off x="4932360" y="1197000"/>
            <a:ext cx="404964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Картинка1" descr="Картинка 1 из 59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2"/>
          <p:cNvPicPr/>
          <p:nvPr/>
        </p:nvPicPr>
        <p:blipFill>
          <a:blip r:embed="rId1"/>
          <a:stretch/>
        </p:blipFill>
        <p:spPr>
          <a:xfrm>
            <a:off x="179280" y="-7920"/>
            <a:ext cx="89647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Картинка1" descr="Картинка 19 из 1223"/>
          <p:cNvPicPr/>
          <p:nvPr/>
        </p:nvPicPr>
        <p:blipFill>
          <a:blip r:embed="rId1"/>
          <a:stretch/>
        </p:blipFill>
        <p:spPr>
          <a:xfrm>
            <a:off x="179280" y="260280"/>
            <a:ext cx="882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Картинка1" descr="Картинка 17 из 25302"/>
          <p:cNvPicPr/>
          <p:nvPr/>
        </p:nvPicPr>
        <p:blipFill>
          <a:blip r:embed="rId1"/>
          <a:srcRect l="0" t="0" r="0" b="3481"/>
          <a:stretch/>
        </p:blipFill>
        <p:spPr>
          <a:xfrm>
            <a:off x="900000" y="260280"/>
            <a:ext cx="756144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Картинка1" descr="Картинка 9 из 21652"/>
          <p:cNvPicPr/>
          <p:nvPr/>
        </p:nvPicPr>
        <p:blipFill>
          <a:blip r:embed="rId1"/>
          <a:stretch/>
        </p:blipFill>
        <p:spPr>
          <a:xfrm>
            <a:off x="395280" y="189000"/>
            <a:ext cx="820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Картинка1" descr="Картинка 8 из 29241"/>
          <p:cNvPicPr/>
          <p:nvPr/>
        </p:nvPicPr>
        <p:blipFill>
          <a:blip r:embed="rId1"/>
          <a:stretch/>
        </p:blipFill>
        <p:spPr>
          <a:xfrm>
            <a:off x="539640" y="189000"/>
            <a:ext cx="813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4:21:57Z</dcterms:created>
  <dc:creator>Елена</dc:creator>
  <dc:description/>
  <dc:language>en-US</dc:language>
  <cp:lastModifiedBy>Елена</cp:lastModifiedBy>
  <dcterms:modified xsi:type="dcterms:W3CDTF">2012-02-05T15:40:59Z</dcterms:modified>
  <cp:revision>6</cp:revision>
  <dc:subject/>
  <dc:title>PowerPoint Presentation</dc:title>
</cp:coreProperties>
</file>