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7.jpeg" ContentType="image/jpeg"/>
  <Override PartName="/ppt/media/image27.png" ContentType="image/png"/>
  <Override PartName="/ppt/media/image33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.jpeg" ContentType="image/jpeg"/>
  <Override PartName="/ppt/media/image32.png" ContentType="image/png"/>
  <Override PartName="/ppt/media/image34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BB2-E75C-427A-BE69-4C4F5E30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628-FE6D-43F8-89C1-049E5328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953-1DAB-4654-BAE6-244A437E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490-0379-4ED7-89AA-40954893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DDFB-F4CC-4C6B-9CA0-7DD37042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84F9-7004-46D5-8BD6-0416128A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1B0D-BA62-417B-B890-47A26660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3E4-351D-4B1F-B4D1-0AA35873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6C22-47D6-408D-A368-C4CF67A2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549C-0CB1-43F5-A07F-6F102C8C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2AF4-5A90-414E-8023-CC6F46A0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F38-3E6E-4B30-9A77-7753F1F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2649-A8E3-41E4-9D4D-3322951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053A-FA5C-487F-83E1-662D2DF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44A-E528-4D05-AED4-3B6A6D41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CCC6-5A9C-4F5E-99AA-ADB7CC98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53B2-B9FF-4E65-A7B6-4A75308E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AC2-5143-40BE-A141-D2763B72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369-9486-4DF8-AA2D-8A97B161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FE9-1F2E-4C6D-A81B-771C1AF1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C46-2784-49AF-9D53-3DFD0F7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FD9-5F20-42B9-90FF-F12E1DA9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222-D17A-453A-93CA-78BCCB9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D47-CFF9-4F75-85A0-EF1678B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E74E-D106-4368-9E57-943A323A7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06F6-8A84-4F55-B7B2-EBB8DD251F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3708360" y="907920"/>
            <a:ext cx="4969080" cy="21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ва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ексеевич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нин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843280" y="3933720"/>
            <a:ext cx="496872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ждый человек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целый ми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7" descr="Б4"/>
          <p:cNvPicPr/>
          <p:nvPr/>
        </p:nvPicPr>
        <p:blipFill>
          <a:blip r:embed="rId7"/>
          <a:stretch/>
        </p:blipFill>
        <p:spPr>
          <a:xfrm>
            <a:off x="324000" y="765000"/>
            <a:ext cx="23097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5"/>
          <p:cNvSpPr txBox="1"/>
          <p:nvPr/>
        </p:nvSpPr>
        <p:spPr>
          <a:xfrm>
            <a:off x="1187280" y="476280"/>
            <a:ext cx="703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произведения писател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042920" y="1916280"/>
            <a:ext cx="64087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10 – повесть «Деревн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12 – повесть «Суходо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15-1916 – сборник рассказов «Чаша жизни»и «Господин из Сан-Франциск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27-1933 – роман «Жизнь Арсеньева» - единственный роман пис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3 – сборник «Темные алле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б5"/>
          <p:cNvPicPr/>
          <p:nvPr/>
        </p:nvPicPr>
        <p:blipFill>
          <a:blip r:embed="rId3"/>
          <a:stretch/>
        </p:blipFill>
        <p:spPr>
          <a:xfrm>
            <a:off x="6443640" y="3789360"/>
            <a:ext cx="2394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анна Цакни"/>
          <p:cNvPicPr/>
          <p:nvPr/>
        </p:nvPicPr>
        <p:blipFill>
          <a:blip r:embed="rId1"/>
          <a:stretch/>
        </p:blipFill>
        <p:spPr>
          <a:xfrm>
            <a:off x="250920" y="260280"/>
            <a:ext cx="2641680" cy="363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сын Бунина Николай"/>
          <p:cNvPicPr/>
          <p:nvPr/>
        </p:nvPicPr>
        <p:blipFill>
          <a:blip r:embed="rId2"/>
          <a:stretch/>
        </p:blipFill>
        <p:spPr>
          <a:xfrm>
            <a:off x="3995640" y="333360"/>
            <a:ext cx="115272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Кузнецова,Бунин и Муромцева"/>
          <p:cNvPicPr/>
          <p:nvPr/>
        </p:nvPicPr>
        <p:blipFill>
          <a:blip r:embed="rId3"/>
          <a:stretch/>
        </p:blipFill>
        <p:spPr>
          <a:xfrm>
            <a:off x="6012000" y="2924280"/>
            <a:ext cx="2939760" cy="3705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Галина Никол Кузнецова"/>
          <p:cNvPicPr/>
          <p:nvPr/>
        </p:nvPicPr>
        <p:blipFill>
          <a:blip r:embed="rId4"/>
          <a:stretch/>
        </p:blipFill>
        <p:spPr>
          <a:xfrm>
            <a:off x="3492360" y="3213000"/>
            <a:ext cx="233712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9"/>
          <p:cNvSpPr txBox="1"/>
          <p:nvPr/>
        </p:nvSpPr>
        <p:spPr>
          <a:xfrm>
            <a:off x="5796000" y="476280"/>
            <a:ext cx="2257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на Цакн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ын Коля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395280" y="5084640"/>
            <a:ext cx="2133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алина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знецова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535640" y="2276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 А. Бунин, Муромцева и Кузнец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5"/>
          <p:cNvSpPr txBox="1"/>
          <p:nvPr/>
        </p:nvSpPr>
        <p:spPr>
          <a:xfrm>
            <a:off x="900000" y="33336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55640" y="2133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тимся к творчеству писателя и поэ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971640" y="328464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Лес точно терем расписной…». В какие краски окрасил этот осенний лес Буни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WordArt 9"/>
          <p:cNvSpPr txBox="1"/>
          <p:nvPr/>
        </p:nvSpPr>
        <p:spPr>
          <a:xfrm>
            <a:off x="2771640" y="3860640"/>
            <a:ext cx="6077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Лиловый,золотой, багряный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116000" y="4869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о в бунинском стихотворении «черный бархатный», «заунывно гудящий певучей струной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5219640" y="580536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мель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900000" y="40464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42920" y="206064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фраза рассказа: «Вспоминается мне ранняя погожая осень»- настраивает читателей на мотив воспоминаний. О каком рассказе идет реч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4356000" y="3213000"/>
            <a:ext cx="4486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Антоновские яблоки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187280" y="422100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лся пароход в «Господине из Сан-Франциско» и что он собой символизиру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WordArt 12"/>
          <p:cNvSpPr txBox="1"/>
          <p:nvPr/>
        </p:nvSpPr>
        <p:spPr>
          <a:xfrm>
            <a:off x="5364000" y="4869000"/>
            <a:ext cx="28479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Атлантида"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бнущую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вилизацию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1042920" y="33336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00000" y="1916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им своим рассказом писатель считал «Чистый понедельник». Что означает это заглав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627280" y="2637000"/>
            <a:ext cx="5848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ый день Великого пост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116000" y="3645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оду какого писателя была фамилия главного героя романа «Жизнь Арсеньева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13"/>
          <p:cNvSpPr txBox="1"/>
          <p:nvPr/>
        </p:nvSpPr>
        <p:spPr>
          <a:xfrm>
            <a:off x="3492360" y="4581360"/>
            <a:ext cx="3467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. Ю. Лермонтов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042920" y="5516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озаглавил Бунин свой дневник 1917-1918 год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16"/>
          <p:cNvSpPr txBox="1"/>
          <p:nvPr/>
        </p:nvSpPr>
        <p:spPr>
          <a:xfrm>
            <a:off x="5148360" y="6021360"/>
            <a:ext cx="325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каянные дни"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5"/>
          <p:cNvSpPr txBox="1"/>
          <p:nvPr/>
        </p:nvSpPr>
        <p:spPr>
          <a:xfrm>
            <a:off x="1979640" y="476280"/>
            <a:ext cx="3790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 ПИСАТЕЛ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71640" y="1989000"/>
            <a:ext cx="648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03 год  - Пушкинская премия за сборник «Листопад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09 – вторая Пушкинская прем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33 – Нобелевская премия «за правдивый артистический талант, с которым он воссоздал в художественной прозе типичный русский характе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хруст ваза с серебр парусами в честь 25-летия творч Бунина"/>
          <p:cNvPicPr/>
          <p:nvPr/>
        </p:nvPicPr>
        <p:blipFill>
          <a:blip r:embed="rId3"/>
          <a:stretch/>
        </p:blipFill>
        <p:spPr>
          <a:xfrm>
            <a:off x="539640" y="3860640"/>
            <a:ext cx="3678480" cy="2722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4859280" y="436572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устальная ваза с серебряными парусами в честь 25-летнего творческого юбилея писа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900000" y="260280"/>
            <a:ext cx="17049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20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7" name="Text Box 6"/>
          <p:cNvSpPr/>
          <p:nvPr/>
        </p:nvSpPr>
        <p:spPr>
          <a:xfrm flipV="1">
            <a:off x="826920" y="1905480"/>
            <a:ext cx="60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492360" y="40464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играция в Константинополь, жизнь в Париже, где написал 10 кни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WordArt 11"/>
          <p:cNvSpPr txBox="1"/>
          <p:nvPr/>
        </p:nvSpPr>
        <p:spPr>
          <a:xfrm>
            <a:off x="755640" y="4437000"/>
            <a:ext cx="3591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53 ГОД,8 НОЯБ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Text Box 12"/>
          <p:cNvSpPr/>
          <p:nvPr/>
        </p:nvSpPr>
        <p:spPr>
          <a:xfrm flipV="1" rot="10800000">
            <a:off x="1547280" y="531072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чина Бунина в Париже. Похоронен на кладбище Сен-Женевьев-де-Бу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3" descr="могила Бунина"/>
          <p:cNvPicPr/>
          <p:nvPr/>
        </p:nvPicPr>
        <p:blipFill>
          <a:blip r:embed="rId1"/>
          <a:stretch/>
        </p:blipFill>
        <p:spPr>
          <a:xfrm>
            <a:off x="6084720" y="3213000"/>
            <a:ext cx="2794320" cy="3413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Парижский кабинет Бунина"/>
          <p:cNvPicPr/>
          <p:nvPr/>
        </p:nvPicPr>
        <p:blipFill>
          <a:blip r:embed="rId2"/>
          <a:stretch/>
        </p:blipFill>
        <p:spPr>
          <a:xfrm>
            <a:off x="1116000" y="1341360"/>
            <a:ext cx="44449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48000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Урок– викторина по творчеству писател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5"/>
          <p:cNvSpPr txBox="1"/>
          <p:nvPr/>
        </p:nvSpPr>
        <p:spPr>
          <a:xfrm>
            <a:off x="1187280" y="260280"/>
            <a:ext cx="1609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70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00000" y="191628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емье орловских помещиков Алексея Николаевича и Людмилы Александровны Буниных рождается сы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крещении названный Ива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Алексей Николаевич, отец Бунина"/>
          <p:cNvPicPr/>
          <p:nvPr/>
        </p:nvPicPr>
        <p:blipFill>
          <a:blip r:embed="rId1"/>
          <a:stretch/>
        </p:blipFill>
        <p:spPr>
          <a:xfrm>
            <a:off x="684360" y="3860640"/>
            <a:ext cx="1901520" cy="2697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Людмила Александровна , мать Бунина"/>
          <p:cNvPicPr/>
          <p:nvPr/>
        </p:nvPicPr>
        <p:blipFill>
          <a:blip r:embed="rId2"/>
          <a:stretch/>
        </p:blipFill>
        <p:spPr>
          <a:xfrm>
            <a:off x="2916360" y="3068640"/>
            <a:ext cx="1969920" cy="27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Бунин1"/>
          <p:cNvPicPr/>
          <p:nvPr/>
        </p:nvPicPr>
        <p:blipFill>
          <a:blip r:embed="rId3"/>
          <a:stretch/>
        </p:blipFill>
        <p:spPr>
          <a:xfrm>
            <a:off x="5867280" y="2852640"/>
            <a:ext cx="29275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родословная Буниных"/>
          <p:cNvPicPr/>
          <p:nvPr/>
        </p:nvPicPr>
        <p:blipFill>
          <a:blip r:embed="rId1"/>
          <a:stretch/>
        </p:blipFill>
        <p:spPr>
          <a:xfrm>
            <a:off x="250920" y="692280"/>
            <a:ext cx="4732200" cy="5032080"/>
          </a:xfrm>
          <a:prstGeom prst="rect">
            <a:avLst/>
          </a:prstGeom>
          <a:ln w="0">
            <a:noFill/>
          </a:ln>
        </p:spPr>
      </p:pic>
      <p:sp>
        <p:nvSpPr>
          <p:cNvPr id="111" name="WordArt 6"/>
          <p:cNvSpPr txBox="1"/>
          <p:nvPr/>
        </p:nvSpPr>
        <p:spPr>
          <a:xfrm>
            <a:off x="5724360" y="549360"/>
            <a:ext cx="26766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дослов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.А.Бун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5"/>
          <p:cNvSpPr txBox="1"/>
          <p:nvPr/>
        </p:nvSpPr>
        <p:spPr>
          <a:xfrm>
            <a:off x="826920" y="26028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971640" y="1484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ме Бунина в его роду были другие писатели. Знаете ли вы их? Назови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00000" y="2997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нин родился в Воронеже. Знаете ли вы земляков Бун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вестных всему миру писателе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42920" y="4076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й повести писатель воспроизвел хронику своего рода и описал отцовское имение Бутыр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2" descr="пам бунину в Орле"/>
          <p:cNvPicPr/>
          <p:nvPr/>
        </p:nvPicPr>
        <p:blipFill>
          <a:blip r:embed="rId1"/>
          <a:stretch/>
        </p:blipFill>
        <p:spPr>
          <a:xfrm>
            <a:off x="6443640" y="4437000"/>
            <a:ext cx="2305080" cy="2124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3"/>
          <p:cNvSpPr/>
          <p:nvPr/>
        </p:nvSpPr>
        <p:spPr>
          <a:xfrm>
            <a:off x="4716360" y="551664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ник Бунину в Ор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15"/>
          <p:cNvSpPr txBox="1"/>
          <p:nvPr/>
        </p:nvSpPr>
        <p:spPr>
          <a:xfrm>
            <a:off x="4427640" y="1773360"/>
            <a:ext cx="35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т Анна Бунина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. А. Жуковски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17"/>
          <p:cNvSpPr txBox="1"/>
          <p:nvPr/>
        </p:nvSpPr>
        <p:spPr>
          <a:xfrm>
            <a:off x="295200" y="3500280"/>
            <a:ext cx="884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льцов, Фет, Тютчев, Тургенев, Лесков и др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19"/>
          <p:cNvSpPr txBox="1"/>
          <p:nvPr/>
        </p:nvSpPr>
        <p:spPr>
          <a:xfrm>
            <a:off x="1979640" y="5157720"/>
            <a:ext cx="2028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уходол"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0333080" y="299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1341080" y="299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900000" y="189000"/>
            <a:ext cx="1590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74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16000" y="206064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мья переезжает в свое поместье на хуторе Бутырки Елецкого уезда Орловской губернии. Через три года будут написаны первые стих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8"/>
          <p:cNvSpPr txBox="1"/>
          <p:nvPr/>
        </p:nvSpPr>
        <p:spPr>
          <a:xfrm>
            <a:off x="900000" y="3284640"/>
            <a:ext cx="18669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81-189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042920" y="558972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ба в Елецкой гимназии. В1886 был отчислен за неуспеваемость, дальнейшее образование получил дома, обучался братом Юлием. С1887 года начал публикова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дом-музей Бунинав Ельце"/>
          <p:cNvPicPr/>
          <p:nvPr/>
        </p:nvPicPr>
        <p:blipFill>
          <a:blip r:embed="rId1"/>
          <a:stretch/>
        </p:blipFill>
        <p:spPr>
          <a:xfrm>
            <a:off x="6119640" y="0"/>
            <a:ext cx="3024360" cy="2236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братья Бунины"/>
          <p:cNvPicPr/>
          <p:nvPr/>
        </p:nvPicPr>
        <p:blipFill>
          <a:blip r:embed="rId2"/>
          <a:stretch/>
        </p:blipFill>
        <p:spPr>
          <a:xfrm>
            <a:off x="6732720" y="2997360"/>
            <a:ext cx="2211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5"/>
          <p:cNvSpPr txBox="1"/>
          <p:nvPr/>
        </p:nvSpPr>
        <p:spPr>
          <a:xfrm>
            <a:off x="900000" y="260280"/>
            <a:ext cx="1676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89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71640" y="191628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бирается к брату в Харьков. Здесь знакомится и живет гражданским браком с Варварой Владимировной Пащенко. В 1893 – 1894 годы увлекается нравственно-религиозной проповедью Льва Толст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Бунин и Пащенко"/>
          <p:cNvPicPr/>
          <p:nvPr/>
        </p:nvPicPr>
        <p:blipFill>
          <a:blip r:embed="rId1"/>
          <a:stretch/>
        </p:blipFill>
        <p:spPr>
          <a:xfrm>
            <a:off x="5910120" y="3068640"/>
            <a:ext cx="2907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5"/>
          <p:cNvSpPr txBox="1"/>
          <p:nvPr/>
        </p:nvSpPr>
        <p:spPr>
          <a:xfrm>
            <a:off x="755640" y="333360"/>
            <a:ext cx="1676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96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826920" y="1773360"/>
            <a:ext cx="14288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43280" y="220500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нин так отозвался об одной поэме зарубежного автора: «Она воскрешает перед нами красоту девственных лесов и прерий, воссоздает цельные характеры первобытных людей, их быт и миросозерцание». Он перевел эту поэму. Как она называется и кто ее авто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3780000" y="4724280"/>
            <a:ext cx="464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айавата". Лонгфелло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755640" y="333360"/>
            <a:ext cx="1676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00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042920" y="141300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Антоновские яблоки» -шедевр новейшей прозы. Первое путешествие за границу: Берлин, Пари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1042920" y="2852640"/>
            <a:ext cx="1657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04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203640" y="33577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ит цикл путевых очерков «Тень птиц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1116000" y="4581360"/>
            <a:ext cx="1676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06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95280" y="57340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мейный союз с Верой Николаевной Муромце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3" descr="письм стол бунина,"/>
          <p:cNvPicPr/>
          <p:nvPr/>
        </p:nvPicPr>
        <p:blipFill>
          <a:blip r:embed="rId1"/>
          <a:stretch/>
        </p:blipFill>
        <p:spPr>
          <a:xfrm>
            <a:off x="5508720" y="189000"/>
            <a:ext cx="3457440" cy="2493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Муромцева"/>
          <p:cNvPicPr/>
          <p:nvPr/>
        </p:nvPicPr>
        <p:blipFill>
          <a:blip r:embed="rId2"/>
          <a:stretch/>
        </p:blipFill>
        <p:spPr>
          <a:xfrm>
            <a:off x="5364000" y="3716280"/>
            <a:ext cx="2151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3:37:37Z</dcterms:created>
  <dc:creator>1</dc:creator>
  <dc:description/>
  <dc:language>en-US</dc:language>
  <cp:lastModifiedBy>Admin</cp:lastModifiedBy>
  <dcterms:modified xsi:type="dcterms:W3CDTF">2012-01-13T11:04:2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