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630-3455-4719-A642-54201F4A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221-58DC-4E10-BA95-9AD99618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369-1C29-4BCD-B4EF-307A6033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8B7-D1CC-442D-A81A-C4AC8699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B77-ABAA-41B9-BE1C-00E8F076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D4F-878C-413F-9ACD-317289C8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9F2-B0BA-4504-A706-AAC90C59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920-CE7F-49B4-947F-5832A2CC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302-88C9-4BD6-8392-2C18A5F2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AAB-EDEC-4CA0-9E5A-EB6FB29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007-6AA0-4D93-93E6-054EACFE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28E-091A-4DDA-B341-802EF738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4BBB-6599-4937-9C79-46162855B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5042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Организация самостоятельной работы учащихся на занятиях по рукодел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41520" y="5356080"/>
            <a:ext cx="310212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иева Галина Рахимзяновн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ая работа учащихся и её функц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ияние самостоятельной работы на качество знаний и развития познавательной способности учащихс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9876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организации самостоятельной работы на уро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ление дидактических принципов организации самостоятельной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843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я понятия «самостоятельная деятель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ления проблем при организации самостоятельной работы учащихс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51640" y="479736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 - обусловлена тем, что самостоятельная работа на уроках ведет к развитию личности помогает более адекватно принимать решения, адаптироваться в соци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32720" y="4638600"/>
            <a:ext cx="2411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след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я ВКР- это выявления возможностей использования самостоятельной работы в предпрофильной и профильной подготовки школьников для обеспечения их социально-профессионального самоопред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948360" y="4581360"/>
            <a:ext cx="2195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5021280" cy="40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6:29:04Z</dcterms:created>
  <dc:creator>111</dc:creator>
  <dc:description/>
  <dc:language>en-US</dc:language>
  <cp:lastModifiedBy>галина</cp:lastModifiedBy>
  <dcterms:modified xsi:type="dcterms:W3CDTF">2012-02-02T06:36:11Z</dcterms:modified>
  <cp:revision>4</cp:revision>
  <dc:subject/>
  <dc:title>Институт Непрерывного Педагогического Образования</dc:title>
</cp:coreProperties>
</file>