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D707-41B9-47DD-94D4-5B032A261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264A-A005-4879-9A98-2E9C93A2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1F7C-64CE-47AB-83A6-7B890AC0D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C184-34F1-4522-827F-14DE2217E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0E48-2A9A-4B7D-AC8D-AE29A61C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F87F-C44F-45EA-A43B-454AAD01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7CD4-5596-4F27-86EC-3F30DECE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E4DF-9189-41D3-923C-4EB58D49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BBAC-7FC9-497D-8548-E3D7C39D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FF70-4A7C-4AA3-8E9F-1D6A9D91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C23E-BEDC-481A-9F95-085A45BD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0A8D-C651-4C0C-B796-990FDE58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A633-0C21-45EF-9041-C9B45EFE4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Belarus-SMFAL-Stove.jpg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Black"/>
              </a:rPr>
              <a:t>ВИКТОРИНА ПО РУССКОМУ ЯЗЫ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для      5 -6 кла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07360" y="5516640"/>
            <a:ext cx="690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Автор- Васильева И.В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учитель русского языка и литературы МБОУ СОШ №1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34280" y="2394000"/>
            <a:ext cx="722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Goudy Stout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348000" y="4149720"/>
            <a:ext cx="183528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26920" y="1160640"/>
            <a:ext cx="7148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Что общего в слов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Квадр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Тетр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Четвер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Квар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04000" y="765000"/>
            <a:ext cx="1224000" cy="1944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0920" y="4600440"/>
            <a:ext cx="2449440" cy="1694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159600" y="3573360"/>
            <a:ext cx="161928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65440" y="333360"/>
            <a:ext cx="204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1989000"/>
            <a:ext cx="820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«ЧЕТЫРЕ»: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uartus –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четвертый  (латин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uadratus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четырехугольный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(латин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tra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- 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четыре (грече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26920" y="4797360"/>
            <a:ext cx="2592720" cy="1952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372360" y="3645000"/>
            <a:ext cx="2265120" cy="1920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356000" y="404640"/>
            <a:ext cx="22924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16960" y="392040"/>
            <a:ext cx="748512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2.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В каком из перечисленных сл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приставка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имеет не то значе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что в остальны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42880" y="2276640"/>
            <a:ext cx="2306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НАДСТРО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НАДЛОМ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НАДРЕЗАТЬ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НАДКОЛО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НАДКУ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НАДПИЛ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1751040" cy="1751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859280" y="5229360"/>
            <a:ext cx="2016360" cy="1344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00000" y="501336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68360" y="3141720"/>
            <a:ext cx="143964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89080" y="404640"/>
            <a:ext cx="219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1773360"/>
            <a:ext cx="79257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НАДСТРОИ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Arial"/>
              </a:rPr>
              <a:t>Приставка </a:t>
            </a: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НАД</a:t>
            </a:r>
            <a:r>
              <a:rPr b="1" i="1" lang="en-US" sz="4400" spc="-1" strike="noStrike">
                <a:solidFill>
                  <a:srgbClr val="cc3300"/>
                </a:solidFill>
                <a:latin typeface="Arial"/>
              </a:rPr>
              <a:t> в значе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«ДОБАВИТЬ СВЕРХУ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Arial"/>
              </a:rPr>
              <a:t>В остальных словах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«неполное действи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156360" y="260280"/>
            <a:ext cx="259560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62960" y="907920"/>
            <a:ext cx="87577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3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Сколько слов из списка можно поня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и как существительное, и как глагол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63240" y="2060640"/>
            <a:ext cx="2472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Б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          </a:t>
            </a: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ВОЙ</a:t>
            </a:r>
            <a:br>
              <a:rPr sz="3600"/>
            </a:b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ПОЙ</a:t>
            </a:r>
            <a:br>
              <a:rPr sz="3600"/>
            </a:b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          РОЙ</a:t>
            </a:r>
            <a:br>
              <a:rPr sz="3600"/>
            </a:b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СТОЙ</a:t>
            </a:r>
            <a:br>
              <a:rPr sz="3600"/>
            </a:b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        ПЕЧЬ</a:t>
            </a:r>
            <a:br>
              <a:rPr sz="3600"/>
            </a:b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ЛЕЧЬ</a:t>
            </a:r>
            <a:br>
              <a:rPr sz="3600"/>
            </a:b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        РЕЧ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5800" y="189000"/>
            <a:ext cx="204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7440" y="1052640"/>
            <a:ext cx="431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Arial"/>
              </a:rPr>
              <a:t>ВОЙ - </a:t>
            </a: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волчий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не вой на Лун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29840" y="2492280"/>
            <a:ext cx="585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Arial"/>
              </a:rPr>
              <a:t>РОЙ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–</a:t>
            </a:r>
            <a:r>
              <a:rPr b="1" i="1" lang="en-US" sz="4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пчелиный- рой яму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34560" y="4005360"/>
            <a:ext cx="4508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i="1" lang="en-US" sz="4400" spc="-1" strike="noStrike">
                <a:solidFill>
                  <a:srgbClr val="cc3300"/>
                </a:solidFill>
                <a:latin typeface="Arial"/>
              </a:rPr>
              <a:t>ПЕЧЬ-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пироги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русская печь</a:t>
            </a: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17" descr="http://upload.wikimedia.org/wikipedia/commons/thumb/2/23/Belarus-SMFAL-Stove.jpg/300px-Belarus-SMFAL-Stov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4292640"/>
            <a:ext cx="1727280" cy="23083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9" descr="пирожки.jpg"/>
          <p:cNvPicPr/>
          <p:nvPr/>
        </p:nvPicPr>
        <p:blipFill>
          <a:blip r:embed="rId3"/>
          <a:stretch/>
        </p:blipFill>
        <p:spPr>
          <a:xfrm>
            <a:off x="179280" y="4221000"/>
            <a:ext cx="1727280" cy="1292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187280" y="2421000"/>
            <a:ext cx="1611360" cy="1287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5580000" y="620640"/>
            <a:ext cx="1787760" cy="17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55640" y="7650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9520" y="318960"/>
            <a:ext cx="5788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Какое слово  отлича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по составу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от остальны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3960" y="1773360"/>
            <a:ext cx="2206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ТРЕЩ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ОВЧ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372360" y="907920"/>
            <a:ext cx="2501640" cy="1868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567240" y="1700280"/>
            <a:ext cx="20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ПУШ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96840" y="3244680"/>
            <a:ext cx="232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МОРЩ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508720" y="3141720"/>
            <a:ext cx="2038320" cy="1353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059280" y="3933720"/>
            <a:ext cx="1441440" cy="1441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081760" y="5641920"/>
            <a:ext cx="251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СОЛОМ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17800" y="476280"/>
            <a:ext cx="204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6920" y="1341360"/>
            <a:ext cx="385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СОЛО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1640" y="1125360"/>
            <a:ext cx="2697120" cy="1798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2520720" cy="1743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8680" y="2492280"/>
            <a:ext cx="302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Суффикс  -ИНК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15600" y="3429000"/>
            <a:ext cx="4111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Образовано от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СОЛ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7600" y="5700600"/>
            <a:ext cx="78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В остальных словах суффиксы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–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ИН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- и –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К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07:17:50Z</dcterms:created>
  <dc:creator>Admin</dc:creator>
  <dc:description/>
  <dc:language>en-US</dc:language>
  <cp:lastModifiedBy>Admin</cp:lastModifiedBy>
  <dcterms:modified xsi:type="dcterms:W3CDTF">2012-01-29T07:37:42Z</dcterms:modified>
  <cp:revision>2</cp:revision>
  <dc:subject/>
  <dc:title>Слайд 1</dc:title>
</cp:coreProperties>
</file>