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CFC-2C09-4C55-BF98-D27F7229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2E5-D537-4E73-B02B-D244541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821-24BF-4EDB-AE34-15B1E087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33B-38B0-41BA-846E-51D4C6CB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604-246D-4DCF-8DA5-0CEB89C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9A9-9B4D-40DE-A12D-932E1098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522-FE91-4DAB-88A7-710379D3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DAB-F574-43DF-BB98-CA97142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100-0C07-465B-AFC7-4DCC2C0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606-76AE-4743-8F33-87C1A95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E71-D01F-44F9-A8D3-380B5098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6B5-E2A6-4BA7-9221-8CA39B82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9C8-2BD0-444D-B0C9-0A2DE2124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2492280"/>
            <a:ext cx="7561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И ЗНАЧЕНИЕ ПОБЕ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4292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НЬ ПРЕМУД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00000" y="141300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ег – сложный орган растения, состоящий из стебля, листьев и почек. Его главная функция – образование органических веществ с помощью листьев. В стеблевой части побег состоит из узлов и междоузлий. В узлах располагаются листья и пазушные почки. Почка – зачаточный побег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5стебель"/>
          <p:cNvPicPr/>
          <p:nvPr/>
        </p:nvPicPr>
        <p:blipFill>
          <a:blip r:embed="rId1"/>
          <a:stretch/>
        </p:blipFill>
        <p:spPr>
          <a:xfrm>
            <a:off x="2556000" y="4221000"/>
            <a:ext cx="3671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332000" y="404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В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268280"/>
            <a:ext cx="7777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 называются зачатки новых побег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лист, б) стебель, в) почки, г)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ак называется участок стебля между двумя соседни узл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узел, б) междоузлие, в) почка, г)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ак называется листорасположение, при котором от узла отходят три листа и боле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мутовчатое, б) очередное, в) внеочередное, г) супрот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Как называются следы в узлах стебля от опавших листьев у листопадных раст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листовые места, б) листовые рубцы, в) листовые раны, г) листовые сл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Как называется участок стебля, от которого отходит ли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очка, б) цветок, в) междоузлие, г) уз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2 стебель"/>
          <p:cNvPicPr/>
          <p:nvPr/>
        </p:nvPicPr>
        <p:blipFill>
          <a:blip r:embed="rId1"/>
          <a:stretch/>
        </p:blipFill>
        <p:spPr>
          <a:xfrm>
            <a:off x="6804000" y="189000"/>
            <a:ext cx="1800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476360" y="1197000"/>
            <a:ext cx="63356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eeb0e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eeb0e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eeb0e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eeb0e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eeb0e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260280"/>
            <a:ext cx="8136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приглашаю вас в живой природы ми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интерес – наш главный ориент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знаем мы, что все здесь не случай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йдем ответы, разгадаем тайн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рой, чтоб разрешились все сомнень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статочно нам будет наблю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прос возник, иль снова сомневаемс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гда к эксперименту обращаем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ь под силу нашему 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? Где? Какой? Откуда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правимся в путь без сомнений и му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б тайны освоить великой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е изучали до вас очень мног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все же она молода, как все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асавица в мире наук – биолог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ка о жизн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перед, госпо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стебель"/>
          <p:cNvPicPr/>
          <p:nvPr/>
        </p:nvPicPr>
        <p:blipFill>
          <a:blip r:embed="rId1"/>
          <a:stretch/>
        </p:blipFill>
        <p:spPr>
          <a:xfrm>
            <a:off x="6732720" y="4653000"/>
            <a:ext cx="2016000" cy="198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2цветок"/>
          <p:cNvPicPr/>
          <p:nvPr/>
        </p:nvPicPr>
        <p:blipFill>
          <a:blip r:embed="rId2"/>
          <a:stretch/>
        </p:blipFill>
        <p:spPr>
          <a:xfrm>
            <a:off x="250920" y="115920"/>
            <a:ext cx="1584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4360" y="189000"/>
          <a:ext cx="8229600" cy="6480000"/>
        </p:xfrm>
        <a:graphic>
          <a:graphicData uri="http://schemas.openxmlformats.org/drawingml/2006/table">
            <a:tbl>
              <a:tblPr/>
              <a:tblGrid>
                <a:gridCol w="571320"/>
                <a:gridCol w="538200"/>
                <a:gridCol w="536400"/>
                <a:gridCol w="536760"/>
                <a:gridCol w="571320"/>
                <a:gridCol w="573120"/>
                <a:gridCol w="536760"/>
                <a:gridCol w="536400"/>
                <a:gridCol w="536760"/>
                <a:gridCol w="538200"/>
                <a:gridCol w="571320"/>
                <a:gridCol w="536760"/>
                <a:gridCol w="536400"/>
                <a:gridCol w="538200"/>
                <a:gridCol w="571680"/>
              </a:tblGrid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WordArt 538"/>
          <p:cNvSpPr txBox="1"/>
          <p:nvPr/>
        </p:nvSpPr>
        <p:spPr>
          <a:xfrm rot="5400000">
            <a:off x="-1117800" y="1968480"/>
            <a:ext cx="4228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 ПОВТОР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WordArt 539"/>
          <p:cNvSpPr txBox="1"/>
          <p:nvPr/>
        </p:nvSpPr>
        <p:spPr>
          <a:xfrm rot="5400000">
            <a:off x="396000" y="321156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 ГЛУБ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" name="Picture 541" descr="2 стебель"/>
          <p:cNvPicPr/>
          <p:nvPr/>
        </p:nvPicPr>
        <p:blipFill>
          <a:blip r:embed="rId1"/>
          <a:stretch/>
        </p:blipFill>
        <p:spPr>
          <a:xfrm>
            <a:off x="7667640" y="115920"/>
            <a:ext cx="1297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39640" y="620640"/>
            <a:ext cx="7920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КРОССВОР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, зародыш семени которых имеет одну семяд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и, развивающиеся на главном и придаточном кор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и, образующиеся на стеб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ая система, у которой не развит главный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, развивающийся из зародышевого коре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ный колпачок кончика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40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ЭТО ВСЁ О 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0"/>
          <p:cNvPicPr/>
          <p:nvPr/>
        </p:nvPicPr>
        <p:blipFill>
          <a:blip r:embed="rId1"/>
          <a:stretch/>
        </p:blipFill>
        <p:spPr>
          <a:xfrm>
            <a:off x="2556000" y="1268280"/>
            <a:ext cx="41036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АЯ МАСТЕ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333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РОХОДИТЕ МИМ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35090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50731"/>
          <p:cNvPicPr/>
          <p:nvPr/>
        </p:nvPicPr>
        <p:blipFill>
          <a:blip r:embed="rId2"/>
          <a:stretch/>
        </p:blipFill>
        <p:spPr>
          <a:xfrm>
            <a:off x="4716360" y="1773360"/>
            <a:ext cx="3810240" cy="2809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611280" y="5013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етках – плотные ком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их дремлют клейкие лис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71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В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981000"/>
            <a:ext cx="8424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длинный стебель у пальмы-ротанг, он достигает длины около 4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ьвичия – одно из немногих растений, сумевших справиться с засушливым климатом пусты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квариумах часто растут маленькие зелёные листочки – это ряска. Но листьев у ряски нет, это изменившийся стебелёк, выполняющий и работу листа, и работу кор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ое высокое травянистое растение – банан, высота его достигает до 15 м. эвкалипты достигают высоты 155 м, ели – 75 м, кипарис и дуб – 50 м, сосны – 48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260945668_800px-eendekroos_dicht_bijeen"/>
          <p:cNvPicPr/>
          <p:nvPr/>
        </p:nvPicPr>
        <p:blipFill>
          <a:blip r:embed="rId1"/>
          <a:stretch/>
        </p:blipFill>
        <p:spPr>
          <a:xfrm>
            <a:off x="5796000" y="4724280"/>
            <a:ext cx="2987640" cy="202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welwitschia_8"/>
          <p:cNvPicPr/>
          <p:nvPr/>
        </p:nvPicPr>
        <p:blipFill>
          <a:blip r:embed="rId2"/>
          <a:stretch/>
        </p:blipFill>
        <p:spPr>
          <a:xfrm>
            <a:off x="2843280" y="4724280"/>
            <a:ext cx="2989080" cy="204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attan"/>
          <p:cNvPicPr/>
          <p:nvPr/>
        </p:nvPicPr>
        <p:blipFill>
          <a:blip r:embed="rId3"/>
          <a:stretch/>
        </p:blipFill>
        <p:spPr>
          <a:xfrm>
            <a:off x="179280" y="4724280"/>
            <a:ext cx="2700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564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ОЕ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55640" y="1484280"/>
            <a:ext cx="770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. - основной надземный орган растения. Он состоит из ……...… с расположенными на нём ……...... и ………… . Участок стебля, на котором развивается лист, называют …………, а расстояние между двумя узлами - ………… , угол, находящийся между листом и расположенным выше междоузлием, называют ………… . Почки могут располагаться на верхушке побега, тогда их называют ………… а могут располагаться в пазухах листа, и тогда их называют …………, или …………. Если на стебле расположены только листья и почки, такой побег называют ………… если стебель несёт цветки или плоды, то говорят о ………… или ………… поб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стебель"/>
          <p:cNvPicPr/>
          <p:nvPr/>
        </p:nvPicPr>
        <p:blipFill>
          <a:blip r:embed="rId1"/>
          <a:stretch/>
        </p:blipFill>
        <p:spPr>
          <a:xfrm>
            <a:off x="6516720" y="5013360"/>
            <a:ext cx="21607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58:28Z</dcterms:created>
  <dc:creator>User</dc:creator>
  <dc:description/>
  <dc:language>en-US</dc:language>
  <cp:lastModifiedBy>kab13</cp:lastModifiedBy>
  <dcterms:modified xsi:type="dcterms:W3CDTF">2011-01-11T08:33:38Z</dcterms:modified>
  <cp:revision>12</cp:revision>
  <dc:subject/>
  <dc:title>Слайд 1</dc:title>
</cp:coreProperties>
</file>