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jpeg" ContentType="image/jpeg"/>
  <Override PartName="/ppt/media/image21.jpeg" ContentType="image/jpeg"/>
  <Override PartName="/ppt/media/image19.jpeg" ContentType="image/jpeg"/>
  <Override PartName="/ppt/media/image8.jpeg" ContentType="image/jpeg"/>
  <Override PartName="/ppt/media/image10.jpeg" ContentType="image/jpeg"/>
  <Override PartName="/ppt/media/image27.jpeg" ContentType="image/jpeg"/>
  <Override PartName="/ppt/media/image6.jpeg" ContentType="image/jpeg"/>
  <Override PartName="/ppt/media/image5.jpeg" ContentType="image/jpeg"/>
  <Override PartName="/ppt/media/image32.jpeg" ContentType="image/jpeg"/>
  <Override PartName="/ppt/media/image26.jpeg" ContentType="image/jpeg"/>
  <Override PartName="/ppt/media/image28.jpeg" ContentType="image/jpeg"/>
  <Override PartName="/ppt/media/image7.jpeg" ContentType="image/jpeg"/>
  <Override PartName="/ppt/media/image12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13.jpeg" ContentType="image/jpeg"/>
  <Override PartName="/ppt/media/image29.jpeg" ContentType="image/jpeg"/>
  <Override PartName="/ppt/media/image3.wmf" ContentType="image/x-wmf"/>
  <Override PartName="/ppt/media/image15.jpeg" ContentType="image/jpeg"/>
  <Override PartName="/ppt/media/image20.png" ContentType="image/pn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1A311-E9F0-45D2-A835-4F45C669E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F8246-A788-4943-BBE9-E4B13EFD0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BC6A8-9A4B-4F52-A4E0-CE0237E7A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5486C-89EC-4F78-A257-702015F73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B8B5D-4796-4DB9-B00B-A7174E9A8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FD2E5-D6DD-4D41-BEE6-2A04308B8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316D9-D782-438B-80A8-6B1F76073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166EF-D698-4F76-BBB0-CD1D96B35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266B9-79BD-4B9D-B119-C7555E611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D3BD1-34E6-48E5-ADAB-F34443051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D9BC9-4109-45AC-AB74-8D483F902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72337-C28E-4F20-A700-3F4E290A3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4561E-5003-415E-9C00-C1167F628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58CCB-B211-4EDB-9C17-00CF2581E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8176E-47A4-4293-A951-D2690F212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F7322-449D-4CF4-8C13-289D68AB0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BEDA0-02C9-496A-B0F5-A42FE11CE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F40ED-B724-42C2-AAA8-8AB56ED40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B0D4E-FD94-4CAB-86F8-7901E3F21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EC043-AC39-4382-88EC-770CA22DF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CA150-7B50-48D5-B956-054EBD049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A791E-E47D-4B6D-9ADB-B511207F6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84C7A-3BDE-4663-B1C9-336CFFE60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0F088-729B-4D66-BB13-05EE0A870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F94C2-0537-4D18-BD6C-4C22EB0B26D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71A3B-26BA-465B-873D-2E54655F8E9C}" type="slidenum">
              <a:rPr b="0" lang="ru-RU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5.jpe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image" Target="../media/image24.jpeg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6.jpeg"/><Relationship Id="rId7" Type="http://schemas.openxmlformats.org/officeDocument/2006/relationships/image" Target="../media/image27.jpe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30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31.jpeg"/><Relationship Id="rId8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32.jpeg"/><Relationship Id="rId7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5" descr="S6307756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7760" y="53352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0000"/>
                </a:solidFill>
                <a:latin typeface="Tahoma"/>
              </a:rPr>
              <a:t>Акпатыр и Акпарс.</a:t>
            </a:r>
            <a:br>
              <a:rPr sz="4400"/>
            </a:br>
            <a:r>
              <a:rPr b="0" lang="ru-RU" sz="4400" spc="-1" strike="noStrike">
                <a:solidFill>
                  <a:srgbClr val="cc0000"/>
                </a:solidFill>
                <a:latin typeface="Tahoma"/>
              </a:rPr>
              <a:t>Каждый достоин своего имени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724280" y="4800600"/>
            <a:ext cx="41911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Работа обучающихся 4 класса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ОУ «Шойбулакская средняя общеобразовательная школа»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олковой Ирины и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ельбедина Михаил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Руководитель: Исакова В.В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2" name="Picture 6" descr="R47CA2KMGQ5CA1KAK3MCAPC2KZICA1C2BSCCAH7COOACAHI6KX4CAWYY4ZTCA0NHU1OCAKX1EBMCAG672Z8CA4QTBH8CA2U13Q9CAYKCIFJCAXEPR4ECALS50CICA67LN6PCAFA0FWDCA8NRF01CA01QEB6"/>
          <p:cNvPicPr/>
          <p:nvPr/>
        </p:nvPicPr>
        <p:blipFill>
          <a:blip r:embed="rId2"/>
          <a:stretch/>
        </p:blipFill>
        <p:spPr>
          <a:xfrm>
            <a:off x="0" y="0"/>
            <a:ext cx="525600" cy="34290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7" descr="R47CA2KMGQ5CA1KAK3MCAPC2KZICA1C2BSCCAH7COOACAHI6KX4CAWYY4ZTCA0NHU1OCAKX1EBMCAG672Z8CA4QTBH8CA2U13Q9CAYKCIFJCAXEPR4ECALS50CICA67LN6PCAFA0FWDCA8NRF01CA01QEB6"/>
          <p:cNvPicPr/>
          <p:nvPr/>
        </p:nvPicPr>
        <p:blipFill>
          <a:blip r:embed="rId3"/>
          <a:stretch/>
        </p:blipFill>
        <p:spPr>
          <a:xfrm>
            <a:off x="457200" y="0"/>
            <a:ext cx="525600" cy="34290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8" descr="R47CA2KMGQ5CA1KAK3MCAPC2KZICA1C2BSCCAH7COOACAHI6KX4CAWYY4ZTCA0NHU1OCAKX1EBMCAG672Z8CA4QTBH8CA2U13Q9CAYKCIFJCAXEPR4ECALS50CICA67LN6PCAFA0FWDCA8NRF01CA01QEB6"/>
          <p:cNvPicPr/>
          <p:nvPr/>
        </p:nvPicPr>
        <p:blipFill>
          <a:blip r:embed="rId4"/>
          <a:stretch/>
        </p:blipFill>
        <p:spPr>
          <a:xfrm>
            <a:off x="457200" y="3429000"/>
            <a:ext cx="525600" cy="34290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9" descr="R47CA2KMGQ5CA1KAK3MCAPC2KZICA1C2BSCCAH7COOACAHI6KX4CAWYY4ZTCA0NHU1OCAKX1EBMCAG672Z8CA4QTBH8CA2U13Q9CAYKCIFJCAXEPR4ECALS50CICA67LN6PCAFA0FWDCA8NRF01CA01QEB6"/>
          <p:cNvPicPr/>
          <p:nvPr/>
        </p:nvPicPr>
        <p:blipFill>
          <a:blip r:embed="rId5"/>
          <a:stretch/>
        </p:blipFill>
        <p:spPr>
          <a:xfrm>
            <a:off x="0" y="3429000"/>
            <a:ext cx="5256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2" descr="S6307756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218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0000"/>
                </a:solidFill>
                <a:latin typeface="Tahoma"/>
              </a:rPr>
              <a:t>Моления у могилы Акпатыр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66" name="Picture 5" descr="S6307669"/>
          <p:cNvPicPr/>
          <p:nvPr/>
        </p:nvPicPr>
        <p:blipFill>
          <a:blip r:embed="rId2"/>
          <a:stretch/>
        </p:blipFill>
        <p:spPr>
          <a:xfrm>
            <a:off x="5410080" y="1181160"/>
            <a:ext cx="2895840" cy="205740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67" name="Text Box 24"/>
          <p:cNvSpPr/>
          <p:nvPr/>
        </p:nvSpPr>
        <p:spPr>
          <a:xfrm>
            <a:off x="990720" y="3276720"/>
            <a:ext cx="3200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Люди приходят к Акпатыру с просьбой о помощи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Text Box 30"/>
          <p:cNvSpPr/>
          <p:nvPr/>
        </p:nvSpPr>
        <p:spPr>
          <a:xfrm>
            <a:off x="5334120" y="3200400"/>
            <a:ext cx="3124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роводят жертвоприношения. В каждую осень приносят ему в жертву гусей, уток, баранов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Text Box 32"/>
          <p:cNvSpPr/>
          <p:nvPr/>
        </p:nvSpPr>
        <p:spPr>
          <a:xfrm>
            <a:off x="1066680" y="6218280"/>
            <a:ext cx="3276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о народным поверьям, Акпатыр излечивает больных, помогает в жизни и в делах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Text Box 34"/>
          <p:cNvSpPr/>
          <p:nvPr/>
        </p:nvSpPr>
        <p:spPr>
          <a:xfrm>
            <a:off x="5486400" y="6035760"/>
            <a:ext cx="31240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оления проводят при участии жреца-карта, который в молитвах обращается к святому с просьбой о мире, добре, сохранении и продолжении род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1" name="Picture 35" descr="R47CA2KMGQ5CA1KAK3MCAPC2KZICA1C2BSCCAH7COOACAHI6KX4CAWYY4ZTCA0NHU1OCAKX1EBMCAG672Z8CA4QTBH8CA2U13Q9CAYKCIFJCAXEPR4ECALS50CICA67LN6PCAFA0FWDCA8NRF01CA01QEB6"/>
          <p:cNvPicPr/>
          <p:nvPr/>
        </p:nvPicPr>
        <p:blipFill>
          <a:blip r:embed="rId3"/>
          <a:stretch/>
        </p:blipFill>
        <p:spPr>
          <a:xfrm>
            <a:off x="0" y="0"/>
            <a:ext cx="525600" cy="34290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36" descr="R47CA2KMGQ5CA1KAK3MCAPC2KZICA1C2BSCCAH7COOACAHI6KX4CAWYY4ZTCA0NHU1OCAKX1EBMCAG672Z8CA4QTBH8CA2U13Q9CAYKCIFJCAXEPR4ECALS50CICA67LN6PCAFA0FWDCA8NRF01CA01QEB6"/>
          <p:cNvPicPr/>
          <p:nvPr/>
        </p:nvPicPr>
        <p:blipFill>
          <a:blip r:embed="rId4"/>
          <a:stretch/>
        </p:blipFill>
        <p:spPr>
          <a:xfrm>
            <a:off x="0" y="3429000"/>
            <a:ext cx="525600" cy="342900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56" descr="1250076312_001"/>
          <p:cNvPicPr/>
          <p:nvPr/>
        </p:nvPicPr>
        <p:blipFill>
          <a:blip r:embed="rId5"/>
          <a:stretch/>
        </p:blipFill>
        <p:spPr>
          <a:xfrm>
            <a:off x="990720" y="1219320"/>
            <a:ext cx="2971800" cy="198108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74" name="Picture 58" descr="1250076355_002"/>
          <p:cNvPicPr/>
          <p:nvPr/>
        </p:nvPicPr>
        <p:blipFill>
          <a:blip r:embed="rId6"/>
          <a:stretch/>
        </p:blipFill>
        <p:spPr>
          <a:xfrm>
            <a:off x="1066680" y="4038480"/>
            <a:ext cx="2971800" cy="198144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75" name="Picture 60" descr="1250076331_003"/>
          <p:cNvPicPr/>
          <p:nvPr/>
        </p:nvPicPr>
        <p:blipFill>
          <a:blip r:embed="rId7"/>
          <a:stretch/>
        </p:blipFill>
        <p:spPr>
          <a:xfrm>
            <a:off x="5410080" y="4038480"/>
            <a:ext cx="2975040" cy="198144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2" descr="S6307756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670572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0000"/>
                </a:solidFill>
                <a:latin typeface="Tahoma"/>
              </a:rPr>
              <a:t>День национального героя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78" name="Picture 7" descr="S6307838"/>
          <p:cNvPicPr/>
          <p:nvPr/>
        </p:nvPicPr>
        <p:blipFill>
          <a:blip r:embed="rId2"/>
          <a:stretch/>
        </p:blipFill>
        <p:spPr>
          <a:xfrm>
            <a:off x="914400" y="4038480"/>
            <a:ext cx="3276720" cy="24577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962520" y="1218960"/>
            <a:ext cx="5029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 Кировскую область Малмыжского района в начале августа каждый год отправляется официальная и творческая делегация из Республики Марий Эл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Одним из главных инициаторов проведения Дня национального героя являлся генеральный директор ООО «АкБатыр» Валерий Соловьев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0" name="Picture 10" descr="S6307667"/>
          <p:cNvPicPr/>
          <p:nvPr/>
        </p:nvPicPr>
        <p:blipFill>
          <a:blip r:embed="rId3"/>
          <a:stretch/>
        </p:blipFill>
        <p:spPr>
          <a:xfrm>
            <a:off x="914400" y="1143000"/>
            <a:ext cx="3276720" cy="24573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81" name="Picture 11" descr="R47CA2KMGQ5CA1KAK3MCAPC2KZICA1C2BSCCAH7COOACAHI6KX4CAWYY4ZTCA0NHU1OCAKX1EBMCAG672Z8CA4QTBH8CA2U13Q9CAYKCIFJCAXEPR4ECALS50CICA67LN6PCAFA0FWDCA8NRF01CA01QEB6"/>
          <p:cNvPicPr/>
          <p:nvPr/>
        </p:nvPicPr>
        <p:blipFill>
          <a:blip r:embed="rId4"/>
          <a:stretch/>
        </p:blipFill>
        <p:spPr>
          <a:xfrm>
            <a:off x="0" y="0"/>
            <a:ext cx="525600" cy="3429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2" descr="R47CA2KMGQ5CA1KAK3MCAPC2KZICA1C2BSCCAH7COOACAHI6KX4CAWYY4ZTCA0NHU1OCAKX1EBMCAG672Z8CA4QTBH8CA2U13Q9CAYKCIFJCAXEPR4ECALS50CICA67LN6PCAFA0FWDCA8NRF01CA01QEB6"/>
          <p:cNvPicPr/>
          <p:nvPr/>
        </p:nvPicPr>
        <p:blipFill>
          <a:blip r:embed="rId5"/>
          <a:stretch/>
        </p:blipFill>
        <p:spPr>
          <a:xfrm>
            <a:off x="0" y="3429000"/>
            <a:ext cx="5256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4" descr="S6307756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43000" y="304920"/>
            <a:ext cx="22017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0000"/>
                </a:solidFill>
                <a:latin typeface="Tahoma"/>
              </a:rPr>
              <a:t>Акпарс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240" y="1219320"/>
            <a:ext cx="48006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Акпарс – старейшина горных марийцев. Это имя связано с происходившей в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VI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веке войной против Казанского ханства. Акпарс был известен под именем Акказ, Кази – белый Кази. Имя Акпарс он получает за героизм при взятии Казани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Акпарс освобождает крепость Орол Кырык Салымхала. Войска Ивана Грозного не могли взять ее. По преданию Акпарс договорился о подвозе к крепости продовольствия, но в повозке вместо продуктов были воины Ивана Грозного. Они выскочили из повозок внутри города и крепость была взята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6" name="Picture 9" descr="S6307757"/>
          <p:cNvPicPr/>
          <p:nvPr/>
        </p:nvPicPr>
        <p:blipFill>
          <a:blip r:embed="rId2"/>
          <a:stretch/>
        </p:blipFill>
        <p:spPr>
          <a:xfrm>
            <a:off x="5181480" y="1066680"/>
            <a:ext cx="3741840" cy="498960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87" name="Picture 11" descr="R47CA2KMGQ5CA1KAK3MCAPC2KZICA1C2BSCCAH7COOACAHI6KX4CAWYY4ZTCA0NHU1OCAKX1EBMCAG672Z8CA4QTBH8CA2U13Q9CAYKCIFJCAXEPR4ECALS50CICA67LN6PCAFA0FWDCA8NRF01CA01QEB6"/>
          <p:cNvPicPr/>
          <p:nvPr/>
        </p:nvPicPr>
        <p:blipFill>
          <a:blip r:embed="rId3"/>
          <a:stretch/>
        </p:blipFill>
        <p:spPr>
          <a:xfrm>
            <a:off x="0" y="0"/>
            <a:ext cx="525600" cy="342900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12" descr="R47CA2KMGQ5CA1KAK3MCAPC2KZICA1C2BSCCAH7COOACAHI6KX4CAWYY4ZTCA0NHU1OCAKX1EBMCAG672Z8CA4QTBH8CA2U13Q9CAYKCIFJCAXEPR4ECALS50CICA67LN6PCAFA0FWDCA8NRF01CA01QEB6"/>
          <p:cNvPicPr/>
          <p:nvPr/>
        </p:nvPicPr>
        <p:blipFill>
          <a:blip r:embed="rId4"/>
          <a:stretch/>
        </p:blipFill>
        <p:spPr>
          <a:xfrm>
            <a:off x="0" y="3429000"/>
            <a:ext cx="5256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S6307756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362320" y="304920"/>
            <a:ext cx="410688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0000"/>
                </a:solidFill>
                <a:latin typeface="Tahoma"/>
              </a:rPr>
              <a:t>Марш Акпарс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886200" y="1371240"/>
            <a:ext cx="5068800" cy="47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уществует вторая версия взятия Казани. Акпарс завораживающе умел играть на гуслях. Он предложил Ивану Грозному хитростью взять Казань. Для этого он своей красивой игрой на инструменте должен отвлечь бдительность врага, а воины Ивана Грозного должны прорыть туннель и вложить порох под стены. Иван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V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соглашается, и благодаря Акпарсу Казань-город был взят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2" name="Picture 15" descr="R47CA2KMGQ5CA1KAK3MCAPC2KZICA1C2BSCCAH7COOACAHI6KX4CAWYY4ZTCA0NHU1OCAKX1EBMCAG672Z8CA4QTBH8CA2U13Q9CAYKCIFJCAXEPR4ECALS50CICA67LN6PCAFA0FWDCA8NRF01CA01QEB6"/>
          <p:cNvPicPr/>
          <p:nvPr/>
        </p:nvPicPr>
        <p:blipFill>
          <a:blip r:embed="rId2"/>
          <a:stretch/>
        </p:blipFill>
        <p:spPr>
          <a:xfrm>
            <a:off x="0" y="0"/>
            <a:ext cx="525600" cy="342900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6" descr="R47CA2KMGQ5CA1KAK3MCAPC2KZICA1C2BSCCAH7COOACAHI6KX4CAWYY4ZTCA0NHU1OCAKX1EBMCAG672Z8CA4QTBH8CA2U13Q9CAYKCIFJCAXEPR4ECALS50CICA67LN6PCAFA0FWDCA8NRF01CA01QEB6"/>
          <p:cNvPicPr/>
          <p:nvPr/>
        </p:nvPicPr>
        <p:blipFill>
          <a:blip r:embed="rId3"/>
          <a:stretch/>
        </p:blipFill>
        <p:spPr>
          <a:xfrm>
            <a:off x="0" y="3429000"/>
            <a:ext cx="525600" cy="34290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33" descr="774"/>
          <p:cNvPicPr/>
          <p:nvPr/>
        </p:nvPicPr>
        <p:blipFill>
          <a:blip r:embed="rId4"/>
          <a:stretch/>
        </p:blipFill>
        <p:spPr>
          <a:xfrm>
            <a:off x="533520" y="1676520"/>
            <a:ext cx="360036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S6307756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410688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0000"/>
                </a:solidFill>
                <a:latin typeface="Tahoma"/>
              </a:rPr>
              <a:t>Марш Акпарс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886200" y="1371240"/>
            <a:ext cx="5068800" cy="47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о третьей версии Акпарс сам со своими людьми роет туннель. Для того , чтобы узнать расстояние до стены он считает шаги, пока идет к ней, завораживающе играя на гуслях. По легенде Иван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V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до последнего подозревает марийского князя в измене. Но Казань была повержена не без помощи Акпарса. И русский царь в знак признательности дарит ему кинжал и седло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8" name="Picture 6" descr="R47CA2KMGQ5CA1KAK3MCAPC2KZICA1C2BSCCAH7COOACAHI6KX4CAWYY4ZTCA0NHU1OCAKX1EBMCAG672Z8CA4QTBH8CA2U13Q9CAYKCIFJCAXEPR4ECALS50CICA67LN6PCAFA0FWDCA8NRF01CA01QEB6"/>
          <p:cNvPicPr/>
          <p:nvPr/>
        </p:nvPicPr>
        <p:blipFill>
          <a:blip r:embed="rId2"/>
          <a:stretch/>
        </p:blipFill>
        <p:spPr>
          <a:xfrm>
            <a:off x="0" y="0"/>
            <a:ext cx="525600" cy="342900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7" descr="R47CA2KMGQ5CA1KAK3MCAPC2KZICA1C2BSCCAH7COOACAHI6KX4CAWYY4ZTCA0NHU1OCAKX1EBMCAG672Z8CA4QTBH8CA2U13Q9CAYKCIFJCAXEPR4ECALS50CICA67LN6PCAFA0FWDCA8NRF01CA01QEB6"/>
          <p:cNvPicPr/>
          <p:nvPr/>
        </p:nvPicPr>
        <p:blipFill>
          <a:blip r:embed="rId3"/>
          <a:stretch/>
        </p:blipFill>
        <p:spPr>
          <a:xfrm>
            <a:off x="0" y="3429000"/>
            <a:ext cx="525600" cy="342900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9" descr="gusly_7"/>
          <p:cNvPicPr/>
          <p:nvPr/>
        </p:nvPicPr>
        <p:blipFill>
          <a:blip r:embed="rId4"/>
          <a:stretch/>
        </p:blipFill>
        <p:spPr>
          <a:xfrm rot="21180000">
            <a:off x="838080" y="2438280"/>
            <a:ext cx="3200400" cy="23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2" descr="S6307756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42640" y="457200"/>
            <a:ext cx="662148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0000"/>
                </a:solidFill>
                <a:latin typeface="Tahoma"/>
              </a:rPr>
              <a:t>Благословление Акпарс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876920" y="1752480"/>
            <a:ext cx="3962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На Коркатовском повороте в Горномарийском районе установлена бронзовая скульптура Акпарсу. Памятник превратился в визитную карточку района. С ним связаны традиции. К монументу приезжают «за напутствием» молодожены. Водители останавливаются на Коркатовском повороте, чтобы получить благословление князя на дорогу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На постаменте памятника расположен бронзовый барельев с изображением сотного князя Акпарса и русского царя Ивана Грозного, пожимающих друг другу руки. «Паломники» дотрагиваются до царских рук и просят удачи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4" name="Picture 8" descr="R47CA2KMGQ5CA1KAK3MCAPC2KZICA1C2BSCCAH7COOACAHI6KX4CAWYY4ZTCA0NHU1OCAKX1EBMCAG672Z8CA4QTBH8CA2U13Q9CAYKCIFJCAXEPR4ECALS50CICA67LN6PCAFA0FWDCA8NRF01CA01QEB6"/>
          <p:cNvPicPr/>
          <p:nvPr/>
        </p:nvPicPr>
        <p:blipFill>
          <a:blip r:embed="rId2"/>
          <a:stretch/>
        </p:blipFill>
        <p:spPr>
          <a:xfrm>
            <a:off x="0" y="0"/>
            <a:ext cx="525600" cy="34290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9" descr="R47CA2KMGQ5CA1KAK3MCAPC2KZICA1C2BSCCAH7COOACAHI6KX4CAWYY4ZTCA0NHU1OCAKX1EBMCAG672Z8CA4QTBH8CA2U13Q9CAYKCIFJCAXEPR4ECALS50CICA67LN6PCAFA0FWDCA8NRF01CA01QEB6"/>
          <p:cNvPicPr/>
          <p:nvPr/>
        </p:nvPicPr>
        <p:blipFill>
          <a:blip r:embed="rId3"/>
          <a:stretch/>
        </p:blipFill>
        <p:spPr>
          <a:xfrm>
            <a:off x="0" y="3429000"/>
            <a:ext cx="525600" cy="34290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21" descr="peo_11"/>
          <p:cNvPicPr/>
          <p:nvPr/>
        </p:nvPicPr>
        <p:blipFill>
          <a:blip r:embed="rId4"/>
          <a:stretch/>
        </p:blipFill>
        <p:spPr>
          <a:xfrm>
            <a:off x="1447920" y="2133720"/>
            <a:ext cx="2641320" cy="198108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207" name="Picture 22" descr="S6307793"/>
          <p:cNvPicPr/>
          <p:nvPr/>
        </p:nvPicPr>
        <p:blipFill>
          <a:blip r:embed="rId5"/>
          <a:stretch/>
        </p:blipFill>
        <p:spPr>
          <a:xfrm>
            <a:off x="1447920" y="4419720"/>
            <a:ext cx="2641320" cy="198108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208" name="Picture 25" descr="images 4"/>
          <p:cNvPicPr/>
          <p:nvPr/>
        </p:nvPicPr>
        <p:blipFill>
          <a:blip r:embed="rId6"/>
          <a:stretch/>
        </p:blipFill>
        <p:spPr>
          <a:xfrm>
            <a:off x="3352680" y="1676520"/>
            <a:ext cx="1543320" cy="109692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27" descr="images 5"/>
          <p:cNvPicPr/>
          <p:nvPr/>
        </p:nvPicPr>
        <p:blipFill>
          <a:blip r:embed="rId7"/>
          <a:stretch/>
        </p:blipFill>
        <p:spPr>
          <a:xfrm>
            <a:off x="838080" y="3429000"/>
            <a:ext cx="835200" cy="16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2" descr="S6307756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43000" y="2666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0000"/>
                </a:solidFill>
                <a:latin typeface="Tahoma"/>
              </a:rPr>
              <a:t>Акпатыр и Акпарс два разных марийских национальных героя</a:t>
            </a: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523880" y="990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ahoma"/>
              </a:rPr>
              <a:t>Вывод: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3" name="Picture 7" descr="R47CA2KMGQ5CA1KAK3MCAPC2KZICA1C2BSCCAH7COOACAHI6KX4CAWYY4ZTCA0NHU1OCAKX1EBMCAG672Z8CA4QTBH8CA2U13Q9CAYKCIFJCAXEPR4ECALS50CICA67LN6PCAFA0FWDCA8NRF01CA01QEB6"/>
          <p:cNvPicPr/>
          <p:nvPr/>
        </p:nvPicPr>
        <p:blipFill>
          <a:blip r:embed="rId2"/>
          <a:stretch/>
        </p:blipFill>
        <p:spPr>
          <a:xfrm>
            <a:off x="0" y="0"/>
            <a:ext cx="525600" cy="342900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8" descr="R47CA2KMGQ5CA1KAK3MCAPC2KZICA1C2BSCCAH7COOACAHI6KX4CAWYY4ZTCA0NHU1OCAKX1EBMCAG672Z8CA4QTBH8CA2U13Q9CAYKCIFJCAXEPR4ECALS50CICA67LN6PCAFA0FWDCA8NRF01CA01QEB6"/>
          <p:cNvPicPr/>
          <p:nvPr/>
        </p:nvPicPr>
        <p:blipFill>
          <a:blip r:embed="rId3"/>
          <a:stretch/>
        </p:blipFill>
        <p:spPr>
          <a:xfrm>
            <a:off x="457200" y="0"/>
            <a:ext cx="525600" cy="342900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9" descr="R47CA2KMGQ5CA1KAK3MCAPC2KZICA1C2BSCCAH7COOACAHI6KX4CAWYY4ZTCA0NHU1OCAKX1EBMCAG672Z8CA4QTBH8CA2U13Q9CAYKCIFJCAXEPR4ECALS50CICA67LN6PCAFA0FWDCA8NRF01CA01QEB6"/>
          <p:cNvPicPr/>
          <p:nvPr/>
        </p:nvPicPr>
        <p:blipFill>
          <a:blip r:embed="rId4"/>
          <a:stretch/>
        </p:blipFill>
        <p:spPr>
          <a:xfrm>
            <a:off x="457200" y="3429000"/>
            <a:ext cx="525600" cy="342900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10" descr="R47CA2KMGQ5CA1KAK3MCAPC2KZICA1C2BSCCAH7COOACAHI6KX4CAWYY4ZTCA0NHU1OCAKX1EBMCAG672Z8CA4QTBH8CA2U13Q9CAYKCIFJCAXEPR4ECALS50CICA67LN6PCAFA0FWDCA8NRF01CA01QEB6"/>
          <p:cNvPicPr/>
          <p:nvPr/>
        </p:nvPicPr>
        <p:blipFill>
          <a:blip r:embed="rId5"/>
          <a:stretch/>
        </p:blipFill>
        <p:spPr>
          <a:xfrm>
            <a:off x="0" y="3429000"/>
            <a:ext cx="5256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2" descr="S6307756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Результаты исследования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1371240" y="2017800"/>
            <a:ext cx="758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Данную презентацию можно использовать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На классном часе, посвященному Дню национального геро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На уроках ИКН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На уроках марийского язык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Picture 5" descr="R47CA2KMGQ5CA1KAK3MCAPC2KZICA1C2BSCCAH7COOACAHI6KX4CAWYY4ZTCA0NHU1OCAKX1EBMCAG672Z8CA4QTBH8CA2U13Q9CAYKCIFJCAXEPR4ECALS50CICA67LN6PCAFA0FWDCA8NRF01CA01QEB6"/>
          <p:cNvPicPr/>
          <p:nvPr/>
        </p:nvPicPr>
        <p:blipFill>
          <a:blip r:embed="rId2"/>
          <a:stretch/>
        </p:blipFill>
        <p:spPr>
          <a:xfrm>
            <a:off x="0" y="0"/>
            <a:ext cx="525600" cy="342900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6" descr="R47CA2KMGQ5CA1KAK3MCAPC2KZICA1C2BSCCAH7COOACAHI6KX4CAWYY4ZTCA0NHU1OCAKX1EBMCAG672Z8CA4QTBH8CA2U13Q9CAYKCIFJCAXEPR4ECALS50CICA67LN6PCAFA0FWDCA8NRF01CA01QEB6"/>
          <p:cNvPicPr/>
          <p:nvPr/>
        </p:nvPicPr>
        <p:blipFill>
          <a:blip r:embed="rId3"/>
          <a:stretch/>
        </p:blipFill>
        <p:spPr>
          <a:xfrm>
            <a:off x="457200" y="0"/>
            <a:ext cx="525600" cy="342900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7" descr="R47CA2KMGQ5CA1KAK3MCAPC2KZICA1C2BSCCAH7COOACAHI6KX4CAWYY4ZTCA0NHU1OCAKX1EBMCAG672Z8CA4QTBH8CA2U13Q9CAYKCIFJCAXEPR4ECALS50CICA67LN6PCAFA0FWDCA8NRF01CA01QEB6"/>
          <p:cNvPicPr/>
          <p:nvPr/>
        </p:nvPicPr>
        <p:blipFill>
          <a:blip r:embed="rId4"/>
          <a:stretch/>
        </p:blipFill>
        <p:spPr>
          <a:xfrm>
            <a:off x="457200" y="3429000"/>
            <a:ext cx="525600" cy="342900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8" descr="R47CA2KMGQ5CA1KAK3MCAPC2KZICA1C2BSCCAH7COOACAHI6KX4CAWYY4ZTCA0NHU1OCAKX1EBMCAG672Z8CA4QTBH8CA2U13Q9CAYKCIFJCAXEPR4ECALS50CICA67LN6PCAFA0FWDCA8NRF01CA01QEB6"/>
          <p:cNvPicPr/>
          <p:nvPr/>
        </p:nvPicPr>
        <p:blipFill>
          <a:blip r:embed="rId5"/>
          <a:stretch/>
        </p:blipFill>
        <p:spPr>
          <a:xfrm>
            <a:off x="0" y="3429000"/>
            <a:ext cx="5256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2" descr="S6307756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Планы на будущее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1371240" y="2017800"/>
            <a:ext cx="758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Рассказать об Акпатыре и Акпарсе обучающимся нашей школы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родолжить исследовательскую работу по теме «Марийский национальный герой». Найти информацию об Онаре, Чоткаре, Чумбылате, Полтыше, Мамич Бердее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9" name="Picture 6" descr="R47CA2KMGQ5CA1KAK3MCAPC2KZICA1C2BSCCAH7COOACAHI6KX4CAWYY4ZTCA0NHU1OCAKX1EBMCAG672Z8CA4QTBH8CA2U13Q9CAYKCIFJCAXEPR4ECALS50CICA67LN6PCAFA0FWDCA8NRF01CA01QEB6"/>
          <p:cNvPicPr/>
          <p:nvPr/>
        </p:nvPicPr>
        <p:blipFill>
          <a:blip r:embed="rId2"/>
          <a:stretch/>
        </p:blipFill>
        <p:spPr>
          <a:xfrm>
            <a:off x="0" y="0"/>
            <a:ext cx="525600" cy="342900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7" descr="R47CA2KMGQ5CA1KAK3MCAPC2KZICA1C2BSCCAH7COOACAHI6KX4CAWYY4ZTCA0NHU1OCAKX1EBMCAG672Z8CA4QTBH8CA2U13Q9CAYKCIFJCAXEPR4ECALS50CICA67LN6PCAFA0FWDCA8NRF01CA01QEB6"/>
          <p:cNvPicPr/>
          <p:nvPr/>
        </p:nvPicPr>
        <p:blipFill>
          <a:blip r:embed="rId3"/>
          <a:stretch/>
        </p:blipFill>
        <p:spPr>
          <a:xfrm>
            <a:off x="457200" y="0"/>
            <a:ext cx="525600" cy="342900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8" descr="R47CA2KMGQ5CA1KAK3MCAPC2KZICA1C2BSCCAH7COOACAHI6KX4CAWYY4ZTCA0NHU1OCAKX1EBMCAG672Z8CA4QTBH8CA2U13Q9CAYKCIFJCAXEPR4ECALS50CICA67LN6PCAFA0FWDCA8NRF01CA01QEB6"/>
          <p:cNvPicPr/>
          <p:nvPr/>
        </p:nvPicPr>
        <p:blipFill>
          <a:blip r:embed="rId4"/>
          <a:stretch/>
        </p:blipFill>
        <p:spPr>
          <a:xfrm>
            <a:off x="457200" y="3429000"/>
            <a:ext cx="525600" cy="342900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9" descr="R47CA2KMGQ5CA1KAK3MCAPC2KZICA1C2BSCCAH7COOACAHI6KX4CAWYY4ZTCA0NHU1OCAKX1EBMCAG672Z8CA4QTBH8CA2U13Q9CAYKCIFJCAXEPR4ECALS50CICA67LN6PCAFA0FWDCA8NRF01CA01QEB6"/>
          <p:cNvPicPr/>
          <p:nvPr/>
        </p:nvPicPr>
        <p:blipFill>
          <a:blip r:embed="rId5"/>
          <a:stretch/>
        </p:blipFill>
        <p:spPr>
          <a:xfrm>
            <a:off x="0" y="3429000"/>
            <a:ext cx="5256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2" descr="S6307702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0000"/>
                </a:solidFill>
                <a:latin typeface="Tahoma"/>
              </a:rPr>
              <a:t>Чумбылат и Чоткар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364000" y="2420640"/>
            <a:ext cx="3780000" cy="249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В чем разница?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36" name="Picture 7" descr="R47CA2KMGQ5CA1KAK3MCAPC2KZICA1C2BSCCAH7COOACAHI6KX4CAWYY4ZTCA0NHU1OCAKX1EBMCAG672Z8CA4QTBH8CA2U13Q9CAYKCIFJCAXEPR4ECALS50CICA67LN6PCAFA0FWDCA8NRF01CA01QEB6"/>
          <p:cNvPicPr/>
          <p:nvPr/>
        </p:nvPicPr>
        <p:blipFill>
          <a:blip r:embed="rId2"/>
          <a:stretch/>
        </p:blipFill>
        <p:spPr>
          <a:xfrm>
            <a:off x="0" y="0"/>
            <a:ext cx="525600" cy="342900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8" descr="R47CA2KMGQ5CA1KAK3MCAPC2KZICA1C2BSCCAH7COOACAHI6KX4CAWYY4ZTCA0NHU1OCAKX1EBMCAG672Z8CA4QTBH8CA2U13Q9CAYKCIFJCAXEPR4ECALS50CICA67LN6PCAFA0FWDCA8NRF01CA01QEB6"/>
          <p:cNvPicPr/>
          <p:nvPr/>
        </p:nvPicPr>
        <p:blipFill>
          <a:blip r:embed="rId3"/>
          <a:stretch/>
        </p:blipFill>
        <p:spPr>
          <a:xfrm>
            <a:off x="468360" y="0"/>
            <a:ext cx="525240" cy="342900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9" descr="R47CA2KMGQ5CA1KAK3MCAPC2KZICA1C2BSCCAH7COOACAHI6KX4CAWYY4ZTCA0NHU1OCAKX1EBMCAG672Z8CA4QTBH8CA2U13Q9CAYKCIFJCAXEPR4ECALS50CICA67LN6PCAFA0FWDCA8NRF01CA01QEB6"/>
          <p:cNvPicPr/>
          <p:nvPr/>
        </p:nvPicPr>
        <p:blipFill>
          <a:blip r:embed="rId4"/>
          <a:stretch/>
        </p:blipFill>
        <p:spPr>
          <a:xfrm>
            <a:off x="0" y="3429000"/>
            <a:ext cx="525600" cy="342900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10" descr="R47CA2KMGQ5CA1KAK3MCAPC2KZICA1C2BSCCAH7COOACAHI6KX4CAWYY4ZTCA0NHU1OCAKX1EBMCAG672Z8CA4QTBH8CA2U13Q9CAYKCIFJCAXEPR4ECALS50CICA67LN6PCAFA0FWDCA8NRF01CA01QEB6"/>
          <p:cNvPicPr/>
          <p:nvPr/>
        </p:nvPicPr>
        <p:blipFill>
          <a:blip r:embed="rId5"/>
          <a:stretch/>
        </p:blipFill>
        <p:spPr>
          <a:xfrm>
            <a:off x="468360" y="3429000"/>
            <a:ext cx="525240" cy="342900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12" descr="S6307847"/>
          <p:cNvPicPr/>
          <p:nvPr/>
        </p:nvPicPr>
        <p:blipFill>
          <a:blip r:embed="rId6"/>
          <a:stretch/>
        </p:blipFill>
        <p:spPr>
          <a:xfrm>
            <a:off x="1219320" y="1828800"/>
            <a:ext cx="2641320" cy="198108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14" descr="S6307765"/>
          <p:cNvPicPr/>
          <p:nvPr/>
        </p:nvPicPr>
        <p:blipFill>
          <a:blip r:embed="rId7"/>
          <a:stretch/>
        </p:blipFill>
        <p:spPr>
          <a:xfrm>
            <a:off x="3352680" y="3352680"/>
            <a:ext cx="1981440" cy="26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S6307756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0000"/>
                </a:solidFill>
                <a:latin typeface="Tahoma"/>
              </a:rPr>
              <a:t>Два героя или два имени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08" name="Object 10"/>
          <p:cNvGraphicFramePr/>
          <p:nvPr/>
        </p:nvGraphicFramePr>
        <p:xfrm>
          <a:off x="1187280" y="2017800"/>
          <a:ext cx="7809120" cy="4130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9" name="Object 1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87280" y="2017800"/>
                    <a:ext cx="7809120" cy="413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0" name="Picture 5" descr="R47CA2KMGQ5CA1KAK3MCAPC2KZICA1C2BSCCAH7COOACAHI6KX4CAWYY4ZTCA0NHU1OCAKX1EBMCAG672Z8CA4QTBH8CA2U13Q9CAYKCIFJCAXEPR4ECALS50CICA67LN6PCAFA0FWDCA8NRF01CA01QEB6"/>
          <p:cNvPicPr/>
          <p:nvPr/>
        </p:nvPicPr>
        <p:blipFill>
          <a:blip r:embed="rId4"/>
          <a:stretch/>
        </p:blipFill>
        <p:spPr>
          <a:xfrm>
            <a:off x="0" y="0"/>
            <a:ext cx="525600" cy="34290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6" descr="R47CA2KMGQ5CA1KAK3MCAPC2KZICA1C2BSCCAH7COOACAHI6KX4CAWYY4ZTCA0NHU1OCAKX1EBMCAG672Z8CA4QTBH8CA2U13Q9CAYKCIFJCAXEPR4ECALS50CICA67LN6PCAFA0FWDCA8NRF01CA01QEB6"/>
          <p:cNvPicPr/>
          <p:nvPr/>
        </p:nvPicPr>
        <p:blipFill>
          <a:blip r:embed="rId5"/>
          <a:stretch/>
        </p:blipFill>
        <p:spPr>
          <a:xfrm>
            <a:off x="457200" y="0"/>
            <a:ext cx="525600" cy="34290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7" descr="R47CA2KMGQ5CA1KAK3MCAPC2KZICA1C2BSCCAH7COOACAHI6KX4CAWYY4ZTCA0NHU1OCAKX1EBMCAG672Z8CA4QTBH8CA2U13Q9CAYKCIFJCAXEPR4ECALS50CICA67LN6PCAFA0FWDCA8NRF01CA01QEB6"/>
          <p:cNvPicPr/>
          <p:nvPr/>
        </p:nvPicPr>
        <p:blipFill>
          <a:blip r:embed="rId6"/>
          <a:stretch/>
        </p:blipFill>
        <p:spPr>
          <a:xfrm>
            <a:off x="457200" y="3429000"/>
            <a:ext cx="525600" cy="34290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8" descr="R47CA2KMGQ5CA1KAK3MCAPC2KZICA1C2BSCCAH7COOACAHI6KX4CAWYY4ZTCA0NHU1OCAKX1EBMCAG672Z8CA4QTBH8CA2U13Q9CAYKCIFJCAXEPR4ECALS50CICA67LN6PCAFA0FWDCA8NRF01CA01QEB6"/>
          <p:cNvPicPr/>
          <p:nvPr/>
        </p:nvPicPr>
        <p:blipFill>
          <a:blip r:embed="rId7"/>
          <a:stretch/>
        </p:blipFill>
        <p:spPr>
          <a:xfrm>
            <a:off x="0" y="3429000"/>
            <a:ext cx="5256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10" descr="S6307702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0000"/>
                </a:solidFill>
                <a:latin typeface="Tahoma"/>
              </a:rPr>
              <a:t>Онар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Были ли такие великаны?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45" name="Picture 4" descr="S6307764"/>
          <p:cNvPicPr/>
          <p:nvPr/>
        </p:nvPicPr>
        <p:blipFill>
          <a:blip r:embed="rId2"/>
          <a:stretch/>
        </p:blipFill>
        <p:spPr>
          <a:xfrm>
            <a:off x="2971800" y="685800"/>
            <a:ext cx="1981080" cy="264168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5" descr="S6307772"/>
          <p:cNvPicPr/>
          <p:nvPr/>
        </p:nvPicPr>
        <p:blipFill>
          <a:blip r:embed="rId3"/>
          <a:stretch/>
        </p:blipFill>
        <p:spPr>
          <a:xfrm>
            <a:off x="1332000" y="3716280"/>
            <a:ext cx="3652920" cy="273996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6" descr="R47CA2KMGQ5CA1KAK3MCAPC2KZICA1C2BSCCAH7COOACAHI6KX4CAWYY4ZTCA0NHU1OCAKX1EBMCAG672Z8CA4QTBH8CA2U13Q9CAYKCIFJCAXEPR4ECALS50CICA67LN6PCAFA0FWDCA8NRF01CA01QEB6"/>
          <p:cNvPicPr/>
          <p:nvPr/>
        </p:nvPicPr>
        <p:blipFill>
          <a:blip r:embed="rId4"/>
          <a:stretch/>
        </p:blipFill>
        <p:spPr>
          <a:xfrm>
            <a:off x="0" y="0"/>
            <a:ext cx="525600" cy="342900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7" descr="R47CA2KMGQ5CA1KAK3MCAPC2KZICA1C2BSCCAH7COOACAHI6KX4CAWYY4ZTCA0NHU1OCAKX1EBMCAG672Z8CA4QTBH8CA2U13Q9CAYKCIFJCAXEPR4ECALS50CICA67LN6PCAFA0FWDCA8NRF01CA01QEB6"/>
          <p:cNvPicPr/>
          <p:nvPr/>
        </p:nvPicPr>
        <p:blipFill>
          <a:blip r:embed="rId5"/>
          <a:stretch/>
        </p:blipFill>
        <p:spPr>
          <a:xfrm>
            <a:off x="0" y="3429000"/>
            <a:ext cx="525600" cy="342900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8" descr="R47CA2KMGQ5CA1KAK3MCAPC2KZICA1C2BSCCAH7COOACAHI6KX4CAWYY4ZTCA0NHU1OCAKX1EBMCAG672Z8CA4QTBH8CA2U13Q9CAYKCIFJCAXEPR4ECALS50CICA67LN6PCAFA0FWDCA8NRF01CA01QEB6"/>
          <p:cNvPicPr/>
          <p:nvPr/>
        </p:nvPicPr>
        <p:blipFill>
          <a:blip r:embed="rId6"/>
          <a:stretch/>
        </p:blipFill>
        <p:spPr>
          <a:xfrm>
            <a:off x="468360" y="0"/>
            <a:ext cx="525240" cy="342900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9" descr="R47CA2KMGQ5CA1KAK3MCAPC2KZICA1C2BSCCAH7COOACAHI6KX4CAWYY4ZTCA0NHU1OCAKX1EBMCAG672Z8CA4QTBH8CA2U13Q9CAYKCIFJCAXEPR4ECALS50CICA67LN6PCAFA0FWDCA8NRF01CA01QEB6"/>
          <p:cNvPicPr/>
          <p:nvPr/>
        </p:nvPicPr>
        <p:blipFill>
          <a:blip r:embed="rId7"/>
          <a:stretch/>
        </p:blipFill>
        <p:spPr>
          <a:xfrm>
            <a:off x="468360" y="3429000"/>
            <a:ext cx="52524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2" descr="S6307702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0000"/>
                </a:solidFill>
                <a:latin typeface="Tahoma"/>
              </a:rPr>
              <a:t>Полтыш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Достоин ли он памятника на горе Полтыша?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54" name="Picture 5" descr="S6307700"/>
          <p:cNvPicPr/>
          <p:nvPr/>
        </p:nvPicPr>
        <p:blipFill>
          <a:blip r:embed="rId2"/>
          <a:stretch/>
        </p:blipFill>
        <p:spPr>
          <a:xfrm>
            <a:off x="6477120" y="228600"/>
            <a:ext cx="2109600" cy="158256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6" descr="R47CA2KMGQ5CA1KAK3MCAPC2KZICA1C2BSCCAH7COOACAHI6KX4CAWYY4ZTCA0NHU1OCAKX1EBMCAG672Z8CA4QTBH8CA2U13Q9CAYKCIFJCAXEPR4ECALS50CICA67LN6PCAFA0FWDCA8NRF01CA01QEB6"/>
          <p:cNvPicPr/>
          <p:nvPr/>
        </p:nvPicPr>
        <p:blipFill>
          <a:blip r:embed="rId3"/>
          <a:stretch/>
        </p:blipFill>
        <p:spPr>
          <a:xfrm>
            <a:off x="0" y="0"/>
            <a:ext cx="525600" cy="342900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7" descr="R47CA2KMGQ5CA1KAK3MCAPC2KZICA1C2BSCCAH7COOACAHI6KX4CAWYY4ZTCA0NHU1OCAKX1EBMCAG672Z8CA4QTBH8CA2U13Q9CAYKCIFJCAXEPR4ECALS50CICA67LN6PCAFA0FWDCA8NRF01CA01QEB6"/>
          <p:cNvPicPr/>
          <p:nvPr/>
        </p:nvPicPr>
        <p:blipFill>
          <a:blip r:embed="rId4"/>
          <a:stretch/>
        </p:blipFill>
        <p:spPr>
          <a:xfrm>
            <a:off x="468360" y="0"/>
            <a:ext cx="525240" cy="342900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8" descr="R47CA2KMGQ5CA1KAK3MCAPC2KZICA1C2BSCCAH7COOACAHI6KX4CAWYY4ZTCA0NHU1OCAKX1EBMCAG672Z8CA4QTBH8CA2U13Q9CAYKCIFJCAXEPR4ECALS50CICA67LN6PCAFA0FWDCA8NRF01CA01QEB6"/>
          <p:cNvPicPr/>
          <p:nvPr/>
        </p:nvPicPr>
        <p:blipFill>
          <a:blip r:embed="rId5"/>
          <a:stretch/>
        </p:blipFill>
        <p:spPr>
          <a:xfrm>
            <a:off x="0" y="3429000"/>
            <a:ext cx="525600" cy="342900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9" descr="R47CA2KMGQ5CA1KAK3MCAPC2KZICA1C2BSCCAH7COOACAHI6KX4CAWYY4ZTCA0NHU1OCAKX1EBMCAG672Z8CA4QTBH8CA2U13Q9CAYKCIFJCAXEPR4ECALS50CICA67LN6PCAFA0FWDCA8NRF01CA01QEB6"/>
          <p:cNvPicPr/>
          <p:nvPr/>
        </p:nvPicPr>
        <p:blipFill>
          <a:blip r:embed="rId6"/>
          <a:stretch/>
        </p:blipFill>
        <p:spPr>
          <a:xfrm>
            <a:off x="468360" y="3429000"/>
            <a:ext cx="525240" cy="342900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10" descr="Легенда о Полтыше"/>
          <p:cNvPicPr/>
          <p:nvPr/>
        </p:nvPicPr>
        <p:blipFill>
          <a:blip r:embed="rId7"/>
          <a:stretch/>
        </p:blipFill>
        <p:spPr>
          <a:xfrm>
            <a:off x="1143000" y="2438280"/>
            <a:ext cx="3962520" cy="27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Picture 2" descr="S6307702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0000"/>
                </a:solidFill>
                <a:latin typeface="Tahoma"/>
              </a:rPr>
              <a:t>Мамич Бердей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555640" y="5300640"/>
            <a:ext cx="582588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Враг или патриот?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63" name="Picture 5" descr="R47CA2KMGQ5CA1KAK3MCAPC2KZICA1C2BSCCAH7COOACAHI6KX4CAWYY4ZTCA0NHU1OCAKX1EBMCAG672Z8CA4QTBH8CA2U13Q9CAYKCIFJCAXEPR4ECALS50CICA67LN6PCAFA0FWDCA8NRF01CA01QEB6"/>
          <p:cNvPicPr/>
          <p:nvPr/>
        </p:nvPicPr>
        <p:blipFill>
          <a:blip r:embed="rId2"/>
          <a:stretch/>
        </p:blipFill>
        <p:spPr>
          <a:xfrm>
            <a:off x="468360" y="0"/>
            <a:ext cx="525240" cy="34290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6" descr="R47CA2KMGQ5CA1KAK3MCAPC2KZICA1C2BSCCAH7COOACAHI6KX4CAWYY4ZTCA0NHU1OCAKX1EBMCAG672Z8CA4QTBH8CA2U13Q9CAYKCIFJCAXEPR4ECALS50CICA67LN6PCAFA0FWDCA8NRF01CA01QEB6"/>
          <p:cNvPicPr/>
          <p:nvPr/>
        </p:nvPicPr>
        <p:blipFill>
          <a:blip r:embed="rId3"/>
          <a:stretch/>
        </p:blipFill>
        <p:spPr>
          <a:xfrm>
            <a:off x="0" y="0"/>
            <a:ext cx="525600" cy="342900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7" descr="R47CA2KMGQ5CA1KAK3MCAPC2KZICA1C2BSCCAH7COOACAHI6KX4CAWYY4ZTCA0NHU1OCAKX1EBMCAG672Z8CA4QTBH8CA2U13Q9CAYKCIFJCAXEPR4ECALS50CICA67LN6PCAFA0FWDCA8NRF01CA01QEB6"/>
          <p:cNvPicPr/>
          <p:nvPr/>
        </p:nvPicPr>
        <p:blipFill>
          <a:blip r:embed="rId4"/>
          <a:stretch/>
        </p:blipFill>
        <p:spPr>
          <a:xfrm>
            <a:off x="468360" y="3429000"/>
            <a:ext cx="525240" cy="342900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8" descr="R47CA2KMGQ5CA1KAK3MCAPC2KZICA1C2BSCCAH7COOACAHI6KX4CAWYY4ZTCA0NHU1OCAKX1EBMCAG672Z8CA4QTBH8CA2U13Q9CAYKCIFJCAXEPR4ECALS50CICA67LN6PCAFA0FWDCA8NRF01CA01QEB6"/>
          <p:cNvPicPr/>
          <p:nvPr/>
        </p:nvPicPr>
        <p:blipFill>
          <a:blip r:embed="rId5"/>
          <a:stretch/>
        </p:blipFill>
        <p:spPr>
          <a:xfrm>
            <a:off x="0" y="3429000"/>
            <a:ext cx="525600" cy="342900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9" descr="Г"/>
          <p:cNvPicPr/>
          <p:nvPr/>
        </p:nvPicPr>
        <p:blipFill>
          <a:blip r:embed="rId6"/>
          <a:stretch/>
        </p:blipFill>
        <p:spPr>
          <a:xfrm>
            <a:off x="2268360" y="1989000"/>
            <a:ext cx="4681800" cy="321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Picture 2" descr="S6307756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639288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0000"/>
                </a:solidFill>
                <a:latin typeface="Tahoma"/>
              </a:rPr>
              <a:t>Используемая литература и Интернет ресурсы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1371240" y="2017800"/>
            <a:ext cx="758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72" name="Picture 6" descr="R47CA2KMGQ5CA1KAK3MCAPC2KZICA1C2BSCCAH7COOACAHI6KX4CAWYY4ZTCA0NHU1OCAKX1EBMCAG672Z8CA4QTBH8CA2U13Q9CAYKCIFJCAXEPR4ECALS50CICA67LN6PCAFA0FWDCA8NRF01CA01QEB6"/>
          <p:cNvPicPr/>
          <p:nvPr/>
        </p:nvPicPr>
        <p:blipFill>
          <a:blip r:embed="rId2"/>
          <a:stretch/>
        </p:blipFill>
        <p:spPr>
          <a:xfrm>
            <a:off x="0" y="0"/>
            <a:ext cx="525600" cy="342900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7" descr="R47CA2KMGQ5CA1KAK3MCAPC2KZICA1C2BSCCAH7COOACAHI6KX4CAWYY4ZTCA0NHU1OCAKX1EBMCAG672Z8CA4QTBH8CA2U13Q9CAYKCIFJCAXEPR4ECALS50CICA67LN6PCAFA0FWDCA8NRF01CA01QEB6"/>
          <p:cNvPicPr/>
          <p:nvPr/>
        </p:nvPicPr>
        <p:blipFill>
          <a:blip r:embed="rId3"/>
          <a:stretch/>
        </p:blipFill>
        <p:spPr>
          <a:xfrm>
            <a:off x="457200" y="0"/>
            <a:ext cx="525600" cy="342900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8" descr="R47CA2KMGQ5CA1KAK3MCAPC2KZICA1C2BSCCAH7COOACAHI6KX4CAWYY4ZTCA0NHU1OCAKX1EBMCAG672Z8CA4QTBH8CA2U13Q9CAYKCIFJCAXEPR4ECALS50CICA67LN6PCAFA0FWDCA8NRF01CA01QEB6"/>
          <p:cNvPicPr/>
          <p:nvPr/>
        </p:nvPicPr>
        <p:blipFill>
          <a:blip r:embed="rId4"/>
          <a:stretch/>
        </p:blipFill>
        <p:spPr>
          <a:xfrm>
            <a:off x="457200" y="3429000"/>
            <a:ext cx="525600" cy="342900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9" descr="R47CA2KMGQ5CA1KAK3MCAPC2KZICA1C2BSCCAH7COOACAHI6KX4CAWYY4ZTCA0NHU1OCAKX1EBMCAG672Z8CA4QTBH8CA2U13Q9CAYKCIFJCAXEPR4ECALS50CICA67LN6PCAFA0FWDCA8NRF01CA01QEB6"/>
          <p:cNvPicPr/>
          <p:nvPr/>
        </p:nvPicPr>
        <p:blipFill>
          <a:blip r:embed="rId5"/>
          <a:stretch/>
        </p:blipFill>
        <p:spPr>
          <a:xfrm>
            <a:off x="0" y="3429000"/>
            <a:ext cx="5256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Picture 2" descr="S6307756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2819160" y="2514240"/>
            <a:ext cx="43434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0000"/>
                </a:solidFill>
                <a:latin typeface="Tahoma"/>
              </a:rPr>
              <a:t>Благодарим </a:t>
            </a:r>
            <a:br>
              <a:rPr sz="4400"/>
            </a:br>
            <a:r>
              <a:rPr b="0" lang="ru-RU" sz="4400" spc="-1" strike="noStrike">
                <a:solidFill>
                  <a:srgbClr val="cc0000"/>
                </a:solidFill>
                <a:latin typeface="Tahoma"/>
              </a:rPr>
              <a:t>за внимание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78" name="Picture 5" descr="R47CA2KMGQ5CA1KAK3MCAPC2KZICA1C2BSCCAH7COOACAHI6KX4CAWYY4ZTCA0NHU1OCAKX1EBMCAG672Z8CA4QTBH8CA2U13Q9CAYKCIFJCAXEPR4ECALS50CICA67LN6PCAFA0FWDCA8NRF01CA01QEB6"/>
          <p:cNvPicPr/>
          <p:nvPr/>
        </p:nvPicPr>
        <p:blipFill>
          <a:blip r:embed="rId2"/>
          <a:stretch/>
        </p:blipFill>
        <p:spPr>
          <a:xfrm>
            <a:off x="0" y="0"/>
            <a:ext cx="525600" cy="342900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6" descr="R47CA2KMGQ5CA1KAK3MCAPC2KZICA1C2BSCCAH7COOACAHI6KX4CAWYY4ZTCA0NHU1OCAKX1EBMCAG672Z8CA4QTBH8CA2U13Q9CAYKCIFJCAXEPR4ECALS50CICA67LN6PCAFA0FWDCA8NRF01CA01QEB6"/>
          <p:cNvPicPr/>
          <p:nvPr/>
        </p:nvPicPr>
        <p:blipFill>
          <a:blip r:embed="rId3"/>
          <a:stretch/>
        </p:blipFill>
        <p:spPr>
          <a:xfrm>
            <a:off x="457200" y="0"/>
            <a:ext cx="525600" cy="342900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7" descr="R47CA2KMGQ5CA1KAK3MCAPC2KZICA1C2BSCCAH7COOACAHI6KX4CAWYY4ZTCA0NHU1OCAKX1EBMCAG672Z8CA4QTBH8CA2U13Q9CAYKCIFJCAXEPR4ECALS50CICA67LN6PCAFA0FWDCA8NRF01CA01QEB6"/>
          <p:cNvPicPr/>
          <p:nvPr/>
        </p:nvPicPr>
        <p:blipFill>
          <a:blip r:embed="rId4"/>
          <a:stretch/>
        </p:blipFill>
        <p:spPr>
          <a:xfrm>
            <a:off x="457200" y="3429000"/>
            <a:ext cx="525600" cy="342900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8" descr="R47CA2KMGQ5CA1KAK3MCAPC2KZICA1C2BSCCAH7COOACAHI6KX4CAWYY4ZTCA0NHU1OCAKX1EBMCAG672Z8CA4QTBH8CA2U13Q9CAYKCIFJCAXEPR4ECALS50CICA67LN6PCAFA0FWDCA8NRF01CA01QEB6"/>
          <p:cNvPicPr/>
          <p:nvPr/>
        </p:nvPicPr>
        <p:blipFill>
          <a:blip r:embed="rId5"/>
          <a:stretch/>
        </p:blipFill>
        <p:spPr>
          <a:xfrm>
            <a:off x="0" y="3429000"/>
            <a:ext cx="5256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" descr="S6307756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94920" y="1066680"/>
            <a:ext cx="5715000" cy="85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0000"/>
                </a:solidFill>
                <a:latin typeface="Tahoma"/>
              </a:rPr>
              <a:t>Проблемный вопрос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219320" y="2895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Два героя или два имени?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7" name="Picture 9" descr="R47CA2KMGQ5CA1KAK3MCAPC2KZICA1C2BSCCAH7COOACAHI6KX4CAWYY4ZTCA0NHU1OCAKX1EBMCAG672Z8CA4QTBH8CA2U13Q9CAYKCIFJCAXEPR4ECALS50CICA67LN6PCAFA0FWDCA8NRF01CA01QEB6"/>
          <p:cNvPicPr/>
          <p:nvPr/>
        </p:nvPicPr>
        <p:blipFill>
          <a:blip r:embed="rId2"/>
          <a:stretch/>
        </p:blipFill>
        <p:spPr>
          <a:xfrm>
            <a:off x="0" y="0"/>
            <a:ext cx="525600" cy="34290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0" descr="R47CA2KMGQ5CA1KAK3MCAPC2KZICA1C2BSCCAH7COOACAHI6KX4CAWYY4ZTCA0NHU1OCAKX1EBMCAG672Z8CA4QTBH8CA2U13Q9CAYKCIFJCAXEPR4ECALS50CICA67LN6PCAFA0FWDCA8NRF01CA01QEB6"/>
          <p:cNvPicPr/>
          <p:nvPr/>
        </p:nvPicPr>
        <p:blipFill>
          <a:blip r:embed="rId3"/>
          <a:stretch/>
        </p:blipFill>
        <p:spPr>
          <a:xfrm>
            <a:off x="457200" y="0"/>
            <a:ext cx="525600" cy="34290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1" descr="R47CA2KMGQ5CA1KAK3MCAPC2KZICA1C2BSCCAH7COOACAHI6KX4CAWYY4ZTCA0NHU1OCAKX1EBMCAG672Z8CA4QTBH8CA2U13Q9CAYKCIFJCAXEPR4ECALS50CICA67LN6PCAFA0FWDCA8NRF01CA01QEB6"/>
          <p:cNvPicPr/>
          <p:nvPr/>
        </p:nvPicPr>
        <p:blipFill>
          <a:blip r:embed="rId4"/>
          <a:stretch/>
        </p:blipFill>
        <p:spPr>
          <a:xfrm>
            <a:off x="457200" y="3429000"/>
            <a:ext cx="525600" cy="34290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2" descr="R47CA2KMGQ5CA1KAK3MCAPC2KZICA1C2BSCCAH7COOACAHI6KX4CAWYY4ZTCA0NHU1OCAKX1EBMCAG672Z8CA4QTBH8CA2U13Q9CAYKCIFJCAXEPR4ECALS50CICA67LN6PCAFA0FWDCA8NRF01CA01QEB6"/>
          <p:cNvPicPr/>
          <p:nvPr/>
        </p:nvPicPr>
        <p:blipFill>
          <a:blip r:embed="rId5"/>
          <a:stretch/>
        </p:blipFill>
        <p:spPr>
          <a:xfrm>
            <a:off x="0" y="3429000"/>
            <a:ext cx="5256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2" descr="S6307756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3520" y="1294920"/>
            <a:ext cx="251460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0000"/>
                </a:solidFill>
                <a:latin typeface="Tahoma"/>
              </a:rPr>
              <a:t>Гипотеза: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Акпатыр и Акпарс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два разных национальных героя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5" descr="R47CA2KMGQ5CA1KAK3MCAPC2KZICA1C2BSCCAH7COOACAHI6KX4CAWYY4ZTCA0NHU1OCAKX1EBMCAG672Z8CA4QTBH8CA2U13Q9CAYKCIFJCAXEPR4ECALS50CICA67LN6PCAFA0FWDCA8NRF01CA01QEB6"/>
          <p:cNvPicPr/>
          <p:nvPr/>
        </p:nvPicPr>
        <p:blipFill>
          <a:blip r:embed="rId2"/>
          <a:stretch/>
        </p:blipFill>
        <p:spPr>
          <a:xfrm>
            <a:off x="0" y="0"/>
            <a:ext cx="525600" cy="34290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6" descr="R47CA2KMGQ5CA1KAK3MCAPC2KZICA1C2BSCCAH7COOACAHI6KX4CAWYY4ZTCA0NHU1OCAKX1EBMCAG672Z8CA4QTBH8CA2U13Q9CAYKCIFJCAXEPR4ECALS50CICA67LN6PCAFA0FWDCA8NRF01CA01QEB6"/>
          <p:cNvPicPr/>
          <p:nvPr/>
        </p:nvPicPr>
        <p:blipFill>
          <a:blip r:embed="rId3"/>
          <a:stretch/>
        </p:blipFill>
        <p:spPr>
          <a:xfrm>
            <a:off x="457200" y="0"/>
            <a:ext cx="525600" cy="34290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7" descr="R47CA2KMGQ5CA1KAK3MCAPC2KZICA1C2BSCCAH7COOACAHI6KX4CAWYY4ZTCA0NHU1OCAKX1EBMCAG672Z8CA4QTBH8CA2U13Q9CAYKCIFJCAXEPR4ECALS50CICA67LN6PCAFA0FWDCA8NRF01CA01QEB6"/>
          <p:cNvPicPr/>
          <p:nvPr/>
        </p:nvPicPr>
        <p:blipFill>
          <a:blip r:embed="rId4"/>
          <a:stretch/>
        </p:blipFill>
        <p:spPr>
          <a:xfrm>
            <a:off x="457200" y="3429000"/>
            <a:ext cx="525600" cy="34290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8" descr="R47CA2KMGQ5CA1KAK3MCAPC2KZICA1C2BSCCAH7COOACAHI6KX4CAWYY4ZTCA0NHU1OCAKX1EBMCAG672Z8CA4QTBH8CA2U13Q9CAYKCIFJCAXEPR4ECALS50CICA67LN6PCAFA0FWDCA8NRF01CA01QEB6"/>
          <p:cNvPicPr/>
          <p:nvPr/>
        </p:nvPicPr>
        <p:blipFill>
          <a:blip r:embed="rId5"/>
          <a:stretch/>
        </p:blipFill>
        <p:spPr>
          <a:xfrm>
            <a:off x="0" y="3429000"/>
            <a:ext cx="5256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S6307756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676520" y="1219320"/>
            <a:ext cx="1752480" cy="776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0000"/>
                </a:solidFill>
                <a:latin typeface="Tahoma"/>
              </a:rPr>
              <a:t>Цель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609120" y="2666520"/>
            <a:ext cx="76201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Изучение исторических и художественных  образов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Акпатыра и Акпарс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1" name="Picture 5" descr="R47CA2KMGQ5CA1KAK3MCAPC2KZICA1C2BSCCAH7COOACAHI6KX4CAWYY4ZTCA0NHU1OCAKX1EBMCAG672Z8CA4QTBH8CA2U13Q9CAYKCIFJCAXEPR4ECALS50CICA67LN6PCAFA0FWDCA8NRF01CA01QEB6"/>
          <p:cNvPicPr/>
          <p:nvPr/>
        </p:nvPicPr>
        <p:blipFill>
          <a:blip r:embed="rId2"/>
          <a:stretch/>
        </p:blipFill>
        <p:spPr>
          <a:xfrm>
            <a:off x="0" y="0"/>
            <a:ext cx="525600" cy="3429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R47CA2KMGQ5CA1KAK3MCAPC2KZICA1C2BSCCAH7COOACAHI6KX4CAWYY4ZTCA0NHU1OCAKX1EBMCAG672Z8CA4QTBH8CA2U13Q9CAYKCIFJCAXEPR4ECALS50CICA67LN6PCAFA0FWDCA8NRF01CA01QEB6"/>
          <p:cNvPicPr/>
          <p:nvPr/>
        </p:nvPicPr>
        <p:blipFill>
          <a:blip r:embed="rId3"/>
          <a:stretch/>
        </p:blipFill>
        <p:spPr>
          <a:xfrm>
            <a:off x="457200" y="0"/>
            <a:ext cx="525600" cy="34290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7" descr="R47CA2KMGQ5CA1KAK3MCAPC2KZICA1C2BSCCAH7COOACAHI6KX4CAWYY4ZTCA0NHU1OCAKX1EBMCAG672Z8CA4QTBH8CA2U13Q9CAYKCIFJCAXEPR4ECALS50CICA67LN6PCAFA0FWDCA8NRF01CA01QEB6"/>
          <p:cNvPicPr/>
          <p:nvPr/>
        </p:nvPicPr>
        <p:blipFill>
          <a:blip r:embed="rId4"/>
          <a:stretch/>
        </p:blipFill>
        <p:spPr>
          <a:xfrm>
            <a:off x="457200" y="3429000"/>
            <a:ext cx="525600" cy="34290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8" descr="R47CA2KMGQ5CA1KAK3MCAPC2KZICA1C2BSCCAH7COOACAHI6KX4CAWYY4ZTCA0NHU1OCAKX1EBMCAG672Z8CA4QTBH8CA2U13Q9CAYKCIFJCAXEPR4ECALS50CICA67LN6PCAFA0FWDCA8NRF01CA01QEB6"/>
          <p:cNvPicPr/>
          <p:nvPr/>
        </p:nvPicPr>
        <p:blipFill>
          <a:blip r:embed="rId5"/>
          <a:stretch/>
        </p:blipFill>
        <p:spPr>
          <a:xfrm>
            <a:off x="0" y="3429000"/>
            <a:ext cx="5256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S6307756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676160" y="533520"/>
            <a:ext cx="419076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0000"/>
                </a:solidFill>
                <a:latin typeface="Tahoma"/>
              </a:rPr>
              <a:t>Этапы работы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371600" y="1904760"/>
            <a:ext cx="64008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оиск информации о Акпатыре и Акпарсе в исторической,  художественной литературе и периодической печати, в ресурсах Интерне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осещение исторических мест, связанных с героям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опоставление исторического и художественного образов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Анализ полученной информации и формулирование выводов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8" name="Picture 5" descr="R47CA2KMGQ5CA1KAK3MCAPC2KZICA1C2BSCCAH7COOACAHI6KX4CAWYY4ZTCA0NHU1OCAKX1EBMCAG672Z8CA4QTBH8CA2U13Q9CAYKCIFJCAXEPR4ECALS50CICA67LN6PCAFA0FWDCA8NRF01CA01QEB6"/>
          <p:cNvPicPr/>
          <p:nvPr/>
        </p:nvPicPr>
        <p:blipFill>
          <a:blip r:embed="rId2"/>
          <a:stretch/>
        </p:blipFill>
        <p:spPr>
          <a:xfrm>
            <a:off x="0" y="0"/>
            <a:ext cx="525600" cy="34290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6" descr="R47CA2KMGQ5CA1KAK3MCAPC2KZICA1C2BSCCAH7COOACAHI6KX4CAWYY4ZTCA0NHU1OCAKX1EBMCAG672Z8CA4QTBH8CA2U13Q9CAYKCIFJCAXEPR4ECALS50CICA67LN6PCAFA0FWDCA8NRF01CA01QEB6"/>
          <p:cNvPicPr/>
          <p:nvPr/>
        </p:nvPicPr>
        <p:blipFill>
          <a:blip r:embed="rId3"/>
          <a:stretch/>
        </p:blipFill>
        <p:spPr>
          <a:xfrm>
            <a:off x="457200" y="0"/>
            <a:ext cx="525600" cy="34290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7" descr="R47CA2KMGQ5CA1KAK3MCAPC2KZICA1C2BSCCAH7COOACAHI6KX4CAWYY4ZTCA0NHU1OCAKX1EBMCAG672Z8CA4QTBH8CA2U13Q9CAYKCIFJCAXEPR4ECALS50CICA67LN6PCAFA0FWDCA8NRF01CA01QEB6"/>
          <p:cNvPicPr/>
          <p:nvPr/>
        </p:nvPicPr>
        <p:blipFill>
          <a:blip r:embed="rId4"/>
          <a:stretch/>
        </p:blipFill>
        <p:spPr>
          <a:xfrm>
            <a:off x="457200" y="3429000"/>
            <a:ext cx="525600" cy="34290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8" descr="R47CA2KMGQ5CA1KAK3MCAPC2KZICA1C2BSCCAH7COOACAHI6KX4CAWYY4ZTCA0NHU1OCAKX1EBMCAG672Z8CA4QTBH8CA2U13Q9CAYKCIFJCAXEPR4ECALS50CICA67LN6PCAFA0FWDCA8NRF01CA01QEB6"/>
          <p:cNvPicPr/>
          <p:nvPr/>
        </p:nvPicPr>
        <p:blipFill>
          <a:blip r:embed="rId5"/>
          <a:stretch/>
        </p:blipFill>
        <p:spPr>
          <a:xfrm>
            <a:off x="0" y="3429000"/>
            <a:ext cx="5256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4" descr="S6307756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80720" y="457200"/>
            <a:ext cx="57834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0000"/>
                </a:solidFill>
                <a:latin typeface="Tahoma"/>
              </a:rPr>
              <a:t>В чем разница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44" name="Picture 11" descr="S6307758"/>
          <p:cNvPicPr/>
          <p:nvPr/>
        </p:nvPicPr>
        <p:blipFill>
          <a:blip r:embed="rId2"/>
          <a:stretch/>
        </p:blipFill>
        <p:spPr>
          <a:xfrm>
            <a:off x="914400" y="1523880"/>
            <a:ext cx="3429000" cy="457200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45" name="Picture 15" descr="R47CA2KMGQ5CA1KAK3MCAPC2KZICA1C2BSCCAH7COOACAHI6KX4CAWYY4ZTCA0NHU1OCAKX1EBMCAG672Z8CA4QTBH8CA2U13Q9CAYKCIFJCAXEPR4ECALS50CICA67LN6PCAFA0FWDCA8NRF01CA01QEB6"/>
          <p:cNvPicPr/>
          <p:nvPr/>
        </p:nvPicPr>
        <p:blipFill>
          <a:blip r:embed="rId3"/>
          <a:stretch/>
        </p:blipFill>
        <p:spPr>
          <a:xfrm>
            <a:off x="0" y="0"/>
            <a:ext cx="525600" cy="34290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6" descr="R47CA2KMGQ5CA1KAK3MCAPC2KZICA1C2BSCCAH7COOACAHI6KX4CAWYY4ZTCA0NHU1OCAKX1EBMCAG672Z8CA4QTBH8CA2U13Q9CAYKCIFJCAXEPR4ECALS50CICA67LN6PCAFA0FWDCA8NRF01CA01QEB6"/>
          <p:cNvPicPr/>
          <p:nvPr/>
        </p:nvPicPr>
        <p:blipFill>
          <a:blip r:embed="rId4"/>
          <a:stretch/>
        </p:blipFill>
        <p:spPr>
          <a:xfrm>
            <a:off x="0" y="3429000"/>
            <a:ext cx="525600" cy="34290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37" descr="S6307757"/>
          <p:cNvPicPr/>
          <p:nvPr/>
        </p:nvPicPr>
        <p:blipFill>
          <a:blip r:embed="rId5"/>
          <a:stretch/>
        </p:blipFill>
        <p:spPr>
          <a:xfrm>
            <a:off x="4952880" y="1523880"/>
            <a:ext cx="3429000" cy="457200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S6307756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14400" y="761760"/>
            <a:ext cx="2354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0000"/>
                </a:solidFill>
                <a:latin typeface="Tahoma"/>
              </a:rPr>
              <a:t>Акпатыр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50" name="Picture 5" descr="S6307758"/>
          <p:cNvPicPr/>
          <p:nvPr/>
        </p:nvPicPr>
        <p:blipFill>
          <a:blip r:embed="rId2"/>
          <a:stretch/>
        </p:blipFill>
        <p:spPr>
          <a:xfrm>
            <a:off x="762120" y="1752480"/>
            <a:ext cx="3200400" cy="4267440"/>
          </a:xfrm>
          <a:prstGeom prst="rect">
            <a:avLst/>
          </a:prstGeom>
          <a:ln w="0">
            <a:noFill/>
          </a:ln>
          <a:effectLst>
            <a:outerShdw dist="117181" dir="13761632" blurRad="0" rotWithShape="0">
              <a:srgbClr val="808080">
                <a:alpha val="50000"/>
              </a:srgbClr>
            </a:outerShdw>
          </a:effectLst>
        </p:spPr>
      </p:pic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075200" y="1066320"/>
            <a:ext cx="50688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Акпатыр – марийский князь, просветитель, целитель, национальный герой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Родился он в деревне Кетек-Мучаш Кировской области. Рано оставшись сиротой, был усыновлен богатым татарином, у которого было два сына, были они темноволосые, черноглызые, а приемный сын – светловолосый, голубоглазый и с детства отличался большой силой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Заслуга Акпатыра в том, что он старался жить в мире и дружбе со своими соседями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риняв христианство, Акпатыр служил русскому царю. Он был ловким и смелым и часто приходил на помощь татарам в непредвиденных ситуациях. Татары называли его Акбатыр (белый богатырь)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Picture 9" descr="R47CA2KMGQ5CA1KAK3MCAPC2KZICA1C2BSCCAH7COOACAHI6KX4CAWYY4ZTCA0NHU1OCAKX1EBMCAG672Z8CA4QTBH8CA2U13Q9CAYKCIFJCAXEPR4ECALS50CICA67LN6PCAFA0FWDCA8NRF01CA01QEB6"/>
          <p:cNvPicPr/>
          <p:nvPr/>
        </p:nvPicPr>
        <p:blipFill>
          <a:blip r:embed="rId3"/>
          <a:stretch/>
        </p:blipFill>
        <p:spPr>
          <a:xfrm>
            <a:off x="0" y="0"/>
            <a:ext cx="525600" cy="34290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0" descr="R47CA2KMGQ5CA1KAK3MCAPC2KZICA1C2BSCCAH7COOACAHI6KX4CAWYY4ZTCA0NHU1OCAKX1EBMCAG672Z8CA4QTBH8CA2U13Q9CAYKCIFJCAXEPR4ECALS50CICA67LN6PCAFA0FWDCA8NRF01CA01QEB6"/>
          <p:cNvPicPr/>
          <p:nvPr/>
        </p:nvPicPr>
        <p:blipFill>
          <a:blip r:embed="rId4"/>
          <a:stretch/>
        </p:blipFill>
        <p:spPr>
          <a:xfrm>
            <a:off x="0" y="3429000"/>
            <a:ext cx="5256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2" descr="S6307756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191120" y="380520"/>
            <a:ext cx="4752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ru-RU" sz="4000" spc="-1" strike="noStrike">
                <a:solidFill>
                  <a:srgbClr val="cc0000"/>
                </a:solidFill>
                <a:latin typeface="Tahoma"/>
              </a:rPr>
              <a:t>Могила Акпатыра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56" name="Picture 13" descr="S6307681"/>
          <p:cNvPicPr/>
          <p:nvPr/>
        </p:nvPicPr>
        <p:blipFill>
          <a:blip r:embed="rId2"/>
          <a:stretch/>
        </p:blipFill>
        <p:spPr>
          <a:xfrm>
            <a:off x="609480" y="609480"/>
            <a:ext cx="3657600" cy="274320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57" name="Picture 14" descr="S6307677"/>
          <p:cNvPicPr/>
          <p:nvPr/>
        </p:nvPicPr>
        <p:blipFill>
          <a:blip r:embed="rId3"/>
          <a:stretch/>
        </p:blipFill>
        <p:spPr>
          <a:xfrm>
            <a:off x="609480" y="3886200"/>
            <a:ext cx="1943280" cy="259092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191120" y="1218960"/>
            <a:ext cx="49528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Акпатыра похоронили по его завещанию на кладбище у деревни Кетек Мучаш Малмыжского района Кировской области. На могиле посадили березу, которая  считается священной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" name="Picture 18" descr="S6307789"/>
          <p:cNvPicPr/>
          <p:nvPr/>
        </p:nvPicPr>
        <p:blipFill>
          <a:blip r:embed="rId4"/>
          <a:stretch/>
        </p:blipFill>
        <p:spPr>
          <a:xfrm>
            <a:off x="2743200" y="3886200"/>
            <a:ext cx="2017800" cy="259092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60" name="Picture 19" descr="S6307714"/>
          <p:cNvPicPr/>
          <p:nvPr/>
        </p:nvPicPr>
        <p:blipFill>
          <a:blip r:embed="rId5"/>
          <a:stretch/>
        </p:blipFill>
        <p:spPr>
          <a:xfrm>
            <a:off x="7086600" y="3886200"/>
            <a:ext cx="1903320" cy="259092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61" name="Picture 20" descr="S6307668"/>
          <p:cNvPicPr/>
          <p:nvPr/>
        </p:nvPicPr>
        <p:blipFill>
          <a:blip r:embed="rId6"/>
          <a:stretch/>
        </p:blipFill>
        <p:spPr>
          <a:xfrm>
            <a:off x="4952880" y="3886200"/>
            <a:ext cx="1943280" cy="259092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62" name="Picture 21" descr="R47CA2KMGQ5CA1KAK3MCAPC2KZICA1C2BSCCAH7COOACAHI6KX4CAWYY4ZTCA0NHU1OCAKX1EBMCAG672Z8CA4QTBH8CA2U13Q9CAYKCIFJCAXEPR4ECALS50CICA67LN6PCAFA0FWDCA8NRF01CA01QEB6"/>
          <p:cNvPicPr/>
          <p:nvPr/>
        </p:nvPicPr>
        <p:blipFill>
          <a:blip r:embed="rId7"/>
          <a:stretch/>
        </p:blipFill>
        <p:spPr>
          <a:xfrm>
            <a:off x="0" y="0"/>
            <a:ext cx="525600" cy="34290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22" descr="R47CA2KMGQ5CA1KAK3MCAPC2KZICA1C2BSCCAH7COOACAHI6KX4CAWYY4ZTCA0NHU1OCAKX1EBMCAG672Z8CA4QTBH8CA2U13Q9CAYKCIFJCAXEPR4ECALS50CICA67LN6PCAFA0FWDCA8NRF01CA01QEB6"/>
          <p:cNvPicPr/>
          <p:nvPr/>
        </p:nvPicPr>
        <p:blipFill>
          <a:blip r:embed="rId8"/>
          <a:stretch/>
        </p:blipFill>
        <p:spPr>
          <a:xfrm>
            <a:off x="0" y="3429000"/>
            <a:ext cx="5256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klass1a</cp:lastModifiedBy>
  <dcterms:modified xsi:type="dcterms:W3CDTF">2012-02-06T07:49:25Z</dcterms:modified>
  <cp:revision>2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