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4CB-A422-46A5-A5FB-14FA4670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8CA-040C-4E18-BE4E-1F2ABC6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BDD-5F8F-40C6-91FB-38A4DEF7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7B6-7DAE-486A-B39D-F034BBD1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80C6-CAF5-4738-AD59-C8846C29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7002-5321-46A9-BE62-BFE7CF28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4F30-A00D-42C3-9790-61E5EE9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5FAD-96B1-49C8-98D9-3D0A570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48FA-4CC2-4A8B-B364-00D938EB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11EC-B7EB-4D89-A2AF-E87F9E3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3D46-FE03-4FCA-956D-A95419C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94D-60EA-4399-8F36-2239C1FD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35A-A0EC-428F-9378-76B359F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4FB-E816-4CEF-BB52-D1B20D6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4AB-6766-41A1-9117-DA282230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A7A1-B808-40B3-AC43-95D64DFA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0CAB-212F-4FDF-B61E-991B19B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1B4-9712-4CAC-8498-89BF9B05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5AA-FC4F-477E-8991-BA2961CF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475-1907-40AD-9588-287D4C00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5E1-3999-498B-8332-225F7075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335-6A8C-4110-B9ED-158E5BF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392-C7F8-4B90-BDC6-159736E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91E-9DCF-42DA-B582-BA4FE2F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CBCF-325F-4E54-BCCF-BA4D7BF87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D9B-B0DD-419A-B79F-E48644ABD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резента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тему: « Российский флаг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 3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уйцына Т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Государственной символике России отражаются мощь и величие нашей страны, ее славная история, подвиги российского на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общать детей к культуре русского народа; знакомить с происхождением Российского флага; воспитывать патриотические чув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Государственный флаг в Росси появился на рубеже 17-18 веков, в эпоху становления России, как мощного государств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первые такой флаг был поднят на первом русском военном корабле «Орел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 праву считается отцом российского трикол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7640" y="2708280"/>
            <a:ext cx="4043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1699 году из сотен знамен роль государственного флага Петр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твел бело-сине-красному флагу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7102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ый - благородство, долг, цвет чист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ний – верность и целомудрие, цвет люб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ный – мужество и великодушие, цвет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2861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нь Государственного флага Российской Федерации – один из официально установленных праздников России; установлен в 1994 году указом президента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ъем Российского флага сопровождается исполнением гимна Ро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31:32Z</dcterms:created>
  <dc:creator>SamLab.ws</dc:creator>
  <dc:description/>
  <dc:language>en-US</dc:language>
  <cp:lastModifiedBy>SamLab.ws</cp:lastModifiedBy>
  <dcterms:modified xsi:type="dcterms:W3CDTF">2011-03-24T16:33:22Z</dcterms:modified>
  <cp:revision>8</cp:revision>
  <dc:subject/>
  <dc:title>Государственный флаг в Росси появился на рубеже 17-18 веков, в эпоху становления России, как мощного государства.</dc:title>
</cp:coreProperties>
</file>