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90E-FC6F-44DC-B6FA-86DA98AC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C63-8B12-48AB-97D9-302FF69E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B5F-C534-4097-8E63-8253A33F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463-D7BB-426E-A78A-84F3C033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6EA5-5EDB-453F-B4DF-9079AA78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ECAE-BEB0-4C1E-BDD3-78170229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14D2-CF0F-4AC4-813B-CDF76A6D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7600-44E6-4531-9C87-7D1A1EB5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5332-0A64-4275-B586-987DC8EF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88D9-1978-46B6-A032-9C76FCA8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F358-2EF8-4F69-BC81-F9D521E7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2A8-4353-4514-9FA5-EB4C0852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FD0C-7C0D-4530-AB95-6DE11F6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7023-4FF9-431E-8922-A7F9081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E8FA-0FB3-4679-A955-7DA49BE6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CFC3-5EF7-4D79-AC8C-EAA04866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0946-9E62-405D-BA47-6E3381EB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2BF-ECEA-4BDD-946E-472DFC71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6CE-E9FA-4F2E-97A6-1CCEE34E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F03-5F0A-4698-922B-D41CEB93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431-1059-43BE-B152-3940727D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46C-89EB-49DC-99EE-7F24D14D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90B-2C10-4700-88FA-ED030B55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2DF-FE6E-4148-8008-78E53D20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4C6B-D5F5-4ABB-B19D-2D3F6756F8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808A-D145-4E8F-A861-E0C17AF9ED4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Родительское собрание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 1 классе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520" y="549360"/>
            <a:ext cx="7477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ственное развитие в младшем школьном возрасте  проходит через три стади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своение действий с эталонами по выделению искомых свойств вещей и построение их моделе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своение развернутых действий с эталонами и формирование действий в моделях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своение моделей и переход к умственным действиям со свойствами вещей и их операция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404640"/>
            <a:ext cx="73864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жличностные отношения состоят из двух независимых подструктур отношений мальчиков и девочек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жличностные отношения строятся на эмоциональной основ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нения учащихся класса не являются для ребенка эталоном для самооценки, большее значение имеет мнение взрослог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реди младших школьников девочки обнаруживают более высокий уровень социального поведения по сравнению с мальчиками. Они же показывают более высокий уровень рефлексии и социальной ответствен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Факторы, влияющие на успешность обучения в школ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2f1311"/>
                </a:solidFill>
                <a:uFillTx/>
                <a:latin typeface="Arial"/>
              </a:rPr>
              <a:t>Личностная готовность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нятие на себя роли учени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тивац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амооцен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моциональная готов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7956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теллектуальная готов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собенности памя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вень развития мыш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щее развитие реч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дпосылки учебной деятельнос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Социально-психологическая готов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мение строить отношения с окружающи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нтакт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ругие фактор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ояние физического здоровь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ношения в семь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вень квалификации и личностные качества учител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0563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 возрасте 6 - 7 лет ребенка ждут большие изменения в его жизни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- изменяется обучение, 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- появляются новые люди,      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- складываются новые отношения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Ведущей деятельностью становится</a:t>
            </a:r>
            <a:r>
              <a:rPr b="0" lang="ru-RU" sz="4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2f1311"/>
                </a:solidFill>
                <a:latin typeface="Arial"/>
              </a:rPr>
              <a:t>учение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которое влечет за собой новые обязанности, изменяет весь уклад жизни ребенка.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амооценка во многом зависит от оценок учителя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вень притязаний складывается под влиянием успехов и неуспехов в предметной деятель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802800"/>
            <a:ext cx="738648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ход детей из сада в школу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 из начального звена в средне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вляется новым этапом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зни ребенк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х ждет система обучения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и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мен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1193760"/>
            <a:ext cx="7386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1311"/>
                </a:solidFill>
                <a:latin typeface="Arial"/>
              </a:rPr>
              <a:t>Адаптация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– </a:t>
            </a:r>
            <a:r>
              <a:rPr b="0" lang="ru-RU" sz="4400" spc="-1" strike="noStrike">
                <a:solidFill>
                  <a:srgbClr val="2f1311"/>
                </a:solidFill>
                <a:latin typeface="Monotype Corsiva"/>
              </a:rPr>
              <a:t>приспособление, вид взаимодействия личности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Monotype Corsiva"/>
              </a:rPr>
              <a:t>с социальной средой, в которой согласовываются требования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Monotype Corsiva"/>
              </a:rPr>
              <a:t>и ожидания его участников</a:t>
            </a:r>
            <a:r>
              <a:rPr b="0" lang="ru-RU" sz="3200" spc="-1" strike="noStrike">
                <a:solidFill>
                  <a:srgbClr val="2f1311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чины плохой адаптаци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ребования со стороны учителя, необходимость их выполня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ольшой поток информации, незнакомые слова, терми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увство одиночества из-за отсутствия внимания со стороны учителя, т.к. время на уроке ограничено, и нет возможности опросить все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692280"/>
            <a:ext cx="7386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ольшое значение имеют для ребенка в этом возрасте социальные мотивы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Его привлекает домашний уют, семейное благополучие, это снижает степень школьной тревожности, которая обостряется с началом учебной деятельност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Интерес к содержанию и процессу   учения у большинства младших школьников реализуются, в основном, через успеваемость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тивом, часто доминирующим и придающим отрицательную окраску учебной деятельности, остается мотивация избегания наказа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7:21:51Z</dcterms:created>
  <dc:creator>1</dc:creator>
  <dc:description/>
  <dc:language>en-US</dc:language>
  <cp:lastModifiedBy>Иваненко Галина Владимировна</cp:lastModifiedBy>
  <dcterms:modified xsi:type="dcterms:W3CDTF">2011-10-21T09:49:27Z</dcterms:modified>
  <cp:revision>12</cp:revision>
  <dc:subject/>
  <dc:title>В возрасте 6-7 ребенка ждут большие изменения в его жизни.  Вступление в школьный возраст влечет за собой изменения в его жизни:   - изменяется обучение,  - появляются в его жизни новые люди,       - складываются новые отношения.</dc:title>
</cp:coreProperties>
</file>