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applause.wav" ContentType="audio/x-wav"/>
  <Override PartName="/ppt/media/%D0%9D%D1%83%20%D1%87%D1%82%D0%BE%20%D0%B6%D0%B5%20%D1%82%D1%8B.wav" ContentType="audio/x-wav"/>
  <Override PartName="/ppt/media/%D0%9F%D0%BE%D0%BF%D1%80%D0%BE%D0%B1%D1%83%D0%B9%20%D0%B5%D1%89%D1%91.wav" ContentType="audio/x-wav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AF948-D0DA-4DD8-BE2E-3B367502F5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3A1DE-2324-4234-AD52-B5AA56CCB7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9A215-F668-42D3-95A2-522D13C631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79C42-37F1-41A5-A506-2CCBB37FC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B30CE-47EF-46B9-B1D5-806383CAAA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02B30-87A6-42B3-8FB4-294FA92011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9521B-67B0-4A76-BBB0-2C1D6B61EA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AC619-5513-4CAC-A6A2-F3A2658795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B1998-2FA0-4FD2-9344-CE82EB2F83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5B9F1-D2F2-464D-9A6A-23DF0B159A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1FF7F-8ED1-4B54-AFE7-3069DB4C66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04D12-7FE0-4121-8631-189CDAE773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AF2C6-CFD3-489F-AD6D-589507C152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5E673-295B-4C6E-BB8A-3C73ED083D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23AC8-D383-4D10-B190-E3AF2B69EE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70D93-E744-4A8C-8110-50BE84438D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115F8-8B8A-47B1-818B-38C16DFC10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71DC3-5F9E-4A01-A82C-29A1DC26D5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CBB43-E6F6-4B15-AB3C-267AD13A81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665F-68CC-47B7-B0AF-14520FEF43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3B5B-EA52-455A-AAFE-236A6B32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7E66-8FCB-4ADA-9FC3-2A362DCE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079A-8CBB-4E9B-BABD-5A8879675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248B-846E-42DD-BFEE-FB5C9CFF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C8C9-06B5-4B7A-9FFC-6C4AF198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DEC0-B9AC-4862-B25D-F579B2F2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A49E-4325-409C-A3EF-CF748371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1193-9FED-4374-8C8F-EA1FFF74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40E6C-1018-4450-BE6E-77A8A7C7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61BA-6CC1-4D57-8F00-0F7ABD3B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F9AE-3354-4E85-9D32-B8F70B40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C7E48-B238-4EA9-8C18-1B734E5A372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audio" Target="../media/&#1053;&#1091;%20&#1095;&#1090;&#1086;%20&#1078;&#1077;%20&#1090;&#1099;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applause.wav"/><Relationship Id="rId4" Type="http://schemas.openxmlformats.org/officeDocument/2006/relationships/audio" Target="../media/&#1055;&#1086;&#1087;&#1088;&#1086;&#1073;&#1091;&#1081;%20&#1077;&#1097;&#1105;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&#1053;&#1091;%20&#1095;&#1090;&#1086;%20&#1078;&#1077;%20&#1090;&#1099;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&#1055;&#1086;&#1087;&#1088;&#1086;&#1073;&#1091;&#1081;%20&#1077;&#1097;&#1105;.wav"/><Relationship Id="rId3" Type="http://schemas.openxmlformats.org/officeDocument/2006/relationships/audio" Target="../media/applause.wav"/><Relationship Id="rId4" Type="http://schemas.openxmlformats.org/officeDocument/2006/relationships/audio" Target="../media/&#1053;&#1091;%20&#1095;&#1090;&#1086;%20&#1078;&#1077;%20&#1090;&#1099;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audio" Target="../media/&#1053;&#1091;%20&#1095;&#1090;&#1086;%20&#1078;&#1077;%20&#1090;&#1099;.wav"/><Relationship Id="rId4" Type="http://schemas.openxmlformats.org/officeDocument/2006/relationships/audio" Target="../media/&#1055;&#1086;&#1087;&#1088;&#1086;&#1073;&#1091;&#1081;%20&#1077;&#1097;&#1105;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applause.wav"/><Relationship Id="rId4" Type="http://schemas.openxmlformats.org/officeDocument/2006/relationships/audio" Target="../media/&#1055;&#1086;&#1087;&#1088;&#1086;&#1073;&#1091;&#1081;%20&#1077;&#1097;&#1105;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applause.wav"/><Relationship Id="rId4" Type="http://schemas.openxmlformats.org/officeDocument/2006/relationships/audio" Target="../media/&#1055;&#1086;&#1087;&#1088;&#1086;&#1073;&#1091;&#1081;%20&#1077;&#1097;&#1105;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audio" Target="../media/&#1053;&#1091;%20&#1095;&#1090;&#1086;%20&#1078;&#1077;%20&#1090;&#1099;.wav"/><Relationship Id="rId4" Type="http://schemas.openxmlformats.org/officeDocument/2006/relationships/audio" Target="../media/&#1055;&#1086;&#1087;&#1088;&#1086;&#1073;&#1091;&#1081;%20&#1077;&#1097;&#1105;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applause.wav"/><Relationship Id="rId4" Type="http://schemas.openxmlformats.org/officeDocument/2006/relationships/audio" Target="../media/&#1055;&#1086;&#1087;&#1088;&#1086;&#1073;&#1091;&#1081;%20&#1077;&#1097;&#1105;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5720" y="2987640"/>
            <a:ext cx="8058240" cy="40165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2152800" y="6035760"/>
            <a:ext cx="4895640" cy="604800"/>
            <a:chOff x="2152800" y="6035760"/>
            <a:chExt cx="4895640" cy="604800"/>
          </a:xfrm>
        </p:grpSpPr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2152800" y="6035760"/>
              <a:ext cx="48956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38480" y="6095880"/>
              <a:ext cx="47340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Царева Елена Александро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28760" y="9158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Номерок, полученный в гардеробе, нуж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Убрать в карман или сум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Отдать билет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Начать вертеть на паль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7" dur="indefinite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07"/>
                            </p:tgtEl>
                          </p:cond>
                        </p:stCondLst>
                      </p:cTn>
                      <p:tgtEl>
                        <p:sndTgt r:embed="rId2" name="applause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dur="indefinite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3" dur="indefinite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08"/>
                            </p:tgtEl>
                          </p:cond>
                        </p:stCondLst>
                      </p:cTn>
                      <p:tgtEl>
                        <p:sndTgt r:embed="rId3" name="%D0%9F%D0%BE%D0%BF%D1%80%D0%BE%D0%B1%D1%83%D0%B9%20%D0%B5%D1%89%D1%9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dur="indefinite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9" dur="indefinite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09"/>
                            </p:tgtEl>
                          </p:cond>
                        </p:stCondLst>
                      </p:cTn>
                      <p:tgtEl>
                        <p:sndTgt r:embed="rId4" name="%D0%9D%D1%83%20%D1%87%D1%82%D0%BE%20%D0%B6%D0%B5%20%D1%82%D1%8B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8760" y="61128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На пути к своему месту                         в зрительном зале проходить     вдоль ряда положе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Лицом к сц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Лицом к сид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Боком к сид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6" dur="indefinite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11"/>
                            </p:tgtEl>
                          </p:cond>
                        </p:stCondLst>
                      </p:cTn>
                      <p:tgtEl>
                        <p:sndTgt r:embed="rId2" name="%D0%9D%D1%83%20%D1%87%D1%82%D0%BE%20%D0%B6%D0%B5%20%D1%82%D1%8B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dur="indefinite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2" dur="indefinite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12"/>
                            </p:tgtEl>
                          </p:cond>
                        </p:stCondLst>
                      </p:cTn>
                      <p:tgtEl>
                        <p:sndTgt r:embed="rId3" name="applause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dur="indefinite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8" dur="indefinite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13"/>
                            </p:tgtEl>
                          </p:cond>
                        </p:stCondLst>
                      </p:cTn>
                      <p:tgtEl>
                        <p:sndTgt r:embed="rId4" name="%D0%9F%D0%BE%D0%BF%D1%80%D0%BE%D0%B1%D1%83%D0%B9%20%D0%B5%D1%89%D1%9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8760" y="61128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Когда мимо твоего места по проходу идут другие зрители, нуж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Вытянуть ноги в пр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Громко возмущ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Встать и дать пр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15" dur="indefinite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15"/>
                            </p:tgtEl>
                          </p:cond>
                        </p:stCondLst>
                      </p:cTn>
                      <p:tgtEl>
                        <p:sndTgt r:embed="rId2" name="%D0%9D%D1%83%20%D1%87%D1%82%D0%BE%20%D0%B6%D0%B5%20%D1%82%D1%8B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dur="indefinite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1" dur="indefinite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16"/>
                            </p:tgtEl>
                          </p:cond>
                        </p:stCondLst>
                      </p:cTn>
                      <p:tgtEl>
                        <p:sndTgt r:embed="rId3" name="%D0%9D%D1%83%20%D1%87%D1%82%D0%BE%20%D0%B6%D0%B5%20%D1%82%D1%8B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dur="indefinite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7" dur="indefinite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17"/>
                            </p:tgtEl>
                          </p:cond>
                        </p:stCondLst>
                      </p:cTn>
                      <p:tgtEl>
                        <p:sndTgt r:embed="rId4" name="applause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28760" y="9158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 время представления следу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Разговаривать с сосе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Смотреть на сцену и внимательно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Есть конфеты и шуршать фант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4" dur="indefinite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19"/>
                            </p:tgtEl>
                          </p:cond>
                        </p:stCondLst>
                      </p:cTn>
                      <p:tgtEl>
                        <p:sndTgt r:embed="rId2" name="%D0%9F%D0%BE%D0%BF%D1%80%D0%BE%D0%B1%D1%83%D0%B9%20%D0%B5%D1%89%D1%9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dur="indefinite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0" dur="indefinite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20"/>
                            </p:tgtEl>
                          </p:cond>
                        </p:stCondLst>
                      </p:cTn>
                      <p:tgtEl>
                        <p:sndTgt r:embed="rId3" name="applause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dur="indefinite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6" dur="indefinite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21"/>
                            </p:tgtEl>
                          </p:cond>
                        </p:stCondLst>
                      </p:cTn>
                      <p:tgtEl>
                        <p:sndTgt r:embed="rId4" name="%D0%9D%D1%83%20%D1%87%D1%82%D0%BE%20%D0%B6%D0%B5%20%D1%82%D1%8B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8760" y="61128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 время прослушивания музыкального произведения            следует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Барабанить пальцами в такт музыке и на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нимательно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Топать но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53" dur="indefinite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23"/>
                            </p:tgtEl>
                          </p:cond>
                        </p:stCondLst>
                      </p:cTn>
                      <p:tgtEl>
                        <p:sndTgt r:embed="rId2" name="applause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dur="indefinite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9" dur="indefinite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24"/>
                            </p:tgtEl>
                          </p:cond>
                        </p:stCondLst>
                      </p:cTn>
                      <p:tgtEl>
                        <p:sndTgt r:embed="rId3" name="%D0%9D%D1%83%20%D1%87%D1%82%D0%BE%20%D0%B6%D0%B5%20%D1%82%D1%8B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dur="indefinite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5" dur="indefinite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25"/>
                            </p:tgtEl>
                          </p:cond>
                        </p:stCondLst>
                      </p:cTn>
                      <p:tgtEl>
                        <p:sndTgt r:embed="rId4" name="%D0%9F%D0%BE%D0%BF%D1%80%D0%BE%D0%B1%D1%83%D0%B9%20%D0%B5%D1%89%D1%9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28760" y="8557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 время антракта не следу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Сидеть на своих ме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Мчаться в буфет, расталкивая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Разговаривать со своими друз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2" dur="indefinite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27"/>
                            </p:tgtEl>
                          </p:cond>
                        </p:stCondLst>
                      </p:cTn>
                      <p:tgtEl>
                        <p:sndTgt r:embed="rId2" name="%D0%9D%D1%83%20%D1%87%D1%82%D0%BE%20%D0%B6%D0%B5%20%D1%82%D1%8B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dur="indefinite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78" dur="indefinite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28"/>
                            </p:tgtEl>
                          </p:cond>
                        </p:stCondLst>
                      </p:cTn>
                      <p:tgtEl>
                        <p:sndTgt r:embed="rId3" name="applause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dur="indefinite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84" dur="indefinite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29"/>
                            </p:tgtEl>
                          </p:cond>
                        </p:stCondLst>
                      </p:cTn>
                      <p:tgtEl>
                        <p:sndTgt r:embed="rId4" name="%D0%9F%D0%BE%D0%BF%D1%80%D0%BE%D0%B1%D1%83%D0%B9%20%D0%B5%D1%89%D1%9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28760" y="9158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 время антракта нужно разговаривать так. чтоб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Тебя слышали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Тебя слышал только твой собес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Тебя никто не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91" dur="indefinite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9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31"/>
                            </p:tgtEl>
                          </p:cond>
                        </p:stCondLst>
                      </p:cTn>
                      <p:tgtEl>
                        <p:sndTgt r:embed="rId2" name="%D0%9D%D1%83%20%D1%87%D1%82%D0%BE%20%D0%B6%D0%B5%20%D1%82%D1%8B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dur="indefinite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7" dur="indefinite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32"/>
                            </p:tgtEl>
                          </p:cond>
                        </p:stCondLst>
                      </p:cTn>
                      <p:tgtEl>
                        <p:sndTgt r:embed="rId3" name="applause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dur="indefinite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3" dur="indefinite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33"/>
                            </p:tgtEl>
                          </p:cond>
                        </p:stCondLst>
                      </p:cTn>
                      <p:tgtEl>
                        <p:sndTgt r:embed="rId4" name="%D0%9F%D0%BE%D0%BF%D1%80%D0%BE%D0%B1%D1%83%D0%B9%20%D0%B5%D1%89%D1%9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28760" y="9158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Когда представление закончилось нуж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дождать, пока опустится занав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ыбежать первым из з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Продолжать спать да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0" dur="indefinite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1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35"/>
                            </p:tgtEl>
                          </p:cond>
                        </p:stCondLst>
                      </p:cTn>
                      <p:tgtEl>
                        <p:sndTgt r:embed="rId2" name="applause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dur="indefinite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16" dur="indefinite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36"/>
                            </p:tgtEl>
                          </p:cond>
                        </p:stCondLst>
                      </p:cTn>
                      <p:tgtEl>
                        <p:sndTgt r:embed="rId3" name="%D0%9D%D1%83%20%D1%87%D1%82%D0%BE%20%D0%B6%D0%B5%20%D1%82%D1%8B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dur="indefinite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22" dur="indefinite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37"/>
                            </p:tgtEl>
                          </p:cond>
                        </p:stCondLst>
                      </p:cTn>
                      <p:tgtEl>
                        <p:sndTgt r:embed="rId4" name="%D0%9F%D0%BE%D0%BF%D1%80%D0%BE%D0%B1%D1%83%D0%B9%20%D0%B5%D1%89%D1%9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55600" y="476280"/>
            <a:ext cx="8724960" cy="1195200"/>
            <a:chOff x="255600" y="476280"/>
            <a:chExt cx="8724960" cy="11952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55600" y="476280"/>
              <a:ext cx="87249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55600" y="476280"/>
              <a:ext cx="8724960" cy="11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000760" y="1712880"/>
            <a:ext cx="3495600" cy="4711680"/>
            <a:chOff x="5000760" y="1712880"/>
            <a:chExt cx="3495600" cy="471168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5000760" y="1712880"/>
              <a:ext cx="3495600" cy="47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000760" y="1712880"/>
              <a:ext cx="349560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85880" y="2143080"/>
            <a:ext cx="37861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До третьего звонка занимаем свои места в зрительном з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5880" y="5357880"/>
            <a:ext cx="400032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ль вежливым себя счита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 на спектакль не опоздаешь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255600" y="476280"/>
            <a:ext cx="8724960" cy="1195200"/>
            <a:chOff x="255600" y="476280"/>
            <a:chExt cx="8724960" cy="11952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255600" y="476280"/>
              <a:ext cx="87249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55600" y="476280"/>
              <a:ext cx="8724960" cy="11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000760" y="1784520"/>
            <a:ext cx="3495600" cy="4711680"/>
            <a:chOff x="5000760" y="1784520"/>
            <a:chExt cx="3495600" cy="471168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5000760" y="1784520"/>
              <a:ext cx="3495600" cy="47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000760" y="1784520"/>
              <a:ext cx="349560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85880" y="1738440"/>
            <a:ext cx="40003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театр приходим     за 10-15 минут                до начала предст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Форма одежды – торжественная, праздни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5880" y="5357880"/>
            <a:ext cx="400032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театр всегда ходи опрят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чесанным и аккуратным!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255600" y="476280"/>
            <a:ext cx="8724960" cy="1195200"/>
            <a:chOff x="255600" y="476280"/>
            <a:chExt cx="8724960" cy="11952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255600" y="476280"/>
              <a:ext cx="87249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55600" y="476280"/>
              <a:ext cx="8724960" cy="11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013360" y="1712880"/>
            <a:ext cx="3470400" cy="4711680"/>
            <a:chOff x="5013360" y="1712880"/>
            <a:chExt cx="3470400" cy="4711680"/>
          </a:xfrm>
        </p:grpSpPr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013360" y="1712880"/>
              <a:ext cx="3470400" cy="47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013360" y="1712880"/>
              <a:ext cx="347040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85880" y="1785960"/>
            <a:ext cx="378612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робираемся к своему месту лицом к сидящим. Извиняемся за беспокойство и благодар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55600" y="476280"/>
            <a:ext cx="8724960" cy="1195200"/>
            <a:chOff x="255600" y="476280"/>
            <a:chExt cx="8724960" cy="11952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55600" y="476280"/>
              <a:ext cx="87249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55600" y="476280"/>
              <a:ext cx="8724960" cy="11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013360" y="1712880"/>
            <a:ext cx="3470400" cy="4711680"/>
            <a:chOff x="5013360" y="1712880"/>
            <a:chExt cx="3470400" cy="4711680"/>
          </a:xfrm>
        </p:grpSpPr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5013360" y="1712880"/>
              <a:ext cx="3470400" cy="47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013360" y="1712880"/>
              <a:ext cx="347040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85880" y="2571840"/>
            <a:ext cx="3786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антракте можно сходить в буф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2960" y="5357880"/>
            <a:ext cx="421488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антракте мы можем сходить в буф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тоб чаю попить и покушать конфет.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55600" y="476280"/>
            <a:ext cx="8724960" cy="1195200"/>
            <a:chOff x="255600" y="476280"/>
            <a:chExt cx="8724960" cy="119520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55600" y="476280"/>
              <a:ext cx="87249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55600" y="476280"/>
              <a:ext cx="8724960" cy="11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019840" y="1712880"/>
            <a:ext cx="3457440" cy="4711680"/>
            <a:chOff x="5019840" y="1712880"/>
            <a:chExt cx="3457440" cy="4711680"/>
          </a:xfrm>
        </p:grpSpPr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5019840" y="1712880"/>
              <a:ext cx="3457440" cy="47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019840" y="1712880"/>
              <a:ext cx="345744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57160" y="1731960"/>
            <a:ext cx="37148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95360" indent="-1390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9536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929880"/>
                <a:tab algn="l" pos="103791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Покидаем свои места только после того, как закроется занав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5880" y="4643280"/>
            <a:ext cx="4000320" cy="1928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ончен спектак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спеши убег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ятно акте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пасибо!» сказать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493560" y="36360"/>
            <a:ext cx="8194680" cy="1976760"/>
            <a:chOff x="493560" y="36360"/>
            <a:chExt cx="8194680" cy="197676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93560" y="36360"/>
              <a:ext cx="8194680" cy="19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93560" y="36360"/>
              <a:ext cx="819468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49720" y="1714680"/>
            <a:ext cx="267948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71680" y="1714680"/>
            <a:ext cx="2647800" cy="360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958000" y="1714680"/>
            <a:ext cx="2652480" cy="3600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1680" y="5357880"/>
            <a:ext cx="400032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время спектакля другим не меш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громко с соседкой своей                  не болтай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16280" y="5357880"/>
            <a:ext cx="400068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нным детям пора эт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время спектакля                               не нужно жевать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28760" y="61128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театр следует приходить за 10-15 мин. до начала представления, чтоб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есть в буф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Не торопясь привести себя в поря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Пообщаться со знако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8" dur="indefinite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03"/>
                            </p:tgtEl>
                          </p:cond>
                        </p:stCondLst>
                      </p:cTn>
                      <p:tgtEl>
                        <p:sndTgt r:embed="rId2" name="%D0%9D%D1%83%20%D1%87%D1%82%D0%BE%20%D0%B6%D0%B5%20%D1%82%D1%8B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dur="indefinite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4" dur="indefinite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04"/>
                            </p:tgtEl>
                          </p:cond>
                        </p:stCondLst>
                      </p:cTn>
                      <p:tgtEl>
                        <p:sndTgt r:embed="rId3" name="applause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dur="indefinite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0" dur="indefinite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evt="onClick">
                            <p:tgtEl>
                              <p:spTgt spid="105"/>
                            </p:tgtEl>
                          </p:cond>
                        </p:stCondLst>
                      </p:cTn>
                      <p:tgtEl>
                        <p:sndTgt r:embed="rId4" name="%D0%9F%D0%BE%D0%BF%D1%80%D0%BE%D0%B1%D1%83%D0%B9%20%D0%B5%D1%89%D1%9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11:14Z</dcterms:created>
  <dc:creator>Valued Acer Customer</dc:creator>
  <dc:description/>
  <dc:language>en-US</dc:language>
  <cp:lastModifiedBy>Bazil</cp:lastModifiedBy>
  <dcterms:modified xsi:type="dcterms:W3CDTF">2010-04-25T17:30:00Z</dcterms:modified>
  <cp:revision>5</cp:revision>
  <dc:subject/>
  <dc:title>Ñëàéä 1</dc:title>
</cp:coreProperties>
</file>