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6132-3C6A-458C-B4B4-F41838702C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7C5A-9394-4395-843E-4DB58EA003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63F-57D2-4777-AE7C-42F84C10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6AC-21A5-483B-A618-9FF1F864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823-1173-4EDC-9C83-0786F506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B19-50DD-4DC5-997C-1AE683E7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0A6-10F4-462A-9810-03CABA58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F7D-A144-48A8-85AC-FD7DCA55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B75-3CDF-4937-8AD9-4CBC4156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974-7E33-448F-A43E-D137BEBF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18A-A9B4-476B-9009-53BEC9CF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0D1-FBE9-4973-8D4D-F3ADF476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7EA-ACE2-4193-B278-CEF4C76B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85D-5328-4E45-898F-11DE7DC2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39B9-EFFF-480D-BDAD-6E8D84C7D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струкц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"Как скачивать с Youtuba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zona-film.com/uploads/posts/2011-09/1315721976_1291263714_1.jpg"/>
          <p:cNvPicPr/>
          <p:nvPr/>
        </p:nvPicPr>
        <p:blipFill>
          <a:blip r:embed="rId1"/>
          <a:stretch/>
        </p:blipFill>
        <p:spPr>
          <a:xfrm>
            <a:off x="3500280" y="3929040"/>
            <a:ext cx="2143440" cy="267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3.bp.blogspot.com/-udjTvakX8pU/TZyS6lz2g9I/AAAAAAAABjY/2s1bLqxHjMA/s1600/youtube.jpg"/>
          <p:cNvPicPr/>
          <p:nvPr/>
        </p:nvPicPr>
        <p:blipFill>
          <a:blip r:embed="rId2"/>
          <a:stretch/>
        </p:blipFill>
        <p:spPr>
          <a:xfrm>
            <a:off x="357120" y="214200"/>
            <a:ext cx="225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D:\Documents and Settings\Наташа.АВЕРЬЯНОВ\Мои документы\Мои рисунки\Изображение\7.jpg"/>
          <p:cNvPicPr/>
          <p:nvPr/>
        </p:nvPicPr>
        <p:blipFill>
          <a:blip r:embed="rId1"/>
          <a:stretch/>
        </p:blipFill>
        <p:spPr>
          <a:xfrm>
            <a:off x="357120" y="285840"/>
            <a:ext cx="81979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D:\Documents and Settings\Наташа.АВЕРЬЯНОВ\Мои документы\Мои рисунки\Изображение\8.jpg"/>
          <p:cNvPicPr/>
          <p:nvPr/>
        </p:nvPicPr>
        <p:blipFill>
          <a:blip r:embed="rId1"/>
          <a:stretch/>
        </p:blipFill>
        <p:spPr>
          <a:xfrm>
            <a:off x="500040" y="357120"/>
            <a:ext cx="831852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оследние годы потоковое видео повсеместно разбрелось по сайтам всего мира. Возможно, вы не знаете, что это такое, но часто с ним встречались. Все те видео ролики, которые проигрываются прямо на сайте без возможности скачать файл на свой компьютер для дальнейшего просмотра в свое удовольствие. Это все потоковое видео. А самый известный портал, который полностью основан на обмене роликами в реальном времени – это раскрученный Youtub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714240" y="357120"/>
            <a:ext cx="75009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пециальные программ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все-таки удобнее всего пользоваться специальными программами, чтобы сделать скачивание потокового видео максимально комфортным. Если вам, конечно, приходится делать это част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Free YouTube Download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траница программы (англ)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http://www.dvdvideosoft.com 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латформа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Windows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Язык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английский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Распространение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бесплатно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качать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http://www.dvdvideosoft.com/products/dvd/Free-YouTube-Download.htm 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Размер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5,7 М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D:\Documents and Settings\Наташа.АВЕРЬЯНОВ\Мои документы\Мои рисунки\Изображение\2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D:\Documents and Settings\Наташа.АВЕРЬЯНОВ\Мои документы\Мои рисунки\Изображение\3.jpg"/>
          <p:cNvPicPr/>
          <p:nvPr/>
        </p:nvPicPr>
        <p:blipFill>
          <a:blip r:embed="rId1"/>
          <a:stretch/>
        </p:blipFill>
        <p:spPr>
          <a:xfrm>
            <a:off x="642960" y="142920"/>
            <a:ext cx="750096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D:\Documents and Settings\Наташа.АВЕРЬЯНОВ\Мои документы\Мои рисунки\Изображение\4.jpg"/>
          <p:cNvPicPr/>
          <p:nvPr/>
        </p:nvPicPr>
        <p:blipFill>
          <a:blip r:embed="rId1"/>
          <a:stretch/>
        </p:blipFill>
        <p:spPr>
          <a:xfrm>
            <a:off x="357120" y="285840"/>
            <a:ext cx="828684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D:\Documents and Settings\Наташа.АВЕРЬЯНОВ\Мои документы\Мои рисунки\Изображение\5.jpg"/>
          <p:cNvPicPr/>
          <p:nvPr/>
        </p:nvPicPr>
        <p:blipFill>
          <a:blip r:embed="rId1"/>
          <a:stretch/>
        </p:blipFill>
        <p:spPr>
          <a:xfrm>
            <a:off x="357120" y="428760"/>
            <a:ext cx="84297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D:\Documents and Settings\Наташа.АВЕРЬЯНОВ\Мои документы\Мои рисунки\Изображение\6.jpg"/>
          <p:cNvPicPr/>
          <p:nvPr/>
        </p:nvPicPr>
        <p:blipFill>
          <a:blip r:embed="rId1"/>
          <a:stretch/>
        </p:blipFill>
        <p:spPr>
          <a:xfrm>
            <a:off x="357120" y="357120"/>
            <a:ext cx="84027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1-14T19:23:36Z</dcterms:modified>
  <cp:revision>4</cp:revision>
  <dc:subject/>
  <dc:title>Слайд 1</dc:title>
</cp:coreProperties>
</file>