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11232-B541-488A-839A-1A71A853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46C6B-A817-48DF-99C5-AB0DB5B4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31377-F5EB-471F-BF15-B4D2BFC1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78FD9-0129-4294-86A2-CD35E03E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44A2-6C52-4553-84C5-F3CFD748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236C-C344-40EB-AB3D-37F06C8C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ECE3-AFA3-4265-85C7-A6F115F8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E5A4-1E17-4CDF-91FE-57CCAAF2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9146-AF28-496B-90FA-4A80AFCE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04C2-3C20-4ED2-84B9-C8666318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FD4F-A63B-4BF1-B22E-BBBDB741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18F5F-C740-43CB-B749-558F7AA7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53F3-9CF7-445C-95AB-E8D5A802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15C2-1BED-4E13-A7D4-328AEA42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108D-D4FF-4DA4-8F43-B31847D1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6043-6ADC-4A79-9E94-5108F202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70CC-B178-4D4D-95CF-EFC117E1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32D07-6930-46A3-AA74-B3371B30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6A723-A013-4B13-8778-5CC9822D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AE03C-8DBD-421A-9E99-BE70C854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B0A70-DE05-456E-8388-9673A8E1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04229-4F02-479F-9FAD-E07D356A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0F592-7891-49E9-A933-D103EA8C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A7BBB-0B77-4B46-B769-091A6D68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8062-FBE5-49DC-B0A1-CD42C870E38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A791-ABF7-4BA0-B099-5C99DFAEF99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078440" y="0"/>
            <a:ext cx="506556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4191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Мозаика в наследии </a:t>
            </a:r>
            <a:br>
              <a:rPr sz="3400"/>
            </a:b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М.В. Ломоносова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ётр I 1754г.</a:t>
            </a:r>
            <a:br>
              <a:rPr sz="4200"/>
            </a:br>
            <a:br>
              <a:rPr sz="4200"/>
            </a:br>
            <a:r>
              <a:rPr b="0" lang="en-US" sz="2100" spc="-1" strike="noStrike">
                <a:solidFill>
                  <a:srgbClr val="ffffcc"/>
                </a:solidFill>
                <a:latin typeface="Tahoma"/>
              </a:rPr>
              <a:t>(Государственный Эрмитаж)</a:t>
            </a:r>
            <a:endParaRPr b="0" lang="en-US" sz="21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280040" y="0"/>
            <a:ext cx="486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Бог Отец 1757г. </a:t>
            </a:r>
            <a:br>
              <a:rPr sz="3400"/>
            </a:br>
            <a:br>
              <a:rPr sz="3400"/>
            </a:b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(Исторический Музей, </a:t>
            </a:r>
            <a:br>
              <a:rPr sz="2500"/>
            </a:b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Москва)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130640" y="0"/>
            <a:ext cx="501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3809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Александр Невский 1757-1758гг.</a:t>
            </a:r>
            <a:br>
              <a:rPr sz="3400"/>
            </a:b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( Музей Ломоносова)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919680" y="0"/>
            <a:ext cx="52243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50532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Императрица Елизавета Петровна 1758-1760гг.</a:t>
            </a:r>
            <a:br>
              <a:rPr sz="3400"/>
            </a:b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400"/>
            </a:br>
            <a:r>
              <a:rPr b="0" lang="en-US" sz="2100" spc="-1" strike="noStrike">
                <a:solidFill>
                  <a:srgbClr val="ffffcc"/>
                </a:solidFill>
                <a:latin typeface="Tahoma"/>
              </a:rPr>
              <a:t>(Государственный Русский Музей)</a:t>
            </a:r>
            <a:endParaRPr b="0" lang="en-US" sz="21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81360" y="0"/>
            <a:ext cx="546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257440" y="761760"/>
            <a:ext cx="34290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Апостол Пётр 1761г.</a:t>
            </a:r>
            <a:br>
              <a:rPr sz="3800"/>
            </a:b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(Государственный Эрмитаж)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1219320"/>
            <a:ext cx="3657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Екатерина II 1763г.</a:t>
            </a:r>
            <a:br>
              <a:rPr sz="3400"/>
            </a:b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(Государственный Русский Музей)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064040" y="0"/>
            <a:ext cx="507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616200" y="0"/>
            <a:ext cx="55278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3276720" cy="62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ahoma"/>
              </a:rPr>
              <a:t>Мозаичный портрет П. И. Шувалова. </a:t>
            </a:r>
            <a:br>
              <a:rPr sz="2900"/>
            </a:br>
            <a:r>
              <a:rPr b="0" lang="en-US" sz="2900" spc="-1" strike="noStrike">
                <a:solidFill>
                  <a:srgbClr val="ffffcc"/>
                </a:solidFill>
                <a:latin typeface="Tahoma"/>
              </a:rPr>
              <a:t>1785 г.</a:t>
            </a:r>
            <a:br>
              <a:rPr sz="2900"/>
            </a:br>
            <a:br>
              <a:rPr sz="2900"/>
            </a:br>
            <a:r>
              <a:rPr b="0" lang="en-US" sz="1900" spc="-1" strike="noStrike">
                <a:solidFill>
                  <a:srgbClr val="ffffcc"/>
                </a:solidFill>
                <a:latin typeface="Tahoma"/>
              </a:rPr>
              <a:t>Мастерская М. Ломоносова. Эрмитаж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1905120"/>
            <a:ext cx="289548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Мозаичный портрет великого князя Петра Федоровича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21120" y="0"/>
            <a:ext cx="61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Мозаичные картины, выполненные в мастерской Ломоносова, стали яркой страницей в истории </a:t>
            </a:r>
            <a:br>
              <a:rPr sz="4200"/>
            </a:b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усского искусства.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286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СПАСИБО ЗА ВНИМАНИЕ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В 1745-1746 годах граф Воронцов, вернувшись из путешествия по Европе, привез в Россию мозаичные картины, полученные в подарок от папы Бенедикта ХIV в Риме. 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М.В. Ломоносов, вдохновившись этими картинами, решает заняться разработкой технических приемов изготовления мозаики. 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3429000" cy="2562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2390760" cy="2590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400800" y="21337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Использованы материалы сайта: http://www.historydata.ru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ahoma"/>
              </a:rPr>
              <a:t>Ломоносов, идя строго научным путем, после множества опытных плавок стекла с минеральными красителями, выработал богатейшую палитру окрасок стекла.</a:t>
            </a:r>
            <a:endParaRPr b="0" lang="en-US" sz="21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rcRect l="0" t="0" r="4162" b="0"/>
          <a:stretch/>
        </p:blipFill>
        <p:spPr>
          <a:xfrm>
            <a:off x="4419720" y="2652840"/>
            <a:ext cx="34290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М.В.Ломоносов стал величайшим поклонником мозаики. 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следние семнадцать лет своей жизни он самозабвенно вёл мозаичные работы с исключительным упорством вплоть до самой смерти.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2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ru-RU" sz="1900" spc="-1" strike="noStrike">
                <a:solidFill>
                  <a:srgbClr val="ffffcc"/>
                </a:solidFill>
                <a:latin typeface="Tahoma"/>
              </a:rPr>
              <a:t>Мастерская М.В.Ломонсова </a:t>
            </a:r>
            <a:br>
              <a:rPr sz="1900"/>
            </a:b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78204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Tahoma"/>
              </a:rPr>
              <a:t>Нерукотворный Спас -</a:t>
            </a:r>
            <a:br>
              <a:rPr sz="1900"/>
            </a:br>
            <a:r>
              <a:rPr b="0" lang="en-US" sz="1900" spc="-1" strike="noStrike">
                <a:solidFill>
                  <a:srgbClr val="ffffcc"/>
                </a:solidFill>
                <a:latin typeface="Tahoma"/>
              </a:rPr>
              <a:t>пробная мозаика М.В.Ломоносова 1753г.</a:t>
            </a: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Первая, пробная мозаика Ломоносова не очень декоративна и проста. </a:t>
            </a:r>
            <a:br>
              <a:rPr sz="2500"/>
            </a:b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97400" y="0"/>
            <a:ext cx="564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Но затем мозаики Ломоносова становятся более красочней и богаче.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Увеличение палитры дало ему возможность создавать мозаики, которые по силе впечатления не уступали живописи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295280" y="6400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Фабрика М. В. Ломоносова. Мозаик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-1078" t="3766" r="2176" b="13441"/>
          <a:stretch/>
        </p:blipFill>
        <p:spPr>
          <a:xfrm>
            <a:off x="609480" y="2362320"/>
            <a:ext cx="762012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001000" cy="55533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ahoma"/>
              </a:rPr>
              <a:t>«Полтавская баталия». Мозаика в здании Академии Наук. </a:t>
            </a:r>
            <a:br>
              <a:rPr sz="2100"/>
            </a:br>
            <a:r>
              <a:rPr b="0" lang="en-US" sz="1900" spc="-1" strike="noStrike">
                <a:solidFill>
                  <a:srgbClr val="ffffcc"/>
                </a:solidFill>
                <a:latin typeface="Tahoma"/>
              </a:rPr>
              <a:t>Санкт-Петербург. 1762—1764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Всего в мастерских М. В. Ломоносова было выложено </a:t>
            </a:r>
            <a:br>
              <a:rPr sz="3400"/>
            </a:b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около сорока мозаичных картин,</a:t>
            </a:r>
            <a:br>
              <a:rPr sz="3400"/>
            </a:b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 из них найдена только 21. </a:t>
            </a:r>
            <a:br>
              <a:rPr sz="3400"/>
            </a:b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Судьба остальных картин неизвестна.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cc"/>
                </a:solidFill>
                <a:latin typeface="Tahoma"/>
              </a:rPr>
              <a:t>Основным жанром, созданных </a:t>
            </a:r>
            <a:br>
              <a:rPr sz="2500"/>
            </a:br>
            <a:r>
              <a:rPr b="1" lang="ru-RU" sz="2500" spc="-1" strike="noStrike">
                <a:solidFill>
                  <a:srgbClr val="ffffcc"/>
                </a:solidFill>
                <a:latin typeface="Tahoma"/>
              </a:rPr>
              <a:t>М. В. Ломоносовым мозаик, был портрет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100" spc="-1" strike="noStrike">
                <a:solidFill>
                  <a:srgbClr val="ffffcc"/>
                </a:solidFill>
                <a:latin typeface="Tahoma"/>
              </a:rPr>
              <a:t>Коль пользы от Стекла приобрело велики,</a:t>
            </a:r>
            <a:br>
              <a:rPr sz="3400"/>
            </a:br>
            <a:r>
              <a:rPr b="0" lang="ru-RU" sz="2100" spc="-1" strike="noStrike">
                <a:solidFill>
                  <a:srgbClr val="ffffcc"/>
                </a:solidFill>
                <a:latin typeface="Tahoma"/>
              </a:rPr>
              <a:t>Доказывают то Финифти, Мозаики,</a:t>
            </a:r>
            <a:br>
              <a:rPr sz="2100"/>
            </a:br>
            <a:r>
              <a:rPr b="0" lang="ru-RU" sz="2100" spc="-1" strike="noStrike">
                <a:solidFill>
                  <a:srgbClr val="ffffcc"/>
                </a:solidFill>
                <a:latin typeface="Tahoma"/>
              </a:rPr>
              <a:t>Которы в век хранят Геройских бодрость лиц,</a:t>
            </a:r>
            <a:br>
              <a:rPr sz="2100"/>
            </a:br>
            <a:r>
              <a:rPr b="0" lang="ru-RU" sz="2100" spc="-1" strike="noStrike">
                <a:solidFill>
                  <a:srgbClr val="ffffcc"/>
                </a:solidFill>
                <a:latin typeface="Tahoma"/>
              </a:rPr>
              <a:t>Приятность нежную и красоту девиц,</a:t>
            </a:r>
            <a:br>
              <a:rPr sz="2100"/>
            </a:br>
            <a:r>
              <a:rPr b="0" lang="ru-RU" sz="2100" spc="-1" strike="noStrike">
                <a:solidFill>
                  <a:srgbClr val="ffffcc"/>
                </a:solidFill>
                <a:latin typeface="Tahoma"/>
              </a:rPr>
              <a:t>Чрез множество веков себе подобны зрятся</a:t>
            </a:r>
            <a:br>
              <a:rPr sz="2100"/>
            </a:br>
            <a:r>
              <a:rPr b="0" lang="ru-RU" sz="2100" spc="-1" strike="noStrike">
                <a:solidFill>
                  <a:srgbClr val="ffffcc"/>
                </a:solidFill>
                <a:latin typeface="Tahoma"/>
              </a:rPr>
              <a:t>И ветхой древности грызенья не боятся.</a:t>
            </a:r>
            <a:br>
              <a:rPr sz="2100"/>
            </a:br>
            <a:br>
              <a:rPr sz="2500"/>
            </a:br>
            <a:r>
              <a:rPr b="0" lang="ru-RU" sz="2100" spc="-1" strike="noStrike">
                <a:solidFill>
                  <a:srgbClr val="ffffcc"/>
                </a:solidFill>
                <a:latin typeface="Tahoma"/>
              </a:rPr>
              <a:t>М. В. Ломоносов</a:t>
            </a:r>
            <a:r>
              <a:rPr b="1" lang="ru-RU" sz="21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br>
              <a:rPr sz="3000"/>
            </a:br>
            <a:endParaRPr b="0" lang="en-US" sz="21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1:14:54Z</dcterms:created>
  <dc:creator>Елена</dc:creator>
  <dc:description/>
  <dc:language>en-US</dc:language>
  <cp:lastModifiedBy>Елена</cp:lastModifiedBy>
  <dcterms:modified xsi:type="dcterms:W3CDTF">2012-02-06T07:20:5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