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7CE-079D-4C1F-9BC3-8A7E528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E75-4A34-4AEA-BA66-FA91A7C8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67F-CEA9-4563-ACDA-39479469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D5E-50BE-4965-B86B-5E2D61A5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BDE-AF24-411C-B471-8F451BDC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30B9-42EA-4CBF-9772-0DC3CA1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A1AD-D074-45FA-8C2D-317F9851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8F5-CB9F-4CAD-92BF-8EDC7939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9853-D8EF-457B-AB28-7717870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16E-E8BA-4D20-A729-10E2859C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93AE-093D-4F0A-8600-4AD5AF5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9B8-45D3-4E30-A435-F4EF05C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9D0-C1B1-4A41-BBF3-C85AA39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DE9F-BDFB-4CC6-A3F0-5B1C0B9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1706-72A4-49CE-921B-E07DF032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8A14-2430-462E-8328-036EC582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B45-1B3C-4BB6-82A0-6258CC06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A76-10C3-4343-97D6-A60EB1E9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E32-CB00-486A-BFFF-B071D99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F37-0BDE-4340-BF02-3CECFCE3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7A9-492A-49AC-97DB-A5F73A9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7C4-5C7F-4595-88ED-11B36A6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581-FE39-4A28-B8D8-8DB94A7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0E9-62F1-428C-9766-6653E37A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A1B-950F-45DB-99A5-F7C2170A1E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7387-269E-40D8-853C-4949EB0D95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Органы   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кровообращения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овеносная система рыб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кнутая, состоит из сердца и сосуд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рдце рыбы двухкамерное, состоит из предсердия и желудочка. Один круг крово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суды: артерии, капилляры, ве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8229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52680" y="3710160"/>
            <a:ext cx="5562720" cy="31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овеносная система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кнут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ердце состоит из трёх камер: желудочка и двух предсердий. Правое предсердие содержит только венозную кровь, левое – только артериальную, в желудочке кровь смешанн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ва круг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ово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ьшой и мал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овеносная система пти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рдце четырёхкамерное. В нём два предсердия, два желудочка. Артериальная и венозная кровь полностью разделе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ва круга крово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4054320"/>
            <a:ext cx="72756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оение сосудов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73152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41044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оение сосудов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овеносная система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оение серд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2614680"/>
            <a:ext cx="53341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овообращ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5632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уть крови от правого желудочка через артерии, капилляры и вены легких до левого предсердия называется легочным или малым кругом кровообращения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уть крови от левого желудочка через артерии, капилляры и вены всех органов тела до правого предсердия называют большим, кругом кровообращения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Схема кругов кровообращения"/>
          <p:cNvPicPr/>
          <p:nvPr/>
        </p:nvPicPr>
        <p:blipFill>
          <a:blip r:embed="rId1"/>
          <a:stretch/>
        </p:blipFill>
        <p:spPr>
          <a:xfrm>
            <a:off x="520236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6:54Z</dcterms:created>
  <dc:creator>Natasha</dc:creator>
  <dc:description/>
  <dc:language>en-US</dc:language>
  <cp:lastModifiedBy>Natasha</cp:lastModifiedBy>
  <dcterms:modified xsi:type="dcterms:W3CDTF">2012-02-05T16:06:08Z</dcterms:modified>
  <cp:revision>7</cp:revision>
  <dc:subject/>
  <dc:title>Органы    кровообращения</dc:title>
</cp:coreProperties>
</file>