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E3F3-91CB-4E63-8DF6-81496D565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251-8172-498E-8D21-6FF70CE07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A06-42B8-444E-88D7-BA948BEF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9F3-5AC0-428C-ABFB-310818C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8D6-B6E1-43B6-9643-AEDAD3A5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442-8D9F-4B2F-993E-E0F5DFE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5DAE-67D8-4B13-8D3A-9118D2F1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31C0-1640-4229-83C7-FCF3BF6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5D1-18AD-4A12-A3AB-EAC7231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A4BA-B8DC-466F-8E20-561D937F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12F-8D1C-4242-99EC-9456A029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10F-B1A7-4524-8529-390B565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06A-FACE-4475-8569-6014D9C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693-8DE2-440F-9A46-1AEF409C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A06-6997-4D09-9A4E-6C30015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DA0-8C01-4362-AC36-F146161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FF20-105E-41A5-80EE-C1196776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7C2-808B-4275-BB2D-C4DF44EC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D207-5964-418A-88D2-7F7AC473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DDC5-9A6D-449E-B53C-6674A436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BE4A-1D60-4D18-8A40-8AC78DD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88DD-229D-422E-8959-82603BD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5EB0-37B4-44E9-81E4-F665561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9EB-2D21-4A3C-8FBF-DC4046EF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48A-831D-4D83-AF98-8F12EDA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E5E2-17A1-440B-A831-4DD693E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872B-2C32-410A-ACC5-49C85F0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E08F-D935-4EE7-BA9F-F2E0CE8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97F9-DE35-4337-9F65-E30BD6A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AA26-536D-44AB-92EB-C337D91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2FE5-1992-4C50-BF67-E49AE5C1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630C-4ABB-473B-BE4D-B95F74A7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ACCE-EB30-4F39-9C6B-4BAE4EC0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C430-02CE-4FD0-9E50-A519CD2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DA20-BDE3-4628-9E4A-F4B739E8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01A-6808-4153-ABC9-0472817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04C9-CA78-4181-B323-F518DADE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E3BB1-247D-4C17-B91A-ED1EDD9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C4A5-2061-4CDE-90A1-D0E1B89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0583-0F05-4E45-8F0F-8D3898E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0B6A-3A75-4571-8B18-FB45DDD9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C7AF-AA22-40DA-AC3F-FC093C2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7A37-3D4A-4447-BC38-DAE6FD02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C5B8-C9D8-4CCB-93B1-ACEE5AA4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DA90-EE94-4AE1-AEAF-66961B4D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790-A6AB-4D4B-91B4-C5D5DB8C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2EE-2862-44BE-83F4-574F665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05C-2421-469A-8AA1-5B67EDC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433-6343-42C5-AE65-0B545F7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2CE-4ECC-4C2D-9389-79415BF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FF7-7474-431E-81B1-B4162E34495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694-06C1-48E5-AB13-03488B8F2A6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47B-9A5B-4CA9-BB82-757C18B7CDB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52A-985B-4888-A397-8438A4D70EB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395280" y="404640"/>
            <a:ext cx="762156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3" name="Picture 5" descr="img016"/>
          <p:cNvPicPr/>
          <p:nvPr/>
        </p:nvPicPr>
        <p:blipFill>
          <a:blip r:embed="rId1"/>
          <a:stretch/>
        </p:blipFill>
        <p:spPr>
          <a:xfrm>
            <a:off x="5148360" y="1773360"/>
            <a:ext cx="3786120" cy="4751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70c0"/>
                </a:solidFill>
                <a:latin typeface="Arial"/>
              </a:rPr>
              <a:t>Равил Фәйзуллин</a:t>
            </a:r>
            <a:endParaRPr b="0" lang="en-US" sz="5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934640"/>
            <a:ext cx="4475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Татарстанның халык шагыйре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Г.Тукай исемендәге Дәүлә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</a:rPr>
              <a:t>премиясе лауреат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176040" y="695160"/>
            <a:ext cx="8669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189000" y="542880"/>
            <a:ext cx="86929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176040" y="-6480"/>
            <a:ext cx="8596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231840" y="701640"/>
            <a:ext cx="8540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231840" y="701640"/>
            <a:ext cx="86072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08080" y="701640"/>
            <a:ext cx="885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илсияр\Desktop\img020.jpg"/>
          <p:cNvPicPr/>
          <p:nvPr/>
        </p:nvPicPr>
        <p:blipFill>
          <a:blip r:embed="rId2"/>
          <a:stretch/>
        </p:blipFill>
        <p:spPr>
          <a:xfrm>
            <a:off x="6516720" y="1484280"/>
            <a:ext cx="2216160" cy="367344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1" descr=""/>
          <p:cNvPicPr/>
          <p:nvPr/>
        </p:nvPicPr>
        <p:blipFill>
          <a:blip r:embed="rId3"/>
          <a:stretch/>
        </p:blipFill>
        <p:spPr>
          <a:xfrm>
            <a:off x="231840" y="414360"/>
            <a:ext cx="8746920" cy="143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илсияр\Desktop\img018.jpg"/>
          <p:cNvPicPr/>
          <p:nvPr/>
        </p:nvPicPr>
        <p:blipFill>
          <a:blip r:embed="rId4"/>
          <a:stretch/>
        </p:blipFill>
        <p:spPr>
          <a:xfrm>
            <a:off x="6516720" y="4292640"/>
            <a:ext cx="2376360" cy="256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илсияр\Desktop\img019.jpg"/>
          <p:cNvPicPr/>
          <p:nvPr/>
        </p:nvPicPr>
        <p:blipFill>
          <a:blip r:embed="rId5"/>
          <a:stretch/>
        </p:blipFill>
        <p:spPr>
          <a:xfrm>
            <a:off x="4572000" y="3716280"/>
            <a:ext cx="2195640" cy="3141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илсияр\Desktop\img017.jpg"/>
          <p:cNvPicPr/>
          <p:nvPr/>
        </p:nvPicPr>
        <p:blipFill>
          <a:blip r:embed="rId6"/>
          <a:stretch/>
        </p:blipFill>
        <p:spPr>
          <a:xfrm>
            <a:off x="324000" y="1989000"/>
            <a:ext cx="2706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27:13Z</dcterms:created>
  <dc:creator>илсияр</dc:creator>
  <dc:description/>
  <dc:language>en-US</dc:language>
  <cp:lastModifiedBy>илсияр</cp:lastModifiedBy>
  <dcterms:modified xsi:type="dcterms:W3CDTF">2012-02-01T09:15:05Z</dcterms:modified>
  <cp:revision>15</cp:revision>
  <dc:subject/>
  <dc:title>Слайд 1</dc:title>
</cp:coreProperties>
</file>