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FE3-253B-44DA-9BF3-F4BC0B8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6DE-8E8C-4AB9-BFA7-40CF1E8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753-FF18-4F93-A707-D6DCC587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88B-779D-47E8-BED0-349318FC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2DE-7B2F-486C-8D2A-64CDEE4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E1B-2BDE-48D7-A1AE-D345DC5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02E-CE1A-47B0-83FD-9BD65A3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355-400B-4F93-8597-7BB0F8B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986-FE2F-43FD-8799-8C36370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BA7-77CA-45E2-83C0-2B3E270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6AA-5B1B-4D3A-A114-2673B5B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9B6-127D-410D-B390-A3131E1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5F6E-B463-4D15-AB58-9C6187BFE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r>
              <a:rPr b="1" lang="ru-RU" sz="4800" spc="-1" strike="noStrike">
                <a:solidFill>
                  <a:srgbClr val="684522"/>
                </a:solidFill>
                <a:latin typeface="Calibri"/>
              </a:rPr>
              <a:t>Строение и функции органов мочевыделительной сис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928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ru-RU" sz="6000" spc="-1" strike="noStrike">
                <a:solidFill>
                  <a:srgbClr val="684522"/>
                </a:solidFill>
                <a:latin typeface="Calibri"/>
              </a:rPr>
              <a:t>Органы выделен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84522"/>
                </a:solidFill>
                <a:latin typeface="Calibri"/>
              </a:rPr>
              <a:t>организм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fkv.JPG"/>
          <p:cNvPicPr/>
          <p:nvPr/>
        </p:nvPicPr>
        <p:blipFill>
          <a:blip r:embed="rId1"/>
          <a:stretch/>
        </p:blipFill>
        <p:spPr>
          <a:xfrm>
            <a:off x="6321600" y="1484280"/>
            <a:ext cx="2822400" cy="2884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84522"/>
                </a:solidFill>
                <a:latin typeface="Calibri"/>
              </a:rPr>
              <a:t>Проверка рабо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2205000"/>
            <a:ext cx="85010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Нефрон состоит из почеч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капсулы, капиллярного клубоч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извитого почечного каналь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оплетенного капиллярны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сосудами и собирательной трубоч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оканчивающейся сосо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4" descr="fkv.JPG"/>
          <p:cNvPicPr/>
          <p:nvPr/>
        </p:nvPicPr>
        <p:blipFill>
          <a:blip r:embed="rId1"/>
          <a:stretch/>
        </p:blipFill>
        <p:spPr>
          <a:xfrm>
            <a:off x="6321600" y="1989000"/>
            <a:ext cx="2822400" cy="2884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84522"/>
                </a:solidFill>
                <a:latin typeface="Calibri"/>
              </a:rPr>
              <a:t>Проверка рабо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5573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Корковое вещество по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образовано капсулами нефр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Мозговое вещество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извитыми канальцами неф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В почечную лоханку стекает моч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которая удаляется из орган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84522"/>
                </a:solidFill>
                <a:latin typeface="Calibri"/>
              </a:rPr>
              <a:t>Интересные факт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35600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001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4522"/>
                </a:solidFill>
                <a:latin typeface="Calibri"/>
              </a:rPr>
              <a:t>Длина одного нефрона 3 с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4522"/>
                </a:solidFill>
                <a:latin typeface="Calibri"/>
              </a:rPr>
              <a:t>В одной почке около 1 мл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84522"/>
                </a:solidFill>
                <a:latin typeface="Calibri"/>
              </a:rPr>
              <a:t>нефр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8" descr="nephron.gif"/>
          <p:cNvPicPr/>
          <p:nvPr/>
        </p:nvPicPr>
        <p:blipFill>
          <a:blip r:embed="rId1"/>
          <a:stretch/>
        </p:blipFill>
        <p:spPr>
          <a:xfrm>
            <a:off x="468360" y="1557360"/>
            <a:ext cx="35002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4" descr="мкад.png"/>
          <p:cNvPicPr/>
          <p:nvPr/>
        </p:nvPicPr>
        <p:blipFill>
          <a:blip r:embed="rId1"/>
          <a:stretch/>
        </p:blipFill>
        <p:spPr>
          <a:xfrm>
            <a:off x="5580000" y="3500280"/>
            <a:ext cx="2633760" cy="298296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8" descr="glomero.jpg"/>
          <p:cNvPicPr/>
          <p:nvPr/>
        </p:nvPicPr>
        <p:blipFill>
          <a:blip r:embed="rId2"/>
          <a:stretch/>
        </p:blipFill>
        <p:spPr>
          <a:xfrm>
            <a:off x="324000" y="2852640"/>
            <a:ext cx="4424040" cy="36435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16" descr="4ca6e1de7c9e.jpg"/>
          <p:cNvPicPr/>
          <p:nvPr/>
        </p:nvPicPr>
        <p:blipFill>
          <a:blip r:embed="rId3"/>
          <a:stretch/>
        </p:blipFill>
        <p:spPr>
          <a:xfrm>
            <a:off x="5076720" y="2060640"/>
            <a:ext cx="3328920" cy="200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84522"/>
                </a:solidFill>
                <a:latin typeface="Calibri"/>
              </a:rPr>
              <a:t>Интересные факт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24000" y="112536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4522"/>
                </a:solidFill>
                <a:latin typeface="Arial"/>
              </a:rPr>
              <a:t>Длина всех извитых канальцев нефронов около 1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716360" y="1268280"/>
            <a:ext cx="403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4522"/>
                </a:solidFill>
                <a:latin typeface="Arial"/>
              </a:rPr>
              <a:t>Длина МКАДа 109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84522"/>
                </a:solidFill>
                <a:latin typeface="Arial"/>
              </a:rPr>
              <a:t>Основные понят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Мочевыделительная систем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Почки, мочеточники, мочевой пузырь, уретр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Корковый слой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Мозговой слой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Лохан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84522"/>
                </a:solidFill>
                <a:latin typeface="Arial"/>
              </a:rPr>
              <a:t>Основные понят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Нефрон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Капсула нефрон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Извитые канальца нефрон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Собирательная трубоч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Arial"/>
              </a:rPr>
              <a:t>Сосоче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84522"/>
                </a:solidFill>
                <a:latin typeface="Calibri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lllll.jpg"/>
          <p:cNvPicPr/>
          <p:nvPr/>
        </p:nvPicPr>
        <p:blipFill>
          <a:blip r:embed="rId1"/>
          <a:stretch/>
        </p:blipFill>
        <p:spPr>
          <a:xfrm>
            <a:off x="4500720" y="3857760"/>
            <a:ext cx="292896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0" descr="023.jpg"/>
          <p:cNvPicPr/>
          <p:nvPr/>
        </p:nvPicPr>
        <p:blipFill>
          <a:blip r:embed="rId2"/>
          <a:stretch/>
        </p:blipFill>
        <p:spPr>
          <a:xfrm>
            <a:off x="7143840" y="2994120"/>
            <a:ext cx="1785960" cy="360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84522"/>
                </a:solidFill>
                <a:latin typeface="Calibri"/>
              </a:rPr>
              <a:t>Органы выделения организ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Yeastkill.jpg"/>
          <p:cNvPicPr/>
          <p:nvPr/>
        </p:nvPicPr>
        <p:blipFill>
          <a:blip r:embed="rId3"/>
          <a:stretch/>
        </p:blipFill>
        <p:spPr>
          <a:xfrm>
            <a:off x="2214720" y="2690640"/>
            <a:ext cx="2786040" cy="3810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3"/>
          <p:cNvSpPr/>
          <p:nvPr/>
        </p:nvSpPr>
        <p:spPr>
          <a:xfrm>
            <a:off x="2357280" y="1285920"/>
            <a:ext cx="25718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Конечный от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84522"/>
                </a:solidFill>
                <a:latin typeface="Arial"/>
              </a:rPr>
              <a:t>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000760" y="1285920"/>
            <a:ext cx="1571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522"/>
                </a:solidFill>
                <a:latin typeface="Arial"/>
              </a:rPr>
              <a:t>Легк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14200" y="1285920"/>
            <a:ext cx="20005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522"/>
                </a:solidFill>
                <a:latin typeface="Arial"/>
              </a:rPr>
              <a:t>Кож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(потовые желез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6643800" y="1285920"/>
            <a:ext cx="23572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522"/>
                </a:solidFill>
                <a:latin typeface="Arial"/>
              </a:rPr>
              <a:t>Мочевыдели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4" descr="k1575527.jpg"/>
          <p:cNvPicPr/>
          <p:nvPr/>
        </p:nvPicPr>
        <p:blipFill>
          <a:blip r:embed="rId4"/>
          <a:stretch/>
        </p:blipFill>
        <p:spPr>
          <a:xfrm>
            <a:off x="214200" y="4000680"/>
            <a:ext cx="23180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Название орг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Кож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2. Конечный отдел пищеваритель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3. Легкие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4.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очевыделительная 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3280" y="1357200"/>
            <a:ext cx="4214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Вещества, удаляемые из орг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инеральные соли, мочевина, вод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переваримые остатки пи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; Н</a:t>
            </a:r>
            <a:r>
              <a:rPr b="0" i="1" lang="ru-RU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; </a:t>
            </a:r>
            <a:r>
              <a:rPr b="0" i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</a:t>
            </a: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да, мочевина, мочевая кислота, мин. соли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84522"/>
                </a:solidFill>
                <a:latin typeface="Arial"/>
              </a:rPr>
              <a:t>Заполните таблиц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095920" y="1000080"/>
            <a:ext cx="51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84522"/>
                </a:solidFill>
                <a:uFillTx/>
                <a:latin typeface="Arial"/>
              </a:rPr>
              <a:t>«Органы выде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0"/>
          <p:cNvSpPr/>
          <p:nvPr/>
        </p:nvSpPr>
        <p:spPr>
          <a:xfrm>
            <a:off x="428760" y="3571920"/>
            <a:ext cx="8286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428760" y="5000760"/>
            <a:ext cx="8358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>
            <a:off x="357120" y="5572080"/>
            <a:ext cx="8429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6"/>
          <p:cNvSpPr/>
          <p:nvPr/>
        </p:nvSpPr>
        <p:spPr>
          <a:xfrm>
            <a:off x="357120" y="6643800"/>
            <a:ext cx="8429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8"/>
          <p:cNvSpPr/>
          <p:nvPr/>
        </p:nvSpPr>
        <p:spPr>
          <a:xfrm>
            <a:off x="500040" y="2643120"/>
            <a:ext cx="82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0"/>
          <p:cNvSpPr/>
          <p:nvPr/>
        </p:nvSpPr>
        <p:spPr>
          <a:xfrm flipH="1">
            <a:off x="4355640" y="1714680"/>
            <a:ext cx="1800" cy="493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2"/>
          <p:cNvSpPr/>
          <p:nvPr/>
        </p:nvSpPr>
        <p:spPr>
          <a:xfrm>
            <a:off x="500040" y="1714680"/>
            <a:ext cx="8215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urinary_tract.jpg"/>
          <p:cNvPicPr/>
          <p:nvPr/>
        </p:nvPicPr>
        <p:blipFill>
          <a:blip r:embed="rId1"/>
          <a:stretch/>
        </p:blipFill>
        <p:spPr>
          <a:xfrm>
            <a:off x="0" y="642960"/>
            <a:ext cx="4964040" cy="5286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478400" y="2133720"/>
            <a:ext cx="46674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75a2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удаляет из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жидкие продук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обмена веществ;</a:t>
            </a:r>
            <a:r>
              <a:rPr b="0" lang="ru-RU" sz="1800" spc="-1" strike="noStrike">
                <a:solidFill>
                  <a:srgbClr val="875a2d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714560" y="4508640"/>
            <a:ext cx="396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75a2d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 обеспечи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гомеостаз вместе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5a2d"/>
                </a:solidFill>
                <a:latin typeface="Arial"/>
              </a:rPr>
              <a:t>другими орг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4522"/>
                </a:solidFill>
                <a:latin typeface="Calibri"/>
              </a:rPr>
              <a:t>Мочевыделительная систем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59920"/>
            <a:ext cx="437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Times New Roman"/>
              </a:rPr>
              <a:t>Размеры п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11640" y="1483920"/>
            <a:ext cx="440064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75a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длина  около </a:t>
            </a: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10 с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75a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ширина  </a:t>
            </a: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6  с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75a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вес </a:t>
            </a:r>
            <a:r>
              <a:rPr b="0" lang="ru-RU" sz="3600" spc="-1" strike="noStrike">
                <a:solidFill>
                  <a:srgbClr val="875a2d"/>
                </a:solidFill>
                <a:latin typeface="Times New Roman"/>
              </a:rPr>
              <a:t>120-200 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8" descr="238091.jpg"/>
          <p:cNvPicPr/>
          <p:nvPr/>
        </p:nvPicPr>
        <p:blipFill>
          <a:blip r:embed="rId1"/>
          <a:stretch/>
        </p:blipFill>
        <p:spPr>
          <a:xfrm>
            <a:off x="539640" y="692280"/>
            <a:ext cx="3286080" cy="51670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851280" y="4005360"/>
            <a:ext cx="49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Times New Roman"/>
              </a:rPr>
              <a:t>За сутки через почку проходит</a:t>
            </a:r>
            <a:r>
              <a:rPr b="1" lang="ru-RU" sz="4400" spc="-1" strike="noStrike">
                <a:solidFill>
                  <a:srgbClr val="875a2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держимое 3"/>
          <p:cNvSpPr/>
          <p:nvPr/>
        </p:nvSpPr>
        <p:spPr>
          <a:xfrm>
            <a:off x="4572000" y="5300640"/>
            <a:ext cx="3895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4522"/>
                </a:solidFill>
                <a:latin typeface="Times New Roman"/>
              </a:rPr>
              <a:t>1700-1800 л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84522"/>
                </a:solidFill>
                <a:latin typeface="Calibri"/>
              </a:rPr>
              <a:t>Задание на карточ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238091.jpg"/>
          <p:cNvPicPr/>
          <p:nvPr/>
        </p:nvPicPr>
        <p:blipFill>
          <a:blip r:embed="rId1"/>
          <a:stretch/>
        </p:blipFill>
        <p:spPr>
          <a:xfrm>
            <a:off x="857160" y="1643040"/>
            <a:ext cx="3000600" cy="471816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6" descr="kidney12.JPG"/>
          <p:cNvPicPr/>
          <p:nvPr/>
        </p:nvPicPr>
        <p:blipFill>
          <a:blip r:embed="rId2"/>
          <a:stretch/>
        </p:blipFill>
        <p:spPr>
          <a:xfrm>
            <a:off x="5143680" y="1571760"/>
            <a:ext cx="2722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07020702.gif"/>
          <p:cNvPicPr/>
          <p:nvPr/>
        </p:nvPicPr>
        <p:blipFill>
          <a:blip r:embed="rId1"/>
          <a:stretch/>
        </p:blipFill>
        <p:spPr>
          <a:xfrm>
            <a:off x="684360" y="125280"/>
            <a:ext cx="7785000" cy="6732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4143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Calibri"/>
              </a:rPr>
              <a:t>Строение п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785880" y="3286080"/>
            <a:ext cx="1428840" cy="4597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Лох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714240" y="1500120"/>
            <a:ext cx="1943280" cy="4597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714240" y="2000160"/>
            <a:ext cx="1571760" cy="37620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85880" y="2428920"/>
            <a:ext cx="1655640" cy="8254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Почечная арт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55640" y="3789360"/>
            <a:ext cx="1655640" cy="8254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Почечная 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55640" y="6021360"/>
            <a:ext cx="2016000" cy="4597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Мочеточ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300720" y="1052640"/>
            <a:ext cx="2087640" cy="8254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Фиброзная капс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659640" y="2708280"/>
            <a:ext cx="1800000" cy="8254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Корков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588000" y="4221000"/>
            <a:ext cx="1800360" cy="8254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4522"/>
                </a:solidFill>
                <a:latin typeface="Arial"/>
              </a:rPr>
              <a:t>Мозгов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3429000" y="428760"/>
            <a:ext cx="207180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928520"/>
            <a:ext cx="37861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522"/>
                </a:solidFill>
                <a:latin typeface="Calibri"/>
              </a:rPr>
              <a:t>(строение нефрон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1071720"/>
            <a:ext cx="28576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286240" y="13572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2357280" y="1071720"/>
            <a:ext cx="20005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3143160" y="464328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2500200" y="5715000"/>
            <a:ext cx="17146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6000840" y="4714920"/>
            <a:ext cx="13572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7429680" y="357120"/>
            <a:ext cx="642600" cy="628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gd_art_002.jpg"/>
          <p:cNvPicPr/>
          <p:nvPr/>
        </p:nvPicPr>
        <p:blipFill>
          <a:blip r:embed="rId1"/>
          <a:stretch/>
        </p:blipFill>
        <p:spPr>
          <a:xfrm>
            <a:off x="4286160" y="500040"/>
            <a:ext cx="4621320" cy="60008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0" y="357120"/>
            <a:ext cx="500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4522"/>
                </a:solidFill>
                <a:latin typeface="Arial"/>
              </a:rPr>
              <a:t>Микроскопическое строение поч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6" descr="ласьрсарн.JPG"/>
          <p:cNvPicPr/>
          <p:nvPr/>
        </p:nvPicPr>
        <p:blipFill>
          <a:blip r:embed="rId1"/>
          <a:stretch/>
        </p:blipFill>
        <p:spPr>
          <a:xfrm>
            <a:off x="7067520" y="2060640"/>
            <a:ext cx="2076480" cy="3531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84522"/>
                </a:solidFill>
                <a:latin typeface="Calibri"/>
              </a:rPr>
              <a:t>Проверка рабо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91628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В ворота почки входит артер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выходят вена и мочеточ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Почки человека имеют слож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строение: корковый, мозговой сл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почечная лоха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Структурно-функциона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единицей почки является </a:t>
            </a:r>
            <a:r>
              <a:rPr b="1" i="1" lang="ru-RU" sz="3200" spc="-1" strike="noStrike">
                <a:solidFill>
                  <a:srgbClr val="684522"/>
                </a:solidFill>
                <a:latin typeface="Calibri"/>
              </a:rPr>
              <a:t>неф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845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</cp:lastModifiedBy>
  <dcterms:modified xsi:type="dcterms:W3CDTF">2011-02-01T10:38:10Z</dcterms:modified>
  <cp:revision>76</cp:revision>
  <dc:subject/>
  <dc:title>Слайд 1</dc:title>
</cp:coreProperties>
</file>