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11.jpeg" ContentType="image/jpeg"/>
  <Override PartName="/ppt/media/image24.png" ContentType="image/png"/>
  <Override PartName="/ppt/media/image25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BAB-DB96-4A4D-A3E2-7098E111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CBE-5F38-4AF4-BBB9-EE504F5A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77B-FB00-46E5-A7AC-70E74882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5F2-8586-4D06-83F1-8AD748C9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1698-F2DB-4166-B3DD-45864871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9A6-7A7D-4D82-9771-3BBC16B9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C0E-F23D-414D-BDF8-95356068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59AD-15AF-4841-A93F-8D398CE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7395-A1AF-462F-B5C6-C748CB1F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6D2E-1DC9-4816-836F-D261F5D8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497A-B754-4969-AA59-C99818A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207-5E6B-4B9F-B6C0-64E2F180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958C-4E4E-4CEC-B948-EC35E3F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301C-D497-4591-96FD-85AC6EF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494B-9507-4B02-8796-BC82985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10FD-5411-4793-B4B9-8AFA6698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7851-BF63-4768-8CC5-F67E0792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B1D-D1A4-4ADF-A386-FCE379BC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ADE-6A41-4845-8955-CB690078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B7C-0D89-4CD0-9D88-A1F0A3BB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299-4E92-4234-9115-7E7E82BD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20D-9B94-4359-8274-94898BB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587-4D0B-4C36-A5FF-7C17AAF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29B-BB25-4710-A595-00BE81B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7E7C-C7FF-4772-A5D9-5BE66696C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F381-3E0A-44A9-827F-BB6055B37D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боту выполн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ученица 9 класса 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редней школы №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волж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рода Каз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Шишова Е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0"/>
            <a:ext cx="80676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рязнение среды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глобальная проблема человеч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47466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32000" y="0"/>
            <a:ext cx="684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никовый эффек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905120"/>
            <a:ext cx="69850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Самое опасное загрязнение атмосферы и всей окружающей среды – радиоактивное загрязнение. Оно представляет угрозу для здоровья и жизни людей, животных, растений не только ныне живущих поколений, но и  их потомков из – за появления многочисленных мутационных уродств. Последствия такого мутагенного влияния на растения, животных и человека изучены ещё плохо и трудно предсказуемы. В районах умеренного радиоактивного загрязнения увеличивается число людей, заболевших лейкоз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03280" y="260280"/>
            <a:ext cx="66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диоактивные загрязнени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ой страшной в истории человечества была авария на  4 блоке Чернобыльской АЭС 26 апреля 1986 года. Произошло разрушение, расплавление, испарение и вынос в атмосферу ядерного топли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диоактивные вещества поднялись на высоту до 11 километров, загрязнение охватило территорию Украины, Белоруссии и центральную область Росси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24000" y="333360"/>
            <a:ext cx="4680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рнобыл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2387520"/>
            <a:ext cx="4194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– самое распространенное на Земле вещество. Моря и океаны занимают 71% поверхности земного шара, поэтому существует представление о неисчерпаемости водных запасов. Однако, соленые воды морей и океанов используются людьми очень мало, а получение пресной воды за счет атмосферных осадков и ледников локально и ограниче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63640" y="404640"/>
            <a:ext cx="5329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дросфе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Загрязнение – привнесение в среду каких-либо несвойственных ей веществ или увеличении концентрации имеющихся, приводящее к негативным последствиям. Загрязнению подвержены все составляющие гидросф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16000" y="404640"/>
            <a:ext cx="727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рязнение гидросферы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2313000"/>
            <a:ext cx="4194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К наиболее распространенным загрязнителям относятся нефть и нефтепродукты. Они покрывают поверхность воды тонкой пленкой, препятствуют нормальному газо- и влагообмену между водой и воздух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76360" y="333360"/>
            <a:ext cx="648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рязнение нефтепродуктам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673440" cy="2087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6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батываемые земли – результат сложных естественных процессов многовекового труда людей. Поэтому качество почв зависит от длительности возделывания земли и культуры земледелия. Вместе с урожаем человек изымает из почвы минеральные и органические вещества, тем самым обедняя 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95640" y="189000"/>
            <a:ext cx="48974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чв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одних случаях воздействие человека на почву может приводить к повышению ее плодородия, в других – к ухудшению, деградации и гибели. Загрязнение негативно отражается на росте и развитии дождевых червей, являющихся важной частью почвенной составляющ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7280" y="33336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рязнение поч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32360" y="2205000"/>
            <a:ext cx="3384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д эрозией почв понимают её разрушение водой и вет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одная эрозия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развивается только на склонах. При мощных потоках воды образуются глубокие промоины-овра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етровая эрозия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возникает в степных засушливых районах. В результате ветровой эрозии верхний, наиболее плодородный слой почвы выдувается, переносится ветром на большие рас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08000" y="333360"/>
            <a:ext cx="52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розия поч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003640" y="1676520"/>
            <a:ext cx="30243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Загрязнение атмо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Загрязнение гидро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Загрязнение поч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47640" y="333360"/>
            <a:ext cx="61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новные виды загрязнен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ольшинство учёных считают, что опустынивание  вызывается комплексом факторов. Вырубка лесов, неразумное использование пастбищ, разрушение почв на значительной территории связаны между соб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08000" y="40464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устынив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643280" y="1814400"/>
            <a:ext cx="419436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 добыче полезных ископаемых открытым способом человек полностью преобразует природные ландшафты. На данный момент 70% минерального сырья в мире добывается в карьерах. Для этих районов характерны безжизненные, нарушенные ландшаф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1280" y="404640"/>
            <a:ext cx="799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ыча полезных ископаемых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36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Очевидно, что поиск путей решения экологического кризиса в глубоком изучении природных процессов и вследствие этого реализация различных проектов с минимальным экологическим рис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673440" cy="2303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59280" y="4221000"/>
            <a:ext cx="36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81636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58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ь на Земле возможна до тех пор, пока существует земная атмосфера – газовая оболочка, защищающая живые организмы от вредного воздействия космических излучений и резких колебаний темпера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ным воздухом дышат все организмы.  Когда хотят подчеркнуть важное значение чего- либо, говорят: «Необходим, как воздух». Если без пищи человек может прожить несколько недель, без воды – несколько суток, то смерть от удушья наступает через 4-5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32000" y="115920"/>
            <a:ext cx="655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ение воздух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333360"/>
            <a:ext cx="748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атмосфе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1905120"/>
            <a:ext cx="72741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грязнение атмосферы может быть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стественным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скусственным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(или антропогенны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00000" y="333360"/>
            <a:ext cx="7559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рязнение атмосфе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9720" y="1843200"/>
            <a:ext cx="28306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Естественное загрязнение происходит при извержении вулканов, выветривании горных пород, пыльных бурях, лесных пожа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норме природные источники не вызывают существенных загрязне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640" y="404640"/>
            <a:ext cx="734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тественное загрязн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" y="1922400"/>
            <a:ext cx="29149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Источниками искусственного загрязнения служат промышленные, транспортные, радиоактивные и бытовые выб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920" y="260280"/>
            <a:ext cx="69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ропогенное загрязнение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" y="1984320"/>
            <a:ext cx="35118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Автотранспорт – основной загрязнитель воздуха в крупных городах ( от 60 до 80%). Среди загрязняющих веществ оксиды азота, угарный и углекислый газы, двуокись серы, свинец, металлическая и резиновая пыль, пары бенз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3888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00:39Z</dcterms:created>
  <dc:creator>user</dc:creator>
  <dc:description/>
  <dc:language>en-US</dc:language>
  <cp:lastModifiedBy>user</cp:lastModifiedBy>
  <dcterms:modified xsi:type="dcterms:W3CDTF">2009-03-22T13:09:25Z</dcterms:modified>
  <cp:revision>6</cp:revision>
  <dc:subject/>
  <dc:title>Слайд 1</dc:title>
</cp:coreProperties>
</file>