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A9A-B435-4E51-9CDE-B1EB3680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256-D08A-4A88-9D38-4250ED05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BA6-EEF3-492E-81F9-6BCA11B5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1D7-6043-4F68-8799-75B53713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8E8-0E43-4E00-8206-909822B1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DCC-8548-4A2C-8D1D-85F56ACD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EBC-114F-437A-8D71-5F2CF280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F2E-904C-42FF-B08D-002C288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B4F-278B-4AB8-8216-96CB3EFF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253-1DA7-4002-8DCC-5457531B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8F3-742A-4E71-8D55-CDD4ABE3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F30-AB33-43C7-B0EC-641A728D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4C4D-FE15-4688-A44E-060A13F7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was a small cabin in a f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ay Burrowing Mouse came &amp; knocked at its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nice house! Who lives in the house? Nobo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nt to live in the hous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95840" y="1600200"/>
            <a:ext cx="394344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24360" y="1125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0f5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day Croaking Frog came &amp; knocked at its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nice house! Who lives in th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Burrowing M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 Croaking Fr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ive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there were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3961080" cy="453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day Bounding Hare came &amp; knocked at its do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8075520" cy="435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day Running Fox came &amp; knocked at its do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76280"/>
            <a:ext cx="8229600" cy="381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b4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live together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464000" cy="452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700280"/>
            <a:ext cx="3960720" cy="4115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why d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 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o t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e fo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day Grey Wolf came &amp; knocked at its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4537080" cy="4608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lives in th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Burrowing M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 Croaking Fr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Bounding 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Running F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why don’t move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there were f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0000" y="1413000"/>
            <a:ext cx="446400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Bear brought tumbling down the cab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437320" cy="5200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new &amp; nice house!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will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ve there together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cb2e0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y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65520"/>
          </a:xfrm>
          <a:prstGeom prst="rect">
            <a:avLst/>
          </a:prstGeom>
          <a:solidFill>
            <a:srgbClr val="f0f5a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we are together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,  toge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re we are together!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ppier we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31964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3:31:59Z</dcterms:created>
  <dc:creator>Admin</dc:creator>
  <dc:description/>
  <dc:language>en-US</dc:language>
  <cp:lastModifiedBy>ВАЛЯ</cp:lastModifiedBy>
  <dcterms:modified xsi:type="dcterms:W3CDTF">2012-02-06T13:46:32Z</dcterms:modified>
  <cp:revision>15</cp:revision>
  <dc:subject/>
  <dc:title>Слайд 1</dc:title>
</cp:coreProperties>
</file>