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33C-90C4-4D50-94F2-FF4C9EA1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205-8B27-4BB2-8BF9-E014F71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4CD-31CE-40AA-AAB4-2A3D4D37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FFC-8729-49FD-A082-5A8217E6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720-AB3B-4A3D-935E-C304390B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179-F02B-4F25-A7D6-FFF65ACF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AF4-9D44-4E21-A8A9-8478C0A3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8E2-A37E-4A6E-8B81-A00D3FDF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7F1-5ED7-423E-A037-E03EC78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429-AD43-4E44-82DB-BFC2DF5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AE5-84B7-4A1D-8BE9-9D1FF806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389-F81D-4023-BA19-25B760D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C610-D5A7-4C5E-93C0-AF8A5D879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6080" y="1828800"/>
            <a:ext cx="711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Причаст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как особая  форма 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24360" y="170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. Найдите в предложениях причас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нимание охотников привлёк растущий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ушке леса д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Догоравший костёр ещё дыми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очитанная книга лежала на по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Обеспокоенные чем-то птицы сорвались  с 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летели в сторону озера, сверкаю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ркальной глад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87120" y="5334120"/>
            <a:ext cx="70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ОВЕРЬ СЕБЯ!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астущ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огоравш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3-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очитанн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беспоко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веркающе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86600" y="1447920"/>
            <a:ext cx="1676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II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. Подберите к словосочета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«прич. + сущ.»  однокоренные словосочетания «прил.+ сущ.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Шумящий пото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а потемневшем небосводе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Желтеющую кувшинку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Колющийся шиповни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Белеющим  туманом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Спеющая малина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362320" y="914400"/>
          <a:ext cx="304560" cy="2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3045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0880" y="914400"/>
          <a:ext cx="1981440" cy="1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914400"/>
                    <a:ext cx="198144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248520" y="1371600"/>
          <a:ext cx="30456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371600"/>
                    <a:ext cx="3045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495680" y="1447920"/>
          <a:ext cx="1600200" cy="18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1447920"/>
                    <a:ext cx="160020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411160" y="25146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шумны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4320" y="2971800"/>
            <a:ext cx="35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 темном небос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3640" y="342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желтую кувш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8160" y="38862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олкий шип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560" y="43434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белым тум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2240" y="48006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пелая м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7467480" y="533520"/>
            <a:ext cx="1676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62680" y="533520"/>
            <a:ext cx="40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4520" y="18176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1. Учить теорию по причас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920" y="2438280"/>
            <a:ext cx="33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2. Упражнение 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023840"/>
            <a:ext cx="9144000" cy="62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1. Спишите, определите вид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исать - переписать, собрать - собирать, свистеть - засвистеть, бежать – сбеж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Запишите глаголы, поставив их в форму  3 лица мн. числа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3. Что является у глаголов признаком прошедшего време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7640" y="228600"/>
            <a:ext cx="73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Повторение ранее изуче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840" y="4191120"/>
            <a:ext cx="789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ороться, вертеть, видеть, мыть, стро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елеть, стел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640" y="4191120"/>
            <a:ext cx="701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о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ю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я, вер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я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ви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я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м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ю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стр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я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ел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ю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сте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ю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3960" y="228600"/>
            <a:ext cx="73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Повторение ранее изуче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21932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пишите, согласуя прилагательное с существ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ин       ленту, шёлков       трава, чёрн      дрозда, больш         крыльями, мор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ладью, сыновн        благодарность, к высок         зданию, мужественн       посту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146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51460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9640" y="2514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9718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2440" y="2971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3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4040" y="33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38098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9360" y="251460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ю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6440" y="2514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70000" y="2514600"/>
            <a:ext cx="7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89548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3160" y="28954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35268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я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3240" y="33526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40640" y="3809880"/>
            <a:ext cx="7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2971800"/>
            <a:ext cx="228600" cy="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971800"/>
            <a:ext cx="228600" cy="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3429000"/>
            <a:ext cx="228600" cy="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3809880"/>
            <a:ext cx="228600" cy="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809880"/>
            <a:ext cx="304560" cy="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4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4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4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952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авнит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ёлтый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лист)  -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елте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(ли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елтеющ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(ли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1080" y="195120"/>
            <a:ext cx="69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Упражнение для наблю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7520" y="5334120"/>
            <a:ext cx="880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Вывод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желтеющий  не прилагательное, это не глагол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          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800" y="3429000"/>
            <a:ext cx="722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елтый – непроизводное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елтеющий «---- жел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1066680"/>
            <a:ext cx="887904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Причастие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- это особая форма глагола, кото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бозначает признак предмета по действию, отве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а вопрос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ой? что делающий? что сделавший?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бъединяет в себе свойства имени прилагате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 гла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   предложении  причастия бывают определ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ли  входят в состав сказу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808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Причаст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4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Морфологические признаки     прича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362320"/>
            <a:ext cx="2133360" cy="2819160"/>
          </a:xfrm>
          <a:prstGeom prst="can">
            <a:avLst>
              <a:gd name="adj" fmla="val 25000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52680" y="3352680"/>
            <a:ext cx="2000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причастие</a:t>
            </a:r>
            <a:endParaRPr b="0" lang="en-US" sz="1800" spc="1" strike="noStrike">
              <a:ln cap="sq"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1066680"/>
            <a:ext cx="1981080" cy="152424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204120 h 1524240"/>
              <a:gd name="textAreaBottom" fmla="*/ 13201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181480" y="1066680"/>
            <a:ext cx="1981440" cy="152424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204120 h 1524240"/>
              <a:gd name="textAreaBottom" fmla="*/ 13201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3520" y="26668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лагол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791320" y="251460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лагательное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8480" y="5715000"/>
            <a:ext cx="74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ричастие совмещает в себе сво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рилагательного со свойствами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04920" y="838080"/>
          <a:ext cx="8305560" cy="5775480"/>
        </p:xfrm>
        <a:graphic>
          <a:graphicData uri="http://schemas.openxmlformats.org/drawingml/2006/table">
            <a:tbl>
              <a:tblPr/>
              <a:tblGrid>
                <a:gridCol w="419076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прилага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означает признак предмета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ой?)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сохши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ли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храняет в признаке предмета значени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то делающий? Что сделавший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сыхающий – засохший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и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зменяемость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ам –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рящая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веча)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ам –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дающие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вёзд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ам –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ежащего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т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зменяемость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м –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еленеющий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а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ременам –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зеленевший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а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пособность согласования с существитель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вещающем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лучу) - м. р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, Д.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пособность управлять существитель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альчик)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ишущи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что?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(В. п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Возвратнос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ящийся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к выступлению арти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823120" y="0"/>
            <a:ext cx="30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8160" y="304920"/>
            <a:ext cx="59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Образование причас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астие легко узнаётся благодаря  яркому морфемному признаку - суффиксам: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-ущ-, -ющ-, -ащ-, -ящ-, -им-, -ем-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-вш-, -ш-, -енн-, -нн-, -т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640" y="358128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ас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362320" y="3886200"/>
            <a:ext cx="838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56076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гол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28320" y="3429000"/>
            <a:ext cx="432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-ущ-, -ющ-, -ащ-, -ящ-, -им-, -ем-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-вш-, -ш-, -енн-, -нн-, -т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411480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3962520"/>
            <a:ext cx="0" cy="15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680" y="49528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д-ящ-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90920" y="5181480"/>
            <a:ext cx="838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1520" y="487692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деть 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3640" y="4800600"/>
            <a:ext cx="9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-ящ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541008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25780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8520" y="579132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в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95120" y="6095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13480" y="579132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8760" y="57913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-вш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624852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6095880"/>
            <a:ext cx="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Укажите причас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ний                                      1.       Зеленоват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неет                                     2.       Зеленеет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неющий                              3.       Зелёный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неватый                             4.       Зеленевш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нея                                      5.       Зелене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0" y="4267080"/>
            <a:ext cx="1676520" cy="2133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280" y="29718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352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04-10T10:49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