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E1D-BD8C-4A85-8B92-48F068B5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34E-0761-4A67-828D-AAFAF7B9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FD8-E000-4E89-8B63-39F45B66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BE7-BA40-4E25-9D61-465521E5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D5CF-FC3A-4B0F-8DB0-7B999939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1763-BC97-4D9A-9388-11ED7311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9D9-34BF-4091-8F5B-12B04A90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E02-FAD2-4351-BB5E-2854C3EA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57EB-215A-4158-815B-E7AA21F8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F5DE-458C-4690-A8AC-823DBAF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A54A-94C1-47ED-96B6-631E7E0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F34-77F4-40F0-AB5D-708F380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2691-A703-4926-A707-50380D0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BCF-B7FB-4E1C-92B2-97F73E1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A07-F46E-440C-B4A7-81DE6B9F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73E-A099-4144-91AA-2B284742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F919-2D93-461B-9D6F-5265960E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908-7A4D-46D7-B138-1DD0F6A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4A4-86F3-4B8E-9C20-65783BAF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9B4-67F8-4F6F-B910-CBF7118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B5F-EE65-42B6-B909-31758C07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1CE-91B4-4279-92BF-4EACB9A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A16-29F4-4B8C-B27D-2ABEC46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3A5-4D6B-4F0D-B1F5-04BEDC6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3ADB-7C36-4E90-98AF-5C3EB1016B8D}" type="slidenum"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7BEF-FD01-473F-BF44-C9A74640B1E0}" type="slidenum">
              <a:rPr b="0" lang="en-US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1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7921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rial Black"/>
              </a:rPr>
              <a:t>Правописание приставок на з-/с-</a:t>
            </a:r>
            <a:endParaRPr b="0" lang="en-US" sz="5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0360" y="692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бе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2205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во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3645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и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941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ра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3645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и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349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во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765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бе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941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ра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059120" cy="266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105876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10591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49240" y="4962600"/>
            <a:ext cx="105876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4869000"/>
            <a:ext cx="1058760" cy="26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364000" y="2225520"/>
            <a:ext cx="10591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116000" y="3738600"/>
            <a:ext cx="770040" cy="19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651640" y="3738600"/>
            <a:ext cx="769680" cy="19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627280" y="2781360"/>
            <a:ext cx="1655640" cy="1374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1341360"/>
            <a:ext cx="0" cy="5040360"/>
          </a:xfrm>
          <a:prstGeom prst="line">
            <a:avLst/>
          </a:prstGeom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7020000" y="2637000"/>
            <a:ext cx="1655640" cy="137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948360" y="2276640"/>
            <a:ext cx="1656000" cy="2089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948000" y="2205000"/>
            <a:ext cx="1800360" cy="208764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39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Подсказка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3320" y="1194840"/>
            <a:ext cx="85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f3e00"/>
                </a:solidFill>
                <a:latin typeface="Georgia"/>
              </a:rPr>
              <a:t>безвкусный – беспокойный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f3e00"/>
                </a:solidFill>
                <a:latin typeface="Georgia"/>
              </a:rPr>
              <a:t>взлететь – вскружи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f3e00"/>
                </a:solidFill>
                <a:latin typeface="Georgia"/>
              </a:rPr>
              <a:t>изгнать – испорти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f3e00"/>
                </a:solidFill>
                <a:latin typeface="Georgia"/>
              </a:rPr>
              <a:t>безопасный - бессердечный</a:t>
            </a:r>
            <a:r>
              <a:rPr b="1" i="1" lang="ru-RU" sz="4400" spc="-1" strike="noStrike">
                <a:solidFill>
                  <a:srgbClr val="3366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1058760" cy="26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5229360"/>
            <a:ext cx="1059120" cy="26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5229360"/>
            <a:ext cx="1059120" cy="26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72000" y="1197000"/>
            <a:ext cx="105876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55640" y="2637000"/>
            <a:ext cx="770040" cy="19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71640" y="3933720"/>
            <a:ext cx="769680" cy="19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284720" y="3933720"/>
            <a:ext cx="770040" cy="19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500720" y="2565360"/>
            <a:ext cx="769680" cy="195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Попробуй догадаться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32000" y="1052640"/>
            <a:ext cx="1800000" cy="1008000"/>
          </a:xfrm>
          <a:prstGeom prst="ellipse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4508640"/>
            <a:ext cx="1800360" cy="1008000"/>
          </a:xfrm>
          <a:prstGeom prst="ellipse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98100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Georgia"/>
              </a:rPr>
              <a:t>з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4581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Georgia"/>
              </a:rPr>
              <a:t>с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333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бе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059120" cy="266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836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во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1280" y="930240"/>
            <a:ext cx="1059120" cy="26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557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ра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280" y="1557360"/>
            <a:ext cx="1059120" cy="26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2205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из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00000" y="2298600"/>
            <a:ext cx="770040" cy="195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35305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бе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9640" y="3530520"/>
            <a:ext cx="10591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360" y="4221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Georgia"/>
              </a:rPr>
              <a:t>во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4221000"/>
            <a:ext cx="1058760" cy="266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5589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Georgia"/>
              </a:rPr>
              <a:t>и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755640" y="5683320"/>
            <a:ext cx="770040" cy="195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920" y="4869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00"/>
                </a:solidFill>
                <a:latin typeface="Georgia"/>
              </a:rPr>
              <a:t>рас-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79280" y="4869000"/>
            <a:ext cx="1059120" cy="26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51280" y="260280"/>
            <a:ext cx="2376360" cy="1297080"/>
          </a:xfrm>
          <a:prstGeom prst="ellipse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7440" y="33336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перед зв. согл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916280"/>
            <a:ext cx="2376360" cy="1296720"/>
          </a:xfrm>
          <a:prstGeom prst="ellipse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292640"/>
            <a:ext cx="2592360" cy="1655640"/>
          </a:xfrm>
          <a:prstGeom prst="ellipse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206064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Georgia"/>
              </a:rPr>
              <a:t>перед глас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36572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перед глух. согл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132000" y="907920"/>
            <a:ext cx="719280" cy="43344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773360"/>
            <a:ext cx="865080" cy="57600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4941720"/>
            <a:ext cx="863640" cy="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4" name="Picture 4" descr="AMERI006"/>
          <p:cNvPicPr/>
          <p:nvPr/>
        </p:nvPicPr>
        <p:blipFill>
          <a:blip r:embed="rId9"/>
          <a:stretch/>
        </p:blipFill>
        <p:spPr>
          <a:xfrm>
            <a:off x="6804000" y="4221000"/>
            <a:ext cx="1620720" cy="172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MERI007"/>
          <p:cNvPicPr/>
          <p:nvPr/>
        </p:nvPicPr>
        <p:blipFill>
          <a:blip r:embed="rId10"/>
          <a:stretch/>
        </p:blipFill>
        <p:spPr>
          <a:xfrm>
            <a:off x="6804000" y="981000"/>
            <a:ext cx="1835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Помоги Тане и Никите 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914400" cy="19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914400" cy="193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987640" y="4437000"/>
            <a:ext cx="914400" cy="193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5200" y="1053720"/>
            <a:ext cx="3399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бе_домный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ра_лить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во_кликнуть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и_пуг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бе_полезный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ра_певается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и_менить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916360" y="3882960"/>
            <a:ext cx="914400" cy="193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914400" cy="193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059280" y="1147680"/>
            <a:ext cx="914400" cy="193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2843280" y="2227320"/>
            <a:ext cx="914400" cy="193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62200" y="981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з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1557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з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7840" y="429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з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060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637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3213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373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5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2" name="Picture 5" descr="AMERI007"/>
          <p:cNvPicPr/>
          <p:nvPr/>
        </p:nvPicPr>
        <p:blipFill>
          <a:blip r:embed="rId8"/>
          <a:stretch/>
        </p:blipFill>
        <p:spPr>
          <a:xfrm flipH="1">
            <a:off x="107640" y="4005360"/>
            <a:ext cx="2174760" cy="2255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AMERI006"/>
          <p:cNvPicPr/>
          <p:nvPr/>
        </p:nvPicPr>
        <p:blipFill>
          <a:blip r:embed="rId9"/>
          <a:stretch/>
        </p:blipFill>
        <p:spPr>
          <a:xfrm>
            <a:off x="6443640" y="4149720"/>
            <a:ext cx="196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AMERI007"/>
          <p:cNvPicPr/>
          <p:nvPr/>
        </p:nvPicPr>
        <p:blipFill>
          <a:blip r:embed="rId1"/>
          <a:stretch/>
        </p:blipFill>
        <p:spPr>
          <a:xfrm>
            <a:off x="5940360" y="3357720"/>
            <a:ext cx="2698920" cy="2614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AMERI006"/>
          <p:cNvPicPr/>
          <p:nvPr/>
        </p:nvPicPr>
        <p:blipFill>
          <a:blip r:embed="rId2"/>
          <a:stretch/>
        </p:blipFill>
        <p:spPr>
          <a:xfrm flipH="1">
            <a:off x="250560" y="836640"/>
            <a:ext cx="2328840" cy="2376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84000" y="2060640"/>
            <a:ext cx="4449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Спасибо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за работу!</a:t>
            </a:r>
            <a:endParaRPr b="0" lang="en-US" sz="5000" spc="-1" strike="noStrike">
              <a:solidFill>
                <a:srgbClr val="80008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5084640"/>
            <a:ext cx="1727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25:45Z</dcterms:created>
  <dc:creator>Еремина О. Н. </dc:creator>
  <dc:description/>
  <cp:keywords/>
  <dc:language>en-US</dc:language>
  <cp:lastModifiedBy>Admin</cp:lastModifiedBy>
  <dcterms:modified xsi:type="dcterms:W3CDTF">2012-02-01T17:45:17Z</dcterms:modified>
  <cp:revision>31</cp:revision>
  <dc:subject/>
  <dc:title>Правописание приставок на з-/с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01033</vt:lpwstr>
  </property>
</Properties>
</file>