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F624-576C-4DA9-8703-79D878594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E8F-0C98-4E92-894D-C66D6A6E4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565-9340-47B9-A979-703EC42036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4067-39E9-45F7-8764-D5A85DD4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D0DD-DBFA-4DC8-AE8C-EE89F87C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64A4-A596-4140-B822-7220D18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26F0-00E2-4225-8009-ECC20A73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F70B-6727-4FE0-8CA2-E73ECA5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9E9D-A7BF-4B48-8D1D-E0BF73F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C582-A792-4DF3-9BD5-65B43000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11E4-D9AE-415C-95AF-9F886A1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B1CB-44EE-40BD-978D-33AAC6DE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3342-D044-4224-8F9B-5CD9C25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AAB3-1966-4859-B7C2-1C9A30BE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EED4-269A-4E03-B1CA-890B98B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D53-A37F-4EB2-BA24-87F7AA76C1D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1773360"/>
            <a:ext cx="6805800" cy="13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Художественная культура </a:t>
            </a:r>
            <a:br>
              <a:rPr sz="4000"/>
            </a:b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XIX</a:t>
            </a: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560" y="3573360"/>
            <a:ext cx="6913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Романтизм в живопис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3071880" y="5286240"/>
            <a:ext cx="585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3564"/>
                </a:solidFill>
                <a:latin typeface="Georgia"/>
              </a:rPr>
              <a:t>Презентацию подготови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3564"/>
                </a:solidFill>
                <a:latin typeface="Georgia"/>
              </a:rPr>
              <a:t>ученицы 11 а класса МБОУ СОШ №8 г.Ноябрьска</a:t>
            </a:r>
            <a:br>
              <a:rPr sz="1400"/>
            </a:br>
            <a:r>
              <a:rPr b="1" i="1" lang="ru-RU" sz="1400" spc="-1" strike="noStrike">
                <a:solidFill>
                  <a:srgbClr val="1e3564"/>
                </a:solidFill>
                <a:latin typeface="Georgia"/>
              </a:rPr>
              <a:t>Албитова Татьяна и  Мухаметьянова Ильм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3564"/>
                </a:solidFill>
                <a:latin typeface="Georgia"/>
              </a:rPr>
              <a:t>Руководитель Калашникова Виктория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Фердинан Виктор Эжен Делакру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71640" y="5805360"/>
            <a:ext cx="60595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8b20e"/>
                </a:solidFill>
                <a:latin typeface="Georgia"/>
              </a:rPr>
              <a:t>«Мое сердце,- писал он, — всегда начинает учащенно биться, когда я остаюсь лицом к лицу с огромной стеной, ожидающей прикосновения моей кисти»</a:t>
            </a:r>
            <a:r>
              <a:rPr b="0" lang="ru-RU" sz="1800" spc="-1" strike="noStrike">
                <a:solidFill>
                  <a:srgbClr val="d8b20e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Picture 5" descr="Файл:DelacroixNew.jpg"/>
          <p:cNvPicPr/>
          <p:nvPr/>
        </p:nvPicPr>
        <p:blipFill>
          <a:blip r:embed="rId1"/>
          <a:stretch/>
        </p:blipFill>
        <p:spPr>
          <a:xfrm rot="276600">
            <a:off x="5363640" y="907560"/>
            <a:ext cx="3522960" cy="460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-360" y="836280"/>
            <a:ext cx="521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Французский живописец и график, предводитель романтического направления в европейской живописи. Его родители умерли, когда он был совсем юным. В 1815 году юноша оказался предоставлен сам себе. И он сделал выбор, поступив в мастерскую известного классициста Пьер, Нарсиса Герена (1774—1833). В 1816 году Делакруа стал учеником Школы изящных искусств, где преподавал Герен. В 1850-е годы его признание стало неоспоримым. В 1851 году художника избрали в городской совет Парижа. В 1855-м наградили орденом Почетного легиона. В том же году была организована персональная выставка Делакруа — в рамках Всемирной парижской выставки. Скончался Делакруа, тихо и незаметно от рецидива болезни горла в своем парижском доме 13 августа 1863 года в возрасте 65 лет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Работы  </a:t>
            </a: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 Делакруа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60520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Алжирские женщины в своих комнатах".  1834 г.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Холст, масло. 180х229 см.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Лувр, Париж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63640" y="1557360"/>
            <a:ext cx="4038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Смертельно раненый разбойник, утоляющий жажду". 1825 г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7" name="Picture 5" descr="delacroix4"/>
          <p:cNvPicPr/>
          <p:nvPr/>
        </p:nvPicPr>
        <p:blipFill>
          <a:blip r:embed="rId1"/>
          <a:stretch/>
        </p:blipFill>
        <p:spPr>
          <a:xfrm rot="21078000">
            <a:off x="250560" y="1125360"/>
            <a:ext cx="5040360" cy="38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8" name="Picture 7" descr="Эжен Делакруа &quot;Смертельно раненый разбойник, утоляющий жажду&quot;"/>
          <p:cNvPicPr/>
          <p:nvPr/>
        </p:nvPicPr>
        <p:blipFill>
          <a:blip r:embed="rId2"/>
          <a:stretch/>
        </p:blipFill>
        <p:spPr>
          <a:xfrm rot="318000">
            <a:off x="4427280" y="2852640"/>
            <a:ext cx="4535280" cy="363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вобода, ведущая народ, 1830, Лув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28480" y="5157720"/>
            <a:ext cx="77151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eeece1"/>
                </a:solidFill>
                <a:latin typeface="Georgia"/>
              </a:rPr>
              <a:t>«…Если я не сражался за родину, то пусть, по крайней мере, буду писать ради нее»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ece1"/>
                </a:solidFill>
                <a:latin typeface="Georgia"/>
              </a:rPr>
              <a:t>    </a:t>
            </a:r>
            <a:r>
              <a:rPr b="0" i="1" lang="ru-RU" sz="2400" spc="-1" strike="noStrike">
                <a:solidFill>
                  <a:srgbClr val="eeece1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eeece1"/>
                </a:solidFill>
                <a:latin typeface="Georgia"/>
              </a:rPr>
              <a:t>Эжен Делакру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18828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ece1"/>
                </a:solidFill>
                <a:latin typeface="Georgia"/>
              </a:rPr>
              <a:t>Свобода, ведущая народ, 1830, Лув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68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Франсиско Хосе де Гойя-и-Лусьенте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825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Испанский живописец, гравер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Свободолюбивое искусство Гойи отличается смелым новаторством, страстной эмоциональностью, фантазией, остротой характеристики, социально направленным гротеском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- картоны для королевской шпалерной мастерской («Игра в жмурки», 1791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- портреты («Семья короля Карла IV», 1800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- росписи (в капелле церкви Сан Антонио де ла Флорида, 1798, Мадрид, в «Доме Глухого», 1820-23), графика (серии «Капричос», 1797-98, «Бедствия войны», 1810-20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- картины («Восстание 2 мая 1808 года в Мадриде» и «Расстрел повстанцев в ночь на 3 мая 1808 года» — обе ок. 1814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4" name="Picture 5" descr="Файл:Goya portrait.jpg"/>
          <p:cNvPicPr/>
          <p:nvPr/>
        </p:nvPicPr>
        <p:blipFill>
          <a:blip r:embed="rId1"/>
          <a:stretch/>
        </p:blipFill>
        <p:spPr>
          <a:xfrm rot="328200">
            <a:off x="5363640" y="1052280"/>
            <a:ext cx="3308400" cy="4587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Работы </a:t>
            </a: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Гойя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3528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2 мая 1808 го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000" y="3789360"/>
            <a:ext cx="341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Портрет маркизы Санта-Круз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8" name="Picture 4" descr="2 мая 1808 года"/>
          <p:cNvPicPr/>
          <p:nvPr/>
        </p:nvPicPr>
        <p:blipFill>
          <a:blip r:embed="rId1"/>
          <a:stretch/>
        </p:blipFill>
        <p:spPr>
          <a:xfrm rot="543600">
            <a:off x="394920" y="2565000"/>
            <a:ext cx="4968720" cy="380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7" descr="Портрет маркизы Санта-Круз"/>
          <p:cNvPicPr/>
          <p:nvPr/>
        </p:nvPicPr>
        <p:blipFill>
          <a:blip r:embed="rId2"/>
          <a:stretch/>
        </p:blipFill>
        <p:spPr>
          <a:xfrm rot="20947800">
            <a:off x="4067280" y="620280"/>
            <a:ext cx="4825800" cy="2870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comb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948000" y="549000"/>
            <a:ext cx="187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Маха одетая» Ок.1803, Прадо, Мадрид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244944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Маха обнаженная« 1800, Прадо, Мадрид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2" name="Picture 8" descr="01g003"/>
          <p:cNvPicPr/>
          <p:nvPr/>
        </p:nvPicPr>
        <p:blipFill>
          <a:blip r:embed="rId1"/>
          <a:stretch/>
        </p:blipFill>
        <p:spPr>
          <a:xfrm>
            <a:off x="0" y="0"/>
            <a:ext cx="692316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10" descr="01g004"/>
          <p:cNvPicPr/>
          <p:nvPr/>
        </p:nvPicPr>
        <p:blipFill>
          <a:blip r:embed="rId2"/>
          <a:stretch/>
        </p:blipFill>
        <p:spPr>
          <a:xfrm>
            <a:off x="2484360" y="3395520"/>
            <a:ext cx="6659640" cy="3462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Разносчица воды"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1810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16320" y="5705280"/>
            <a:ext cx="40273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"Антониа Зарате» 1811, Эрмитаж, Санкт-Петербург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Picture 8" descr="01g01"/>
          <p:cNvPicPr/>
          <p:nvPr/>
        </p:nvPicPr>
        <p:blipFill>
          <a:blip r:embed="rId1"/>
          <a:stretch/>
        </p:blipFill>
        <p:spPr>
          <a:xfrm rot="722400">
            <a:off x="539280" y="1699920"/>
            <a:ext cx="3486240" cy="4751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7" name="Picture 10" descr="01g001"/>
          <p:cNvPicPr/>
          <p:nvPr/>
        </p:nvPicPr>
        <p:blipFill>
          <a:blip r:embed="rId2"/>
          <a:stretch/>
        </p:blipFill>
        <p:spPr>
          <a:xfrm rot="20604000">
            <a:off x="4211640" y="620280"/>
            <a:ext cx="3944880" cy="473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diamond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3564"/>
                </a:solidFill>
                <a:latin typeface="Georgia"/>
              </a:rPr>
              <a:t>Вывод</a:t>
            </a:r>
            <a:r>
              <a:rPr b="1" i="1" lang="ru-RU" sz="3600" spc="-1" strike="noStrike">
                <a:solidFill>
                  <a:srgbClr val="1e3564"/>
                </a:solidFill>
                <a:latin typeface="Georg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1332000" y="1628640"/>
            <a:ext cx="678636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Романтики открывают мир человеческой души, индивидуальное, ни на кого не похожее, но искреннее и оттого близкое всем чувственное видение мира. Мгновенность образа в живописи, как говорил Делакруа, а не последовательность его в литературном исполнении определила нацеленность художников на сложнейшую передачу движения, ради которого были найдены новые формальные и колористические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Романтизм оставил в наследство второй половине XIX в. все эти проблемы и раскрепощенную от правил академизма художественную индивидуа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Символ, который у романтиков должен был выразить сущностное соединение идеи и жизни, в искусстве второй половины XIX в. растворяется в полифоничности художественного образа, захватывающего многообразие идей и окружающе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4"/>
          <p:cNvSpPr/>
          <p:nvPr/>
        </p:nvSpPr>
        <p:spPr>
          <a:xfrm>
            <a:off x="2050920" y="2068560"/>
            <a:ext cx="5042160" cy="39607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e3564"/>
                </a:solidFill>
                <a:latin typeface="Georgia"/>
              </a:rPr>
              <a:t>Список использованной литератур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280" y="2276280"/>
            <a:ext cx="45370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b20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использованы материалы с сайта http://francegothic.boom.ru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b20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http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://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wikipedia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 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ru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 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http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://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www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labellefrance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ru http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://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www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geo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-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world</a:t>
            </a: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d8b20e"/>
                </a:solidFill>
                <a:latin typeface="Georgia"/>
              </a:rPr>
              <a:t>ru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b20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8b20e"/>
                </a:solidFill>
                <a:latin typeface="Georgia"/>
              </a:rPr>
              <a:t>http://www.fos.r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Горизонтальный свиток 4"/>
          <p:cNvSpPr/>
          <p:nvPr/>
        </p:nvSpPr>
        <p:spPr>
          <a:xfrm>
            <a:off x="1344600" y="1403280"/>
            <a:ext cx="6572160" cy="27147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1979640" y="1700280"/>
            <a:ext cx="5329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e3564"/>
                </a:solidFill>
                <a:latin typeface="Georgia"/>
              </a:rPr>
              <a:t>Презентацию подготовили: ученицы 11 а класса </a:t>
            </a:r>
            <a:br>
              <a:rPr sz="2600"/>
            </a:br>
            <a:r>
              <a:rPr b="0" i="1" lang="ru-RU" sz="2600" spc="-1" strike="noStrike">
                <a:solidFill>
                  <a:srgbClr val="1e3564"/>
                </a:solidFill>
                <a:latin typeface="Georgia"/>
              </a:rPr>
              <a:t>Албитова Татьяна и Мухаметьянова Ильми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«Последний рейс корабля „Отважный“»"/>
          <p:cNvPicPr/>
          <p:nvPr/>
        </p:nvPicPr>
        <p:blipFill>
          <a:blip r:embed="rId1"/>
          <a:stretch/>
        </p:blipFill>
        <p:spPr>
          <a:xfrm>
            <a:off x="357120" y="285840"/>
            <a:ext cx="8467920" cy="638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56920" y="1642680"/>
            <a:ext cx="4248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Познакомиться с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Искусством романтизма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в живопис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Блок-схема: документ 4"/>
          <p:cNvGrpSpPr/>
          <p:nvPr/>
        </p:nvGrpSpPr>
        <p:grpSpPr>
          <a:xfrm>
            <a:off x="969840" y="1243080"/>
            <a:ext cx="6772320" cy="5060880"/>
            <a:chOff x="969840" y="1243080"/>
            <a:chExt cx="6772320" cy="5060880"/>
          </a:xfrm>
        </p:grpSpPr>
        <p:pic>
          <p:nvPicPr>
            <p:cNvPr id="61" name="Блок-схема: документ 4" descr=""/>
            <p:cNvPicPr/>
            <p:nvPr/>
          </p:nvPicPr>
          <p:blipFill>
            <a:blip r:embed="rId1"/>
            <a:stretch/>
          </p:blipFill>
          <p:spPr>
            <a:xfrm>
              <a:off x="969840" y="1243080"/>
              <a:ext cx="6772320" cy="50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036800" y="1284120"/>
              <a:ext cx="6643440" cy="40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6991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омантиз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64087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     </a:t>
            </a: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Романтизм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(фр. </a:t>
            </a:r>
            <a:r>
              <a:rPr b="0" i="1" lang="fr-FR" sz="1800" spc="-1" strike="noStrike">
                <a:solidFill>
                  <a:srgbClr val="1f497d"/>
                </a:solidFill>
                <a:latin typeface="Georgia"/>
              </a:rPr>
              <a:t>romantisme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) — явление европейской культуры в XVIII—XIX веках, представляющее собой реакцию на Просвещение и стимулированный им научно-технический прогресс; идейное и художественное направление в европейской и американской культуре конца 18 века — первой половины 19 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Характеризуется утверждением самоценности духовно-творческой жизни личности, изображением сильных (зачастую бунтарских) страстей и характеров, одухотворённой и целительной природ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В 18 веке излюбленными мотивами художников были горные пейзажи и живописные руины. Его основные черты - динамичность композиции, объёмная пространственность, насыщенный колорит, светотен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нутый угол 3"/>
          <p:cNvSpPr/>
          <p:nvPr/>
        </p:nvSpPr>
        <p:spPr>
          <a:xfrm rot="21329400">
            <a:off x="598320" y="1293480"/>
            <a:ext cx="7712280" cy="47210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47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43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Романтизм в живопис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В изобразительном искусстве Романтизм наиболее ярко проявился в живописи и графике, меньше - в архитектуре. В своих полотнах художники подчинялись только зову собственной души, уделяли большое внимание выразительному показу чувств и переживаний человека. Живописи романтизма была присуща «страшная сила творить всеми возможными способами». Любимыми выразительными средствами романтической живописи становятся колорит, освещение, внимание к деталям, эмоциональность манеры, мазка, фактур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Содержимое 7"/>
          <p:cNvSpPr/>
          <p:nvPr/>
        </p:nvSpPr>
        <p:spPr>
          <a:xfrm rot="21302400">
            <a:off x="1619280" y="1052640"/>
            <a:ext cx="568152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40"/>
                            </p:stCondLst>
                            <p:childTnLst>
                              <p:par>
                                <p:cTn id="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4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4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Каспар Давид Фридри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Немецкий художни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Родился 5 сентября 1774 г. в Грейфсвальде в семье мыловара. В 1790 г. получил первые уроки рисования. С 1794-1798 г. Фридрих учился изобразительному искусству в Академии художеств в Копенгагене. В 1794-1798 учился в копенгагенской Академии художеств. До 1807 работал исключительно в технике рисунка затем обратился и к масляной живописи. Главным выразителем эмоциональной нагрузки Давида является свет. Он не создает иллюзию света, а заставляет предметы и фигуры отбрасывать причудливые и таинственные тени. В 1835 г. художника разбил паралич, и с тех пор он больше не работал масляными красками, ограничиваясь небольшими рисунками сепией. Художник скончался в бедности 7 мая 1840 г. в Дрезден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6000" y="5444640"/>
            <a:ext cx="4500720" cy="9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8b20e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d8b20e"/>
                </a:solidFill>
                <a:latin typeface="Georgia"/>
              </a:rPr>
              <a:t>«Картина должна восприниматься как картина, как создание рук человеческих, а не обманывать нас совершенным подобием с натуры»   (К.Д. Фридрих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" name="Picture 4" descr="Файл:Caspar David Friedrich.jpg"/>
          <p:cNvPicPr/>
          <p:nvPr/>
        </p:nvPicPr>
        <p:blipFill>
          <a:blip r:embed="rId1"/>
          <a:stretch/>
        </p:blipFill>
        <p:spPr>
          <a:xfrm rot="261600">
            <a:off x="5148360" y="764640"/>
            <a:ext cx="3298680" cy="432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85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5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85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85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Работы Давида Фридрих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066000"/>
            <a:ext cx="43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«Странник над морем тумана»          (1817—181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5445000"/>
            <a:ext cx="4932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«Пейзаж с радугой», 1809, Государственное художественное собрание, Вейма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6" name="Picture 9" descr="«Странник над морем тумана» (1817—1818)"/>
          <p:cNvPicPr/>
          <p:nvPr/>
        </p:nvPicPr>
        <p:blipFill>
          <a:blip r:embed="rId1"/>
          <a:stretch/>
        </p:blipFill>
        <p:spPr>
          <a:xfrm rot="423600">
            <a:off x="394920" y="836640"/>
            <a:ext cx="3957480" cy="5041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7" name="Picture 8" descr="«Гибель „Надежды“ во льдах» (1823—1824)"/>
          <p:cNvPicPr/>
          <p:nvPr/>
        </p:nvPicPr>
        <p:blipFill>
          <a:blip r:embed="rId2"/>
          <a:stretch/>
        </p:blipFill>
        <p:spPr>
          <a:xfrm rot="20599800">
            <a:off x="3635280" y="1341000"/>
            <a:ext cx="4824360" cy="3606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pull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Карл Эдуард Фердинанд Блехен</a:t>
            </a:r>
            <a:r>
              <a:rPr b="0" lang="ru-RU" sz="2000" spc="-1" strike="noStrike">
                <a:solidFill>
                  <a:srgbClr val="1f497d"/>
                </a:solidFill>
                <a:latin typeface="Corbe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(29 июля 1798, Котбус — 23 июля 1840, Берлин)</a:t>
            </a: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1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Georgia"/>
              </a:rPr>
              <a:t>       </a:t>
            </a:r>
            <a:r>
              <a:rPr b="0" i="1" lang="ru-RU" sz="1800" spc="-1" strike="noStrike">
                <a:solidFill>
                  <a:srgbClr val="1f497d"/>
                </a:solidFill>
                <a:latin typeface="Georgia"/>
              </a:rPr>
              <a:t>Регулярное художественное образование его началось лишь в 1822 году в берлинской Академии, у пейзажиста П. Л. Лютке. Однако вследствие несложившихся отношений с учителем К. Блехен порвал с академической школой и уезжает в Саксонскую Швейцарию. С 1824 по 1827 год он работал театральным художником-оформителем в Берлине. Блехен по своей тематике — художник-пейзажист. Его композиции после поездки на юг становятся свободнее и стилистически реальнее. Он известен как один из первых немецких «индустриальных» художников, воспевавших нарождающуюся промышленную мощь нового времени. Карл Блехен умер в возрасте 42 лет психически больным человеком.</a:t>
            </a:r>
            <a:r>
              <a:rPr b="0" i="1" lang="ru-RU" sz="16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0" name="Picture 5" descr="Файл:Carl Blechen.jpg"/>
          <p:cNvPicPr/>
          <p:nvPr/>
        </p:nvPicPr>
        <p:blipFill>
          <a:blip r:embed="rId1"/>
          <a:stretch/>
        </p:blipFill>
        <p:spPr>
          <a:xfrm>
            <a:off x="5292720" y="1557360"/>
            <a:ext cx="3592440" cy="4635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Работы Блехен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5229000"/>
            <a:ext cx="403884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В Берлинском Тиргартене, 182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360" y="602100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В парке виллы д'Эсте, 183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4" name="Picture 6" descr="В Берлинском Тиргартене, 1825"/>
          <p:cNvPicPr/>
          <p:nvPr/>
        </p:nvPicPr>
        <p:blipFill>
          <a:blip r:embed="rId1"/>
          <a:stretch/>
        </p:blipFill>
        <p:spPr>
          <a:xfrm rot="550200">
            <a:off x="393840" y="1579680"/>
            <a:ext cx="4884480" cy="3367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5" name="Picture 9" descr="В парке виллы д'Эсте, 1830"/>
          <p:cNvPicPr/>
          <p:nvPr/>
        </p:nvPicPr>
        <p:blipFill>
          <a:blip r:embed="rId2"/>
          <a:stretch/>
        </p:blipFill>
        <p:spPr>
          <a:xfrm rot="21066000">
            <a:off x="5018040" y="823680"/>
            <a:ext cx="3446640" cy="482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plus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40384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Взорванная башня Гейдельбергского замка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      </a:t>
            </a: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ок. 183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88000" y="5660640"/>
            <a:ext cx="403848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Постройка Чёртова моста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Georgia"/>
              </a:rPr>
              <a:t>1830-3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8" name="Picture 7" descr="Файл:Carl Blechen 003.jpg"/>
          <p:cNvPicPr/>
          <p:nvPr/>
        </p:nvPicPr>
        <p:blipFill>
          <a:blip r:embed="rId1"/>
          <a:stretch/>
        </p:blipFill>
        <p:spPr>
          <a:xfrm rot="1088400">
            <a:off x="539640" y="620640"/>
            <a:ext cx="4464000" cy="386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9" name="Picture 8" descr="Постройка Чёртова моста, 1830-32"/>
          <p:cNvPicPr/>
          <p:nvPr/>
        </p:nvPicPr>
        <p:blipFill>
          <a:blip r:embed="rId2"/>
          <a:stretch/>
        </p:blipFill>
        <p:spPr>
          <a:xfrm rot="21133800">
            <a:off x="4427640" y="1773000"/>
            <a:ext cx="4464000" cy="330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4:27:29Z</dcterms:created>
  <dc:creator>Эльмира</dc:creator>
  <dc:description/>
  <dc:language>en-US</dc:language>
  <cp:lastModifiedBy>Cabinet207</cp:lastModifiedBy>
  <dcterms:modified xsi:type="dcterms:W3CDTF">2012-02-06T13:16:18Z</dcterms:modified>
  <cp:revision>20</cp:revision>
  <dc:subject/>
  <dc:title>Достопримечательности Германии.</dc:title>
</cp:coreProperties>
</file>