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6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93D-98B2-4CE0-B544-D194BE6F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3E7E-4D1B-4E2D-924A-5137BFBC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79CE-95CD-4DBC-98E4-BD4A2AD4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52C-CCBC-454C-9146-019FB511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D04A-9EBF-4BAD-8C3B-1DF85D49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4D9-C22D-4977-AAD9-15C7CF3D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D88-1074-4653-BEBB-47894F92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B398-ECFF-400F-AFA7-23A79535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C5AA-002C-4616-825A-4437311E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88E8-3370-4B2E-91B5-9D096AF9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4E2C-027D-4C71-959A-997E1BD9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B2C1-BB73-4FEA-AB26-08A57040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A1A4-F0C2-4F53-B96D-1767CCAD9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3645000"/>
            <a:ext cx="2808360" cy="217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51280" y="3789360"/>
            <a:ext cx="489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ворческий про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хся 2 «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 Гусева Наталия Юр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5280" y="1341360"/>
            <a:ext cx="83376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ЧИТАЛКИ, СКОРОГОВОРКИ, ЧИСТОГОВОРК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орогово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роткие                    дли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ронила ворона вороненка   Дает Катеринке картинки Кар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инки в корзин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дет Катер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ифмованные            нерифмова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ежа – ежата, у ужа – ужата               Сыворотка из-под простоква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родные                     автор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хал Грека через реку                     Если руки мыли В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ит Грека в реке рак.                   Если руки мыли 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нул Грека руку в реку,                 Если руки моешь 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к за руку Греку цап.                     Значит руки ВЫМЫТЫ.   (В.Лифши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юдям, часто спотыкающимся на ровном месте, советуют учить речевые упражнения – скороговорки-считалки в форме веселых стиш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юди, профессия которых связана с речью на публику - артисты, дикторы, лекторы, - используют скороговорки постоянно в качестве речевых упражн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тогово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зарифмованные фразы, в которых часто повторяется какой-либо зв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ые пишут, что чистоговорка и скороговорка – это одно и то же, но мы так не думаем. Скороговорку сложнее произнести, чем чистоговорку и чистоговорка развивает чувство риф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620640"/>
            <a:ext cx="2016000" cy="609840"/>
          </a:xfrm>
          <a:prstGeom prst="wedgeRoundRectCallout">
            <a:avLst>
              <a:gd name="adj1" fmla="val 68976"/>
              <a:gd name="adj2" fmla="val 10338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ТЕОРЕ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еще мы сами научились составлять чистоговор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и-ши-ши – наши груши хоро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у-шу-шу – я объелся, чуть дыш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о-шо-шо – скушать грушу 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Жа-жа-жа – прилетели два стриж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Жу-жу-жу – дам я зернышек стри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Жи-жи-жи – у нас живут стри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Ца-ца-ца – нет конца у коль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Ща-ща-ща – поймали мы лещ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Каша во рт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ы часто слышали  выражение «каша во рту». Нам стало интересно, что оно означ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аша во рту» - это невнятная, нечеткая 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ется фразеологическим оборо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«кашей во рту» надо боро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гут в этом скороговорки и чистоговор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716360" y="404640"/>
            <a:ext cx="3745080" cy="1008360"/>
          </a:xfrm>
          <a:prstGeom prst="wedgeRoundRectCallout">
            <a:avLst>
              <a:gd name="adj1" fmla="val 14944"/>
              <a:gd name="adj2" fmla="val 477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48360" y="765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ИССЛЕДОВ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588000" y="4581360"/>
            <a:ext cx="1836720" cy="1568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870200" cy="202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rot="1385400">
            <a:off x="3563640" y="1989000"/>
            <a:ext cx="4321080" cy="2016360"/>
          </a:xfrm>
          <a:prstGeom prst="wedgeEllipseCallout">
            <a:avLst>
              <a:gd name="adj1" fmla="val -89884"/>
              <a:gd name="adj2" fmla="val -8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2133720"/>
            <a:ext cx="410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В нашем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выявлено 6 ребя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которые неправильно произнося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некоторые зв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11280" y="4581360"/>
            <a:ext cx="1330200" cy="1854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20130600">
            <a:off x="2484000" y="2967120"/>
            <a:ext cx="1941480" cy="3890880"/>
          </a:xfrm>
          <a:prstGeom prst="wedgeEllipseCallout">
            <a:avLst>
              <a:gd name="adj1" fmla="val -4921"/>
              <a:gd name="adj2" fmla="val -85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400536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Полов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не уме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вырази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чит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43280" y="1773360"/>
            <a:ext cx="36003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763280" y="2637000"/>
            <a:ext cx="1295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2852640"/>
            <a:ext cx="730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43640" y="2637000"/>
            <a:ext cx="122400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149720"/>
            <a:ext cx="187164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95640" y="4653000"/>
            <a:ext cx="1727280" cy="158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скорогово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77080" y="3860640"/>
            <a:ext cx="184932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истогово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47242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счита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1869840" cy="2027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132000" y="0"/>
            <a:ext cx="4032360" cy="1484280"/>
          </a:xfrm>
          <a:prstGeom prst="cloudCallout">
            <a:avLst>
              <a:gd name="adj1" fmla="val -68111"/>
              <a:gd name="adj2" fmla="val 61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1974960" cy="2663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2216160" cy="2736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232680" y="3284640"/>
            <a:ext cx="2198520" cy="2665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260280"/>
            <a:ext cx="460836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ЗАТЕЙ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1280" y="2205000"/>
            <a:ext cx="3889440" cy="4032360"/>
          </a:xfrm>
          <a:prstGeom prst="cloudCallout">
            <a:avLst>
              <a:gd name="adj1" fmla="val 57430"/>
              <a:gd name="adj2" fmla="val -766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На золотом крыльце сидели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Царь, царевич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Король, королевич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Сапожник, портной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Кто ты будешь такой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Говори поскорей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Не задерживай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Добрых и честных люде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76360" y="1413000"/>
            <a:ext cx="575964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АЕ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ДАЧ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ы хотели узн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считалка и когда ее лучше использовать? Чему учит считал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скороговорка и как она важна для н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тоговорка – это скороговор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аша во рту» - это интересно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чему мы выбрали эту т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хот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красиво, четко, ясно разговар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ьно, выразительно и бегло чи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очь ребятам в нашем классе с трудностями  в произно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3088800">
            <a:off x="153720" y="939960"/>
            <a:ext cx="2089080" cy="485640"/>
          </a:xfrm>
          <a:prstGeom prst="rightArrow">
            <a:avLst>
              <a:gd name="adj1" fmla="val 50000"/>
              <a:gd name="adj2" fmla="val 1075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8195400">
            <a:off x="6806880" y="92052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288800">
            <a:off x="289080" y="5503680"/>
            <a:ext cx="1944360" cy="485640"/>
          </a:xfrm>
          <a:prstGeom prst="rightArrow">
            <a:avLst>
              <a:gd name="adj1" fmla="val 50000"/>
              <a:gd name="adj2" fmla="val 1000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3843800">
            <a:off x="7062480" y="5383080"/>
            <a:ext cx="1768320" cy="486000"/>
          </a:xfrm>
          <a:prstGeom prst="rightArrow">
            <a:avLst>
              <a:gd name="adj1" fmla="val 50000"/>
              <a:gd name="adj2" fmla="val 909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1413000"/>
            <a:ext cx="5904000" cy="417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Кто хочет разговаривать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Тот должен выговаривать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се правильно и внятно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Чтоб было всем понятно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Мы будем разговаривать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И будем выговаривать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Так правильно и внятно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Чтоб было всем понят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H="1">
            <a:off x="1331640" y="1268280"/>
            <a:ext cx="136836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700000" y="1341360"/>
            <a:ext cx="934920" cy="323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1773360"/>
            <a:ext cx="647640" cy="28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72360" y="1413000"/>
            <a:ext cx="1655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60280"/>
            <a:ext cx="4319640" cy="1584360"/>
          </a:xfrm>
          <a:custGeom>
            <a:avLst/>
            <a:gdLst>
              <a:gd name="textAreaLeft" fmla="*/ 1080000 w 4319640"/>
              <a:gd name="textAreaRight" fmla="*/ 3240000 w 4319640"/>
              <a:gd name="textAreaTop" fmla="*/ 577440 h 1584360"/>
              <a:gd name="textAreaBottom" fmla="*/ 15375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3725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5785"/>
                </a:lnTo>
                <a:arcTo wR="21600" hR="20153" stAng="4471878" swAng="-976834"/>
                <a:lnTo>
                  <a:pt x="18900" y="8092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7717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8092"/>
                </a:lnTo>
                <a:close/>
              </a:path>
              <a:path fill="none" w="21600" h="21600">
                <a:moveTo>
                  <a:pt x="8100" y="7717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7717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5785"/>
                </a:moveTo>
                <a:lnTo>
                  <a:pt x="5400" y="7235"/>
                </a:lnTo>
              </a:path>
              <a:path fill="none" w="21600" h="21600">
                <a:moveTo>
                  <a:pt x="16200" y="15785"/>
                </a:moveTo>
                <a:lnTo>
                  <a:pt x="16200" y="7235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«а»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00" y="2708280"/>
            <a:ext cx="2376360" cy="1274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ОРЕ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4581360"/>
            <a:ext cx="3528720" cy="1274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С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4581360"/>
            <a:ext cx="3240000" cy="1274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СЛЕДОВ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67640" y="2708280"/>
            <a:ext cx="2376360" cy="1274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ТЕЙ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561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толковому словар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565000"/>
            <a:ext cx="7210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читал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короткий рифмованный стишок, которым определяют ведущего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роговор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специально продуманная фраза с труднопроизносимым набором звуков, которую нужно произнести быстро, не запиная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стоговор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? Как ни странно,  определения мы не нашли ни в одном из современных толковых словар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603520" cy="292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20607600">
            <a:off x="6802560" y="1762200"/>
            <a:ext cx="15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теоре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читал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истории считал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Корнями считалки уходят в далекие времена, когда охотники верили, что пересчет убитой дичи принесет неудачу в будущей охоте. Поэтому прямой счет заменялся иносказательными формами. Отсюда и “азы, двазы, тризы, ризы…” или “эна-бэна-раба…” Конечно, сейчас роль у считалок совсем другая, но что-то магическое в них все-таки оста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659640" y="276120"/>
            <a:ext cx="20890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читал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читалки уч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держиваться правил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ть друж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ть честными и справедлив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читать (малыш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88000" y="4045680"/>
            <a:ext cx="410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з-два-три-четыре-пять!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есть-семь-восемь-девять-десять!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до, надо, надо спать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не надо куролесить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то не спит, тот выйдет вон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то уснул, увидит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н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36000" y="1341360"/>
            <a:ext cx="1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4581360"/>
            <a:ext cx="3816360" cy="1943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484360" y="539424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мас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4328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орогово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роговорки нужны для тренировки ре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и быва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стые                        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ля детей)                                     (для взросл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pепaхa, не скучaя,              Петр Петрович по прозванью Пер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aс сидит зa чaшкой чaя.      Поймал птицу пигал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нес по рынку, просил полтин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али пятак, он и продал т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19640" cy="1741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76560" y="71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7142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мастера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8:09:51Z</dcterms:created>
  <dc:creator>Ученик</dc:creator>
  <dc:description/>
  <dc:language>en-US</dc:language>
  <cp:lastModifiedBy>user</cp:lastModifiedBy>
  <dcterms:modified xsi:type="dcterms:W3CDTF">2009-12-17T19:16:37Z</dcterms:modified>
  <cp:revision>12</cp:revision>
  <dc:subject/>
  <dc:title>СЧИТАЛКИ СКОРОГОВОРКИ ЧИСТОГОВОРКИ</dc:title>
</cp:coreProperties>
</file>