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11.wmf" ContentType="image/x-wmf"/>
  <Override PartName="/ppt/media/image4.png" ContentType="image/png"/>
  <Override PartName="/ppt/media/image8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9.gif" ContentType="image/gif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CBF1-785B-44F3-AE80-0EB206EE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5C9-F965-4484-8984-931923CE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967-450E-409E-984C-074B2432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021-0169-43F3-B92E-0C688673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619-FC4C-4276-AA3B-C08C4E7B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751-9266-4945-8837-6D832E5A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18F-7211-4CE8-A7EF-B6D5C142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BDC-652E-497D-BFE3-D75148D6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9CC-1E81-4CD2-9835-2D506F58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3D0-7953-4E8A-88D6-EB0BE4C0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ECE-C4B1-4D15-87EC-AC1D4B3A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587-8B39-4DDA-BF73-DBBD2061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C4B0-29AE-47D9-84BB-DCCDCD2A53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017720" y="927000"/>
            <a:ext cx="7954920" cy="147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951280" y="4149720"/>
            <a:ext cx="619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ноградова Нина Никола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БОУ « СОШ № 87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Северск, Томск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9" descr="C:\Users\клиент\Pictures\Организатор клипов (Microsoft)\j0435805.wmf"/>
          <p:cNvPicPr/>
          <p:nvPr/>
        </p:nvPicPr>
        <p:blipFill>
          <a:blip r:embed="rId2"/>
          <a:stretch/>
        </p:blipFill>
        <p:spPr>
          <a:xfrm>
            <a:off x="108000" y="2930400"/>
            <a:ext cx="39592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24000" y="1628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9 +2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" descr="F:\Рисунки\disney006.gif"/>
          <p:cNvPicPr/>
          <p:nvPr/>
        </p:nvPicPr>
        <p:blipFill>
          <a:blip r:embed="rId1"/>
          <a:stretch/>
        </p:blipFill>
        <p:spPr>
          <a:xfrm>
            <a:off x="3233880" y="4292640"/>
            <a:ext cx="2066760" cy="2565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337320" y="-1440"/>
            <a:ext cx="814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числите и запишите толь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твет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469440" y="2712960"/>
            <a:ext cx="14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9 – 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69800" y="357336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7 –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541440" y="4508640"/>
            <a:ext cx="144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6 +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5365800" y="1700280"/>
            <a:ext cx="144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6 +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5365800" y="2637000"/>
            <a:ext cx="144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8 +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5294520" y="3573360"/>
            <a:ext cx="170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0 –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5221440" y="4437000"/>
            <a:ext cx="170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1 –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8000" y="2349360"/>
          <a:ext cx="8856720" cy="1008360"/>
        </p:xfrm>
        <a:graphic>
          <a:graphicData uri="http://schemas.openxmlformats.org/drawingml/2006/table">
            <a:tbl>
              <a:tblPr/>
              <a:tblGrid>
                <a:gridCol w="984240"/>
                <a:gridCol w="492120"/>
                <a:gridCol w="492120"/>
                <a:gridCol w="492120"/>
                <a:gridCol w="492120"/>
                <a:gridCol w="492120"/>
                <a:gridCol w="492120"/>
                <a:gridCol w="492120"/>
                <a:gridCol w="982800"/>
                <a:gridCol w="492120"/>
                <a:gridCol w="984240"/>
                <a:gridCol w="492120"/>
                <a:gridCol w="492120"/>
                <a:gridCol w="492120"/>
                <a:gridCol w="492120"/>
              </a:tblGrid>
              <a:tr h="1008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3840120" cy="1596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F:\Рисунки\disney023.gif"/>
          <p:cNvPicPr/>
          <p:nvPr/>
        </p:nvPicPr>
        <p:blipFill>
          <a:blip r:embed="rId2"/>
          <a:stretch/>
        </p:blipFill>
        <p:spPr>
          <a:xfrm>
            <a:off x="3059280" y="3684600"/>
            <a:ext cx="25207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542880" y="139680"/>
            <a:ext cx="8120160" cy="1036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213920"/>
            <a:ext cx="914400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Условие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6600" spc="-1" strike="noStrike">
                <a:solidFill>
                  <a:srgbClr val="375bb0"/>
                </a:solidFill>
                <a:latin typeface="Times New Roman"/>
              </a:rPr>
              <a:t>Вопрос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Решение.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F:\Рисунки\disney023.gif"/>
          <p:cNvPicPr/>
          <p:nvPr/>
        </p:nvPicPr>
        <p:blipFill>
          <a:blip r:embed="rId2"/>
          <a:stretch/>
        </p:blipFill>
        <p:spPr>
          <a:xfrm>
            <a:off x="282600" y="1628640"/>
            <a:ext cx="16430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569320" y="-214200"/>
            <a:ext cx="389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2351160" y="1279440"/>
            <a:ext cx="395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cc"/>
                </a:solidFill>
                <a:latin typeface="Times New Roman"/>
              </a:rPr>
              <a:t>Условие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-25560" y="2987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Маша собрала 15 огурцов.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0" y="4287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За обедом съели  5 огурцо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565520" y="247968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F:\Рисунок5.jpg"/>
          <p:cNvPicPr/>
          <p:nvPr/>
        </p:nvPicPr>
        <p:blipFill>
          <a:blip r:embed="rId1"/>
          <a:stretch/>
        </p:blipFill>
        <p:spPr>
          <a:xfrm>
            <a:off x="7308720" y="257040"/>
            <a:ext cx="1660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330120" y="1623960"/>
            <a:ext cx="345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90f1d"/>
                </a:solidFill>
                <a:latin typeface="Times New Roman"/>
              </a:rPr>
              <a:t>Вопрос</a:t>
            </a:r>
            <a:r>
              <a:rPr b="1" lang="ru-RU" sz="7200" spc="-1" strike="noStrike">
                <a:solidFill>
                  <a:srgbClr val="090f1d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2773440" y="0"/>
            <a:ext cx="355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639720" y="3429000"/>
            <a:ext cx="634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cc"/>
                </a:solidFill>
                <a:latin typeface="Times New Roman"/>
              </a:rPr>
              <a:t>Сколько огурцо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cc"/>
                </a:solidFill>
                <a:latin typeface="Times New Roman"/>
              </a:rPr>
              <a:t>осталось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F:\Рисунок3.jpg"/>
          <p:cNvPicPr/>
          <p:nvPr/>
        </p:nvPicPr>
        <p:blipFill>
          <a:blip r:embed="rId1"/>
          <a:stretch/>
        </p:blipFill>
        <p:spPr>
          <a:xfrm>
            <a:off x="7226280" y="909720"/>
            <a:ext cx="1776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357120" y="2928960"/>
            <a:ext cx="192888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2730240" y="606600"/>
            <a:ext cx="443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4000680" y="3000240"/>
            <a:ext cx="178560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7143840" y="3000240"/>
            <a:ext cx="171432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6143760" y="3500280"/>
            <a:ext cx="857160" cy="14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2714760" y="3643200"/>
            <a:ext cx="1000080" cy="14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6143760" y="3857760"/>
            <a:ext cx="857160" cy="14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357120" y="2857680"/>
            <a:ext cx="1928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4286160" y="2857680"/>
            <a:ext cx="1214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7152840" y="2928960"/>
            <a:ext cx="1640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4" descr="F:\конкурсы\Математика - сравнение чисел\shkolnye_kartinki_41_2.gif"/>
          <p:cNvPicPr/>
          <p:nvPr/>
        </p:nvPicPr>
        <p:blipFill>
          <a:blip r:embed="rId1"/>
          <a:stretch/>
        </p:blipFill>
        <p:spPr>
          <a:xfrm>
            <a:off x="360360" y="0"/>
            <a:ext cx="16606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163440" y="123840"/>
            <a:ext cx="43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185040" y="156996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1209600" y="1555920"/>
            <a:ext cx="793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огурцов осталось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F:\Рисунки\disney023.gif"/>
          <p:cNvPicPr/>
          <p:nvPr/>
        </p:nvPicPr>
        <p:blipFill>
          <a:blip r:embed="rId1"/>
          <a:stretch/>
        </p:blipFill>
        <p:spPr>
          <a:xfrm>
            <a:off x="3392640" y="3429000"/>
            <a:ext cx="19270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931240" cy="522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клиент\Pictures\Организатор клипов (Microsoft)\j0440424.wmf"/>
          <p:cNvPicPr/>
          <p:nvPr/>
        </p:nvPicPr>
        <p:blipFill>
          <a:blip r:embed="rId2"/>
          <a:stretch/>
        </p:blipFill>
        <p:spPr>
          <a:xfrm>
            <a:off x="5643720" y="4357800"/>
            <a:ext cx="1827000" cy="1506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C:\Users\клиент\Pictures\Организатор клипов (Microsoft)\j0435805.wmf"/>
          <p:cNvPicPr/>
          <p:nvPr/>
        </p:nvPicPr>
        <p:blipFill>
          <a:blip r:embed="rId3"/>
          <a:stretch/>
        </p:blipFill>
        <p:spPr>
          <a:xfrm>
            <a:off x="108000" y="5732640"/>
            <a:ext cx="1133280" cy="1125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:\Users\клиент\Pictures\Организатор клипов (Microsoft)\j0435805.wmf"/>
          <p:cNvPicPr/>
          <p:nvPr/>
        </p:nvPicPr>
        <p:blipFill>
          <a:blip r:embed="rId4"/>
          <a:stretch/>
        </p:blipFill>
        <p:spPr>
          <a:xfrm rot="5400000">
            <a:off x="14760" y="54720"/>
            <a:ext cx="1133640" cy="1125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Users\клиент\Pictures\Организатор клипов (Microsoft)\j0435805.wmf"/>
          <p:cNvPicPr/>
          <p:nvPr/>
        </p:nvPicPr>
        <p:blipFill>
          <a:blip r:embed="rId5"/>
          <a:stretch/>
        </p:blipFill>
        <p:spPr>
          <a:xfrm rot="10800000">
            <a:off x="7991640" y="0"/>
            <a:ext cx="1134720" cy="1125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клиент\Pictures\Организатор клипов (Microsoft)\j0435805.wmf"/>
          <p:cNvPicPr/>
          <p:nvPr/>
        </p:nvPicPr>
        <p:blipFill>
          <a:blip r:embed="rId6"/>
          <a:stretch/>
        </p:blipFill>
        <p:spPr>
          <a:xfrm rot="16377600">
            <a:off x="7890840" y="5659920"/>
            <a:ext cx="1133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3:18:37Z</dcterms:created>
  <dc:creator>клиент;Виноградова Н.Н</dc:creator>
  <dc:description/>
  <dc:language>en-US</dc:language>
  <cp:lastModifiedBy>Admin</cp:lastModifiedBy>
  <dcterms:modified xsi:type="dcterms:W3CDTF">2012-02-06T19:44:00Z</dcterms:modified>
  <cp:revision>33</cp:revision>
  <dc:subject/>
  <dc:title>Сравнение чисел.</dc:title>
</cp:coreProperties>
</file>