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477-5771-446F-BCCF-9B640A82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186-FE98-416A-94A4-157A462A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6D2-C46B-4BFD-B2D3-EB867509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8E9-F7D3-49A4-B598-C58C44B7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62BF-084B-4D2E-89D8-7D3570D1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695C-0DDB-4851-95A0-F018697C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B401-4FFB-4D9A-B1D8-2B85E9DE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EC79-F251-434C-BF7C-7931AC98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2C5F-E12B-438A-BFA6-DE45060C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0A75-EC41-49D6-AA96-D11E4608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8E52-5113-49E2-9C62-8239F64B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559-BE52-48AB-9FAB-4A42EE2F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ABB3-33BE-43BE-90B6-6C2CA43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3091-DCC6-4834-87A8-F9130682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8A7B-317D-4BB3-A829-8A350F14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CA00-195F-45CA-9FFA-413C495E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0A5-9181-40FD-929F-706D3D72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6FB-B3F2-4B9A-B97E-E81F2202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B21-0E69-4089-8B78-5ECF44C3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560-4E26-47EB-A61B-28E42B7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AE1-EC6C-4584-9A44-1853F175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3B9-DCE4-4EF1-A56A-80EB471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194-6F90-46F0-AF9D-CF79568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25F-88D2-4987-8BB1-4FDD62A7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3B33-7B76-4EC5-8CA8-EE106AA9A76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9405-5FE1-4B02-8C78-6CB7199C74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Урок – выставка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икатная промышлен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чера, сегодня, зав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Цилиндрическая печь для обжига смеси при производстве цемент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5" descr="picture"/>
          <p:cNvPicPr/>
          <p:nvPr/>
        </p:nvPicPr>
        <p:blipFill>
          <a:blip r:embed="rId1"/>
          <a:stretch/>
        </p:blipFill>
        <p:spPr>
          <a:xfrm>
            <a:off x="2139840" y="2895480"/>
            <a:ext cx="48643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Garamond"/>
              </a:rPr>
              <a:t>Химические реакции, лежащие в основе производства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воживание каоли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Si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=AI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Si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2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ложение известняк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CaO+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ование силикатов и алюмосиликат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O+Si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CaSi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Выставочный зал №3.</a:t>
            </a:r>
            <a:br>
              <a:rPr sz="3000"/>
            </a:br>
            <a:r>
              <a:rPr b="0" lang="ru-RU" sz="3000" spc="-1" strike="noStrike">
                <a:solidFill>
                  <a:srgbClr val="006633"/>
                </a:solidFill>
                <a:latin typeface="Garamond"/>
              </a:rPr>
              <a:t>« </a:t>
            </a: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Стекло».</a:t>
            </a:r>
            <a:br>
              <a:rPr sz="3000"/>
            </a:br>
            <a:r>
              <a:rPr b="1" lang="ru-RU" sz="3000" spc="-1" strike="noStrike" u="sng">
                <a:solidFill>
                  <a:srgbClr val="006633"/>
                </a:solidFill>
                <a:uFillTx/>
                <a:latin typeface="Garamond"/>
              </a:rPr>
              <a:t>Оконное стекло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его изготовления берут  только чистый кварцевый песок, соду и известня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ырьё перемешивают и спекают при 150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Si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CaSi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ный состав оконного стек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Si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57120"/>
            <a:ext cx="73166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окатка листового стекл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9" name="Picture 4" descr="picture"/>
          <p:cNvPicPr/>
          <p:nvPr/>
        </p:nvPicPr>
        <p:blipFill>
          <a:blip r:embed="rId1">
            <a:lum contrast="24000"/>
          </a:blip>
          <a:srcRect l="1111" t="0" r="0" b="0"/>
          <a:stretch/>
        </p:blipFill>
        <p:spPr>
          <a:xfrm>
            <a:off x="857160" y="1357200"/>
            <a:ext cx="6357960" cy="4429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иды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текл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Химическое стек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место соды взять поташ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получается  более тугоплавкое стек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используют в производстве химической посу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 стек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S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Кварцевое стек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ют из чистого кварцевого пе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боится перепада темпера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ает ультрафиолетов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в производстве посуды для микроволновой печи, соляриев и кварцевых лам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picture"/>
          <p:cNvPicPr/>
          <p:nvPr/>
        </p:nvPicPr>
        <p:blipFill>
          <a:blip r:embed="rId1"/>
          <a:stretch/>
        </p:blipFill>
        <p:spPr>
          <a:xfrm>
            <a:off x="611280" y="4221000"/>
            <a:ext cx="3538440" cy="180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Хрустальное стекло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46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честве сырья берут пот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ид сви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рцевый песок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ло сильно преломляет свет, имеет характерный звон и большую пло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ется в производстве лин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елия из хруста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линза"/>
          <p:cNvPicPr/>
          <p:nvPr/>
        </p:nvPicPr>
        <p:blipFill>
          <a:blip r:embed="rId1"/>
          <a:stretch/>
        </p:blipFill>
        <p:spPr>
          <a:xfrm>
            <a:off x="324000" y="4365720"/>
            <a:ext cx="3816360" cy="208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571"/>
          <p:cNvPicPr/>
          <p:nvPr/>
        </p:nvPicPr>
        <p:blipFill>
          <a:blip r:embed="rId2"/>
          <a:stretch/>
        </p:blipFill>
        <p:spPr>
          <a:xfrm>
            <a:off x="4572000" y="3068640"/>
            <a:ext cx="2400480" cy="2857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korzina1_m"/>
          <p:cNvPicPr/>
          <p:nvPr/>
        </p:nvPicPr>
        <p:blipFill>
          <a:blip r:embed="rId3"/>
          <a:stretch/>
        </p:blipFill>
        <p:spPr>
          <a:xfrm>
            <a:off x="7020000" y="1484280"/>
            <a:ext cx="158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Цветные стёкл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24360" y="1268280"/>
            <a:ext cx="5046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и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ее стекло-оксид кобальта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лёное стекло-оксид хрома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)(C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ёлтое стекло-оксид железа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)(F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обавлении мелкораздробленного золота получают рубиновое стек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9" descr="kremlin25"/>
          <p:cNvPicPr/>
          <p:nvPr/>
        </p:nvPicPr>
        <p:blipFill>
          <a:blip r:embed="rId1"/>
          <a:stretch/>
        </p:blipFill>
        <p:spPr>
          <a:xfrm>
            <a:off x="3780000" y="3789360"/>
            <a:ext cx="3333600" cy="233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1" descr="kremlin22"/>
          <p:cNvPicPr/>
          <p:nvPr/>
        </p:nvPicPr>
        <p:blipFill>
          <a:blip r:embed="rId2"/>
          <a:stretch/>
        </p:blipFill>
        <p:spPr>
          <a:xfrm>
            <a:off x="755640" y="1628640"/>
            <a:ext cx="2232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Жидкое стекло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концентрированные растворы силикатов натрия и кал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х получают сплавлением песка с карбонатами или щелоч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N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N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яются для противопожарной пропит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33"/>
                </a:solidFill>
                <a:uFillTx/>
                <a:latin typeface="Garamond"/>
              </a:rPr>
              <a:t>Бисер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 – мелкие бусинки с отверстиями для продевания нитки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яется для украшения 600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учший – чешский бис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арину варили из чистого кварцевого песка, соды, м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icture"/>
          <p:cNvPicPr/>
          <p:nvPr/>
        </p:nvPicPr>
        <p:blipFill>
          <a:blip r:embed="rId1"/>
          <a:stretch/>
        </p:blipFill>
        <p:spPr>
          <a:xfrm>
            <a:off x="4356000" y="3213000"/>
            <a:ext cx="4464000" cy="2922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онтрольное задание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Из предложенного списка выбрать формулы оконного стекла, химического стекла, мела, соды, известняка, пе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 Ca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O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собые свойства хрусталю придаё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сид свинц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сид желез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сид алюминия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Благородной керамикой считае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рф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ян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делия из красной гли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Линзы делают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ного стекл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кварцевого стекл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хрустального стек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Из какого кирпича кладут п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икатног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2808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трасли силикатной промышленност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9" name="Organization Chart 12"/>
          <p:cNvGrpSpPr/>
          <p:nvPr/>
        </p:nvGrpSpPr>
        <p:grpSpPr>
          <a:xfrm>
            <a:off x="395280" y="620640"/>
            <a:ext cx="8208360" cy="5400000"/>
            <a:chOff x="395280" y="620640"/>
            <a:chExt cx="8208360" cy="5400000"/>
          </a:xfrm>
        </p:grpSpPr>
        <p:cxnSp>
          <p:nvCxnSpPr>
            <p:cNvPr id="90" name="_s1028"/>
            <p:cNvCxnSpPr>
              <a:stCxn id="91" idx="0"/>
              <a:endCxn id="92" idx="3"/>
            </p:cNvCxnSpPr>
            <p:nvPr/>
          </p:nvCxnSpPr>
          <p:spPr>
            <a:xfrm flipV="1" rot="16200000">
              <a:off x="2939040" y="3648240"/>
              <a:ext cx="675720" cy="1368720"/>
            </a:xfrm>
            <a:prstGeom prst="bentConnector3">
              <a:avLst>
                <a:gd name="adj1" fmla="val 16897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93" name="_s1029"/>
            <p:cNvCxnSpPr>
              <a:stCxn id="94" idx="0"/>
              <a:endCxn id="92" idx="3"/>
            </p:cNvCxnSpPr>
            <p:nvPr/>
          </p:nvCxnSpPr>
          <p:spPr>
            <a:xfrm flipH="1" flipV="1" rot="5400000">
              <a:off x="1716840" y="3794040"/>
              <a:ext cx="675720" cy="1077480"/>
            </a:xfrm>
            <a:prstGeom prst="bentConnector3">
              <a:avLst>
                <a:gd name="adj1" fmla="val 16897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95" name="_s1030"/>
            <p:cNvCxnSpPr>
              <a:stCxn id="96" idx="0"/>
              <a:endCxn id="97" idx="3"/>
            </p:cNvCxnSpPr>
            <p:nvPr/>
          </p:nvCxnSpPr>
          <p:spPr>
            <a:xfrm flipV="1" rot="16200000">
              <a:off x="5995080" y="1012320"/>
              <a:ext cx="675720" cy="2590920"/>
            </a:xfrm>
            <a:prstGeom prst="bentConnector3">
              <a:avLst>
                <a:gd name="adj1" fmla="val 16897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98" name="_s1031"/>
            <p:cNvCxnSpPr>
              <a:stCxn id="99" idx="0"/>
              <a:endCxn id="97" idx="3"/>
            </p:cNvCxnSpPr>
            <p:nvPr/>
          </p:nvCxnSpPr>
          <p:spPr>
            <a:xfrm flipV="1" rot="16200000">
              <a:off x="4772520" y="2234880"/>
              <a:ext cx="675720" cy="145800"/>
            </a:xfrm>
            <a:prstGeom prst="bentConnector3">
              <a:avLst>
                <a:gd name="adj1" fmla="val 16897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00" name="_s1032"/>
            <p:cNvCxnSpPr>
              <a:stCxn id="92" idx="0"/>
              <a:endCxn id="97" idx="3"/>
            </p:cNvCxnSpPr>
            <p:nvPr/>
          </p:nvCxnSpPr>
          <p:spPr>
            <a:xfrm flipH="1" flipV="1" rot="5400000">
              <a:off x="3550680" y="1157760"/>
              <a:ext cx="675720" cy="2300040"/>
            </a:xfrm>
            <a:prstGeom prst="bentConnector3">
              <a:avLst>
                <a:gd name="adj1" fmla="val 16897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97" name="_s1033"/>
            <p:cNvSpPr/>
            <p:nvPr/>
          </p:nvSpPr>
          <p:spPr>
            <a:xfrm>
              <a:off x="4062960" y="620640"/>
              <a:ext cx="2095560" cy="135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ликатна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мышленност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4"/>
            <p:cNvSpPr/>
            <p:nvPr/>
          </p:nvSpPr>
          <p:spPr>
            <a:xfrm>
              <a:off x="1617840" y="2645640"/>
              <a:ext cx="2095560" cy="135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ерамика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4062960" y="2645640"/>
              <a:ext cx="2095560" cy="135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екло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6"/>
            <p:cNvSpPr/>
            <p:nvPr/>
          </p:nvSpPr>
          <p:spPr>
            <a:xfrm>
              <a:off x="6508080" y="2645640"/>
              <a:ext cx="2095560" cy="135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емент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7"/>
            <p:cNvSpPr/>
            <p:nvPr/>
          </p:nvSpPr>
          <p:spPr>
            <a:xfrm>
              <a:off x="395280" y="4670640"/>
              <a:ext cx="2095560" cy="135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66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роительны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8"/>
            <p:cNvSpPr/>
            <p:nvPr/>
          </p:nvSpPr>
          <p:spPr>
            <a:xfrm>
              <a:off x="2840040" y="4670640"/>
              <a:ext cx="2095560" cy="135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66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едмет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ыт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верь себ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оконного стекла – б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ческого стекла –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 – 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ды – 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вестняка - 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ка -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–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–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–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–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006633"/>
                </a:solidFill>
                <a:latin typeface="Garamond"/>
              </a:rPr>
              <a:t>Спасибо за внимание!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0661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ставочный зал №1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« Керамика»</a:t>
            </a:r>
            <a:br>
              <a:rPr sz="3400"/>
            </a:br>
            <a:r>
              <a:rPr b="0" lang="ru-RU" sz="3400" spc="-1" strike="noStrike" u="sng">
                <a:solidFill>
                  <a:srgbClr val="006633"/>
                </a:solidFill>
                <a:uFillTx/>
                <a:latin typeface="Garamond"/>
              </a:rPr>
              <a:t>Изделия из красной глины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ршечники. Древнеегипетская настенная роспи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еческая ваза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ек дон.э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picture"/>
          <p:cNvPicPr/>
          <p:nvPr/>
        </p:nvPicPr>
        <p:blipFill>
          <a:blip r:embed="rId1"/>
          <a:stretch/>
        </p:blipFill>
        <p:spPr>
          <a:xfrm>
            <a:off x="7020000" y="3289320"/>
            <a:ext cx="1511280" cy="2449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4" name="Picture 8" descr="picture"/>
          <p:cNvPicPr/>
          <p:nvPr/>
        </p:nvPicPr>
        <p:blipFill>
          <a:blip r:embed="rId2"/>
          <a:stretch/>
        </p:blipFill>
        <p:spPr>
          <a:xfrm>
            <a:off x="755640" y="3716280"/>
            <a:ext cx="4753080" cy="2808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ырьё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Глин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 В её состав входит каолин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SiO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в виде механических примесей песок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 известняк 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Вод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зделия из белой глины.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арфор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на фарфора – Кит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icture"/>
          <p:cNvPicPr/>
          <p:nvPr/>
        </p:nvPicPr>
        <p:blipFill>
          <a:blip r:embed="rId1"/>
          <a:stretch/>
        </p:blipFill>
        <p:spPr>
          <a:xfrm>
            <a:off x="5651640" y="1628640"/>
            <a:ext cx="3263760" cy="4200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0" name="Picture 5" descr="picture"/>
          <p:cNvPicPr/>
          <p:nvPr/>
        </p:nvPicPr>
        <p:blipFill>
          <a:blip r:embed="rId2"/>
          <a:stretch/>
        </p:blipFill>
        <p:spPr>
          <a:xfrm>
            <a:off x="971640" y="2276640"/>
            <a:ext cx="3240000" cy="367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4920" y="499680"/>
            <a:ext cx="8319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оссии производство фарфора было налажено на императорском заводе под Петербургом в 1746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арфор. Надглазурная роспись, золо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жель. Квасник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е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кувшин импер фарф зд"/>
          <p:cNvPicPr/>
          <p:nvPr/>
        </p:nvPicPr>
        <p:blipFill>
          <a:blip r:embed="rId1"/>
          <a:stretch/>
        </p:blipFill>
        <p:spPr>
          <a:xfrm>
            <a:off x="5651640" y="2349360"/>
            <a:ext cx="2398680" cy="3579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88990689"/>
          <p:cNvPicPr/>
          <p:nvPr/>
        </p:nvPicPr>
        <p:blipFill>
          <a:blip r:embed="rId2"/>
          <a:stretch/>
        </p:blipFill>
        <p:spPr>
          <a:xfrm>
            <a:off x="1332000" y="2421000"/>
            <a:ext cx="2305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1" lang="ru-RU" sz="2100" spc="-1" strike="noStrike">
                <a:solidFill>
                  <a:srgbClr val="006633"/>
                </a:solidFill>
                <a:latin typeface="Garamond"/>
              </a:rPr>
              <a:t>Признаки фарфора: тонкость изделия, белый цвет, отсутствие пористости, термическая и химическая прочность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делия Дулёвского фарфорового зав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0_farfor_79747"/>
          <p:cNvPicPr/>
          <p:nvPr/>
        </p:nvPicPr>
        <p:blipFill>
          <a:blip r:embed="rId1"/>
          <a:stretch/>
        </p:blipFill>
        <p:spPr>
          <a:xfrm>
            <a:off x="5929200" y="2643120"/>
            <a:ext cx="2678400" cy="338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6_farfor_72870"/>
          <p:cNvPicPr/>
          <p:nvPr/>
        </p:nvPicPr>
        <p:blipFill>
          <a:blip r:embed="rId2"/>
          <a:stretch/>
        </p:blipFill>
        <p:spPr>
          <a:xfrm>
            <a:off x="1071720" y="2786040"/>
            <a:ext cx="3889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ставочный зал №2.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«</a:t>
            </a: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Строительные материалы»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пич – древнейший строительный материал, изготовляемый из г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icture"/>
          <p:cNvPicPr/>
          <p:nvPr/>
        </p:nvPicPr>
        <p:blipFill>
          <a:blip r:embed="rId1"/>
          <a:stretch/>
        </p:blipFill>
        <p:spPr>
          <a:xfrm>
            <a:off x="611280" y="1700280"/>
            <a:ext cx="4038480" cy="1035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121" name="Diagram 39"/>
          <p:cNvGrpSpPr/>
          <p:nvPr/>
        </p:nvGrpSpPr>
        <p:grpSpPr>
          <a:xfrm>
            <a:off x="1412280" y="2372400"/>
            <a:ext cx="6664680" cy="4252680"/>
            <a:chOff x="1412280" y="2372400"/>
            <a:chExt cx="6664680" cy="4252680"/>
          </a:xfrm>
        </p:grpSpPr>
        <p:sp>
          <p:nvSpPr>
            <p:cNvPr id="122" name="_s2052"/>
            <p:cNvSpPr/>
            <p:nvPr/>
          </p:nvSpPr>
          <p:spPr>
            <a:xfrm>
              <a:off x="2277720" y="2980800"/>
              <a:ext cx="4933800" cy="206064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2060640"/>
                <a:gd name="textAreaBottom" fmla="*/ 2061000 h 20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3"/>
            <p:cNvSpPr/>
            <p:nvPr/>
          </p:nvSpPr>
          <p:spPr>
            <a:xfrm rot="7200000">
              <a:off x="4386600" y="2031480"/>
              <a:ext cx="2060640" cy="493308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4933080"/>
                <a:gd name="textAreaBottom" fmla="*/ 4933440 h 49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4"/>
            <p:cNvSpPr/>
            <p:nvPr/>
          </p:nvSpPr>
          <p:spPr>
            <a:xfrm rot="14400000">
              <a:off x="3040920" y="2032200"/>
              <a:ext cx="2060640" cy="493380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4933800"/>
                <a:gd name="textAreaBottom" fmla="*/ 4934160 h 49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5"/>
            <p:cNvSpPr/>
            <p:nvPr/>
          </p:nvSpPr>
          <p:spPr>
            <a:xfrm>
              <a:off x="6096960" y="3357360"/>
              <a:ext cx="19800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расный, глиняный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ожженный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6"/>
            <p:cNvSpPr/>
            <p:nvPr/>
          </p:nvSpPr>
          <p:spPr>
            <a:xfrm>
              <a:off x="1412280" y="3358440"/>
              <a:ext cx="19800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ликатный кирпич,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деланный из извести и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варцевого песк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Ca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7"/>
            <p:cNvSpPr/>
            <p:nvPr/>
          </p:nvSpPr>
          <p:spPr>
            <a:xfrm>
              <a:off x="3759120" y="5052960"/>
              <a:ext cx="19800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ирпи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Picture 49" descr="pr-7m"/>
          <p:cNvPicPr/>
          <p:nvPr/>
        </p:nvPicPr>
        <p:blipFill>
          <a:blip r:embed="rId2"/>
          <a:stretch/>
        </p:blipFill>
        <p:spPr>
          <a:xfrm>
            <a:off x="3419640" y="407664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0" descr="pr-6m"/>
          <p:cNvPicPr/>
          <p:nvPr/>
        </p:nvPicPr>
        <p:blipFill>
          <a:blip r:embed="rId3"/>
          <a:stretch/>
        </p:blipFill>
        <p:spPr>
          <a:xfrm>
            <a:off x="4572000" y="4292640"/>
            <a:ext cx="11430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Производство цемент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Цемент» в переводе с латинского означает битый каме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тландцемент запатентован в Англии в 1824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ырьём служит известняк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глина, содержащая оксид кремния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6:47:56Z</dcterms:created>
  <dc:creator>/7uOH</dc:creator>
  <dc:description/>
  <dc:language>en-US</dc:language>
  <cp:lastModifiedBy>титова</cp:lastModifiedBy>
  <dcterms:modified xsi:type="dcterms:W3CDTF">2011-03-13T18:21:16Z</dcterms:modified>
  <cp:revision>21</cp:revision>
  <dc:subject/>
  <dc:title>Урок – выставка </dc:title>
</cp:coreProperties>
</file>