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464-2A22-4304-A6C5-E745C558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15EA-E14E-4DD1-BE7C-E559D149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8186-F12B-4C2E-B3FE-5DB66158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6F20-3476-4375-A1C3-E1E7450E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35FA-F448-432A-A5AE-0F4BE479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34E-0E05-4E59-BBC2-36CB42E6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252-2CAD-4D01-9676-731F2CA4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8E2F-C389-4CDD-914D-0673FC32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BA66-6694-47F1-9EF5-9C9B306A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590-2009-4F54-9E90-39D6B7FC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CA1C-27B3-41AC-9A13-B0A9D625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CD6-9F40-414E-B9FD-1703925A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0ED9-5E8F-4ACC-AF35-42EE3CC8B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930320" y="-144792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62640" y="476280"/>
            <a:ext cx="774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Как сделать, чтоб ученье в пользу шл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армония нужна - здесь нет сомнени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 умственной нагрузки - под кры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зических активных упражнений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.Ф.Лесгаф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2276640"/>
            <a:ext cx="748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Развитие интереса к занятиям физической культурой и спортом через сочетание игрового, соревновательного и современных информационных технолог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57340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ницын В.П. учитель физической культуры МОУ «Миас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Игровой мет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71280" y="1341360"/>
            <a:ext cx="7272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«сюжетная» орган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где деятельность играющих организуется в соответствии с образным или условным сюжетом (замыслом, планом игры), в котором предусматривается достижение определенной цели в условиях постоянного и в значительной мере случайного изменения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знообразие способов достижения це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возможность достижения игровой цели (выигрыша) обычно не связана с каким-либо одним способом действий. Почти всегда существуют различные пути выигрыша, допускаемые правилами игры, которые лимитируют лишь общую линию поведения, но не определяют жестко конкретны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омплексный характер дея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игра включает в себя различные двигательные действия – бег, прыжки, метания и т. 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860480" y="333360"/>
            <a:ext cx="7283520" cy="61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Широкая самостоятельность действий занимающих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ысокие требования к их инициативе, находчивости, ловкости – игровой метод предоставляет играющим простор для творческого решения двигательных задач, при этом постоянное и внезапное изменение ситуаций по ходу игры обязывает решать эти задачи в кратчайшие сроки и с полной мобилизацией двигательных спосо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 Моделирование напряженных межличностных и межгрупповых отношений, повышенная эмоциональность в большинстве игр хотя и условно, но с достаточно высокой степенью психической напряженности, воспроизводят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активные межличностные и межгрупповые отнош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которые строятся как по типу сотрудничества (между игроками одной команды), так и по типу соперничества (между противниками в парных и командных играх), когда сталкиваются противоположные интересы, возникают и разрешаются игровые конфликты. Это создает высокий эмоциональный накал и содействует яркому выявлению этических качеств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 Вероятное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рограммирование действ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граниченные возможности дозирования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489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Соревновательный мет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340000" y="1600200"/>
            <a:ext cx="588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у соревновательного метода составляет рационально организованный процесс состязания, причем спортсмен может соревноваться не только с другими, но и с самим собой, стремясь превысить свой спортивный результат или показатели в подготовительных упражн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-204840"/>
            <a:ext cx="9325080" cy="6993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4000" y="836640"/>
            <a:ext cx="55432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олотая осень (для учащихся 1-11классов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Школьный турнир по баскетболу (5-7, 8 -11 классов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Папа, мама, я – спортивная семья» (1-4 класс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Зимние забавы» (начальные класс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Олимпийские игры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Школьный турнир по пионерболу (5-7 класс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Школьный турнир по волейболу (8-11 класс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Рыцарский турнир» (мальчики 1-4 класс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Веселые старты» (начальные класс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Вместе веселей» (7-11 класс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деля физкультуры (1-11 класс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Зарница»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ишкольные традиционные меропри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236000" y="0"/>
            <a:ext cx="1501560" cy="1127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724360" y="620640"/>
            <a:ext cx="1643400" cy="1176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7093080" y="1484280"/>
            <a:ext cx="1492200" cy="1119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796000" y="1989000"/>
            <a:ext cx="1471680" cy="1103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7093080" y="2781360"/>
            <a:ext cx="1611360" cy="1208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5651640" y="3357720"/>
            <a:ext cx="165564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Информационные технологии на уроках физкуль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63640" y="1700280"/>
            <a:ext cx="656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с 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и по ТБ, для защиты рефер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тоговый контроль, те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эмоциональной разря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1844640"/>
            <a:ext cx="792360" cy="43200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603" h="21600">
                <a:moveTo>
                  <a:pt x="0" y="0"/>
                </a:moveTo>
                <a:lnTo>
                  <a:pt x="39603" y="0"/>
                </a:lnTo>
                <a:lnTo>
                  <a:pt x="39603" y="21600"/>
                </a:lnTo>
                <a:lnTo>
                  <a:pt x="0" y="21600"/>
                </a:lnTo>
                <a:close/>
              </a:path>
              <a:path fill="lightenLess" w="39603" h="21600">
                <a:moveTo>
                  <a:pt x="0" y="0"/>
                </a:moveTo>
                <a:lnTo>
                  <a:pt x="39603" y="0"/>
                </a:lnTo>
                <a:lnTo>
                  <a:pt x="38203" y="1400"/>
                </a:lnTo>
                <a:lnTo>
                  <a:pt x="1400" y="1400"/>
                </a:lnTo>
                <a:close/>
              </a:path>
              <a:path fill="darken" w="39603" h="21600">
                <a:moveTo>
                  <a:pt x="39603" y="0"/>
                </a:moveTo>
                <a:lnTo>
                  <a:pt x="39603" y="21600"/>
                </a:lnTo>
                <a:lnTo>
                  <a:pt x="38203" y="20200"/>
                </a:lnTo>
                <a:lnTo>
                  <a:pt x="38203" y="1400"/>
                </a:lnTo>
                <a:close/>
              </a:path>
              <a:path fill="darkenLess" w="39603" h="21600">
                <a:moveTo>
                  <a:pt x="39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3" y="20200"/>
                </a:lnTo>
                <a:close/>
              </a:path>
              <a:path fill="lighten" w="39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3" h="21600">
                <a:moveTo>
                  <a:pt x="12795" y="3794"/>
                </a:moveTo>
                <a:lnTo>
                  <a:pt x="26808" y="10800"/>
                </a:lnTo>
                <a:lnTo>
                  <a:pt x="1279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40720" y="342900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3794"/>
                </a:moveTo>
                <a:lnTo>
                  <a:pt x="26815" y="10800"/>
                </a:lnTo>
                <a:lnTo>
                  <a:pt x="1280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56720" y="414972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96360" y="2565360"/>
            <a:ext cx="863280" cy="432000"/>
          </a:xfrm>
          <a:custGeom>
            <a:avLst/>
            <a:gdLst>
              <a:gd name="textAreaLeft" fmla="*/ 27720 w 863280"/>
              <a:gd name="textAreaRight" fmla="*/ 835560 w 86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46" h="21600">
                <a:moveTo>
                  <a:pt x="0" y="0"/>
                </a:moveTo>
                <a:lnTo>
                  <a:pt x="43146" y="0"/>
                </a:lnTo>
                <a:lnTo>
                  <a:pt x="43146" y="21600"/>
                </a:lnTo>
                <a:lnTo>
                  <a:pt x="0" y="21600"/>
                </a:lnTo>
                <a:close/>
              </a:path>
              <a:path fill="lightenLess" w="43146" h="21600">
                <a:moveTo>
                  <a:pt x="0" y="0"/>
                </a:moveTo>
                <a:lnTo>
                  <a:pt x="43146" y="0"/>
                </a:lnTo>
                <a:lnTo>
                  <a:pt x="41746" y="1400"/>
                </a:lnTo>
                <a:lnTo>
                  <a:pt x="1400" y="1400"/>
                </a:lnTo>
                <a:close/>
              </a:path>
              <a:path fill="darken" w="43146" h="21600">
                <a:moveTo>
                  <a:pt x="43146" y="0"/>
                </a:moveTo>
                <a:lnTo>
                  <a:pt x="43146" y="21600"/>
                </a:lnTo>
                <a:lnTo>
                  <a:pt x="41746" y="20200"/>
                </a:lnTo>
                <a:lnTo>
                  <a:pt x="41746" y="1400"/>
                </a:lnTo>
                <a:close/>
              </a:path>
              <a:path fill="darkenLess" w="43146" h="21600">
                <a:moveTo>
                  <a:pt x="431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6" y="20200"/>
                </a:lnTo>
                <a:close/>
              </a:path>
              <a:path fill="lighten" w="431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6" h="21600">
                <a:moveTo>
                  <a:pt x="14567" y="3794"/>
                </a:moveTo>
                <a:lnTo>
                  <a:pt x="28580" y="10800"/>
                </a:lnTo>
                <a:lnTo>
                  <a:pt x="1456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56000" y="47628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Секции и спортивные круж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1413000"/>
            <a:ext cx="54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ей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ске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гкая атл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ая лап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ыжные го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 (1-4 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2581200" cy="1935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580000" y="1125360"/>
            <a:ext cx="2185920" cy="16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-204840"/>
            <a:ext cx="9325080" cy="6993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04000" y="4446720"/>
            <a:ext cx="2592360" cy="2411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012000" y="0"/>
            <a:ext cx="2939760" cy="2205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692360" y="1844640"/>
            <a:ext cx="2808360" cy="2703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572000" y="2133720"/>
            <a:ext cx="3675240" cy="2514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3132000" y="4581360"/>
            <a:ext cx="3273480" cy="2455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0" y="3933720"/>
            <a:ext cx="3097080" cy="2322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9280" y="333360"/>
            <a:ext cx="55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С 2006 года МСОШ №2 – лидер районной Спартакиады 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-204840"/>
            <a:ext cx="9325080" cy="699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1116000" y="0"/>
          <a:ext cx="7559640" cy="5810400"/>
        </p:xfrm>
        <a:graphic>
          <a:graphicData uri="http://schemas.openxmlformats.org/drawingml/2006/table">
            <a:tbl>
              <a:tblPr/>
              <a:tblGrid>
                <a:gridCol w="1889280"/>
                <a:gridCol w="1892160"/>
                <a:gridCol w="1889280"/>
                <a:gridCol w="188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спо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-2008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-2009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-2010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п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 – 1м, Д -2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 – 2м, Д -2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 – 1м, Д -1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енний кро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хм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скетб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 – м, Д -2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 – 3м, Д -4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ыжные го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2, 2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ейб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 – 2м, Д -1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 – 1м, Д -1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гкая атле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стафета, посвящ.9 м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тбо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слёт «Осенняя полян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ль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-204840"/>
            <a:ext cx="9325080" cy="6993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47640" y="556560"/>
            <a:ext cx="69850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бенок, может быть, впервые задумывается над своим отношением к тому, что ему «хочется», и к тому, что «Надо», «надо для здоровья», а, следовательно, для себя. А какое значение имеет открытие в себе чувства победы над собой?! Суметь заставить себя сделать чуть-чуть больше, чем ты можешь, преодолеть свою слабость - этому учит только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физкультур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930320" y="-144792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16720" y="2997360"/>
            <a:ext cx="237636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3068640"/>
            <a:ext cx="19814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1844640"/>
            <a:ext cx="727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19640" y="3141720"/>
            <a:ext cx="2304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4005360"/>
            <a:ext cx="705816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5640" y="5734080"/>
            <a:ext cx="532908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476280"/>
            <a:ext cx="532908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59500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Двигательный дефиц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692280"/>
            <a:ext cx="518508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ительное статическое полож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за столом, у телевизора, за компьютером и т.д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1916280"/>
            <a:ext cx="583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ижение силы и работо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келетной мускул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3141720"/>
            <a:ext cx="23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кривление оса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51640" y="2997360"/>
            <a:ext cx="23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кривление позвоноч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328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скостоп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422100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ержка возрастного развития быстроты, ловкости, координации, выносливости, гибкости и с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4208760" y="1411920"/>
            <a:ext cx="506520" cy="358920"/>
          </a:xfrm>
          <a:prstGeom prst="rightArrow">
            <a:avLst>
              <a:gd name="adj1" fmla="val 50000"/>
              <a:gd name="adj2" fmla="val 3528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2446920" y="3177360"/>
            <a:ext cx="1297080" cy="358560"/>
          </a:xfrm>
          <a:prstGeom prst="rightArrow">
            <a:avLst>
              <a:gd name="adj1" fmla="val 50000"/>
              <a:gd name="adj2" fmla="val 9043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5542560" y="3177360"/>
            <a:ext cx="1297080" cy="358560"/>
          </a:xfrm>
          <a:prstGeom prst="rightArrow">
            <a:avLst>
              <a:gd name="adj1" fmla="val 50000"/>
              <a:gd name="adj2" fmla="val 9043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535280" y="2744640"/>
            <a:ext cx="431640" cy="358920"/>
          </a:xfrm>
          <a:prstGeom prst="rightArrow">
            <a:avLst>
              <a:gd name="adj1" fmla="val 50000"/>
              <a:gd name="adj2" fmla="val 3006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1871280" y="2673360"/>
            <a:ext cx="431640" cy="358920"/>
          </a:xfrm>
          <a:prstGeom prst="rightArrow">
            <a:avLst>
              <a:gd name="adj1" fmla="val 50000"/>
              <a:gd name="adj2" fmla="val 3006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7343640" y="267336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4642200" y="5158440"/>
            <a:ext cx="504720" cy="646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5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59280" y="476280"/>
            <a:ext cx="4032000" cy="1224000"/>
          </a:xfrm>
          <a:prstGeom prst="rect">
            <a:avLst/>
          </a:prstGeom>
          <a:solidFill>
            <a:srgbClr val="aab1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76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ипокине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1916280"/>
            <a:ext cx="792360" cy="3097080"/>
          </a:xfrm>
          <a:custGeom>
            <a:avLst/>
            <a:gdLst>
              <a:gd name="textAreaLeft" fmla="*/ 106200 w 792360"/>
              <a:gd name="textAreaRight" fmla="*/ 686160 w 792360"/>
              <a:gd name="textAreaTop" fmla="*/ 541800 h 3097080"/>
              <a:gd name="textAreaBottom" fmla="*/ 2245320 h 30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80360" y="1773360"/>
            <a:ext cx="720720" cy="3240000"/>
          </a:xfrm>
          <a:custGeom>
            <a:avLst/>
            <a:gdLst>
              <a:gd name="textAreaLeft" fmla="*/ 96480 w 720720"/>
              <a:gd name="textAreaRight" fmla="*/ 624240 w 720720"/>
              <a:gd name="textAreaTop" fmla="*/ 567000 h 3240000"/>
              <a:gd name="textAreaBottom" fmla="*/ 234900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2133720"/>
            <a:ext cx="3671640" cy="792000"/>
          </a:xfrm>
          <a:prstGeom prst="rect">
            <a:avLst/>
          </a:prstGeom>
          <a:solidFill>
            <a:srgbClr val="7ec1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19640" y="3429000"/>
            <a:ext cx="3671640" cy="792000"/>
          </a:xfrm>
          <a:prstGeom prst="rect">
            <a:avLst/>
          </a:prstGeom>
          <a:solidFill>
            <a:srgbClr val="7ec1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4653000"/>
            <a:ext cx="3671640" cy="792000"/>
          </a:xfrm>
          <a:prstGeom prst="rect">
            <a:avLst/>
          </a:prstGeom>
          <a:solidFill>
            <a:srgbClr val="7ec1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35280" y="2205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менные наруш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ожир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364500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астые трав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95640" y="4724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болеваемость О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619280" y="404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1916280"/>
            <a:ext cx="100836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1989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и и задачи деятельности учител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о физической культур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03640" y="3141720"/>
            <a:ext cx="5472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действие всестороннему развитию лич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питание активно развито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ыми задачами в школе по физическому воспитанию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храна и укрепление здоровья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жизненно необходимых умений и навыков ребенка в соответствии с его индивидуальными особенностями, развитие физических каче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итание потребности и умения самостоятельно заниматься физическими упражнениями, сознательно применять их в целях отдыха, тренировки и укрепления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обретение необходимых знаний в области физической культуры и спор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йствие воспитанию нравственных и волевых качеств, развитию психических процессов и свойств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56000" y="476280"/>
            <a:ext cx="63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лизация гуманистического подх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роках физ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2276640"/>
            <a:ext cx="4969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довлетворен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необходимый компонент отношения школьников к урокам физическ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7380360" y="242100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55" h="21600">
                <a:moveTo>
                  <a:pt x="11521" y="3794"/>
                </a:moveTo>
                <a:lnTo>
                  <a:pt x="25534" y="10800"/>
                </a:lnTo>
                <a:lnTo>
                  <a:pt x="11521" y="17806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3860640"/>
            <a:ext cx="511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физкультурно-спортивных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7451640" y="4005360"/>
            <a:ext cx="865440" cy="503280"/>
          </a:xfrm>
          <a:custGeom>
            <a:avLst/>
            <a:gdLst>
              <a:gd name="textAreaLeft" fmla="*/ 32400 w 865440"/>
              <a:gd name="textAreaRight" fmla="*/ 833040 w 865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32" h="21600">
                <a:moveTo>
                  <a:pt x="0" y="0"/>
                </a:moveTo>
                <a:lnTo>
                  <a:pt x="37132" y="0"/>
                </a:lnTo>
                <a:lnTo>
                  <a:pt x="37132" y="21600"/>
                </a:lnTo>
                <a:lnTo>
                  <a:pt x="0" y="21600"/>
                </a:lnTo>
                <a:close/>
              </a:path>
              <a:path fill="lightenLess" w="37132" h="21600">
                <a:moveTo>
                  <a:pt x="0" y="0"/>
                </a:moveTo>
                <a:lnTo>
                  <a:pt x="37132" y="0"/>
                </a:lnTo>
                <a:lnTo>
                  <a:pt x="35732" y="1400"/>
                </a:lnTo>
                <a:lnTo>
                  <a:pt x="1400" y="1400"/>
                </a:lnTo>
                <a:close/>
              </a:path>
              <a:path fill="darken" w="37132" h="21600">
                <a:moveTo>
                  <a:pt x="37132" y="0"/>
                </a:moveTo>
                <a:lnTo>
                  <a:pt x="37132" y="21600"/>
                </a:lnTo>
                <a:lnTo>
                  <a:pt x="35732" y="20200"/>
                </a:lnTo>
                <a:lnTo>
                  <a:pt x="35732" y="1400"/>
                </a:lnTo>
                <a:close/>
              </a:path>
              <a:path fill="darkenLess" w="37132" h="21600">
                <a:moveTo>
                  <a:pt x="371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32" y="20200"/>
                </a:lnTo>
                <a:close/>
              </a:path>
              <a:path fill="lighten" w="371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132" h="21600">
                <a:moveTo>
                  <a:pt x="11560" y="3794"/>
                </a:moveTo>
                <a:lnTo>
                  <a:pt x="25573" y="10800"/>
                </a:lnTo>
                <a:lnTo>
                  <a:pt x="11560" y="17806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930320" y="-144792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404640"/>
            <a:ext cx="44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кета для исследования уровня удовлетворенности учащихся уроками физическ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0" y="765000"/>
          <a:ext cx="3657600" cy="2649600"/>
        </p:xfrm>
        <a:graphic>
          <a:graphicData uri="http://schemas.openxmlformats.org/drawingml/2006/table">
            <a:tbl>
              <a:tblPr/>
              <a:tblGrid>
                <a:gridCol w="987480"/>
                <a:gridCol w="2670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довол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ее доволен, чем не довол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на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ее не доволен, чем  довол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довол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сем не доволе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6035760" cy="2876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58920" y="32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07-2008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8028000" y="5805360"/>
            <a:ext cx="720720" cy="7192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3" h="21600">
                <a:moveTo>
                  <a:pt x="10822" y="3837"/>
                </a:moveTo>
                <a:lnTo>
                  <a:pt x="13398" y="6448"/>
                </a:lnTo>
                <a:lnTo>
                  <a:pt x="13398" y="4707"/>
                </a:lnTo>
                <a:lnTo>
                  <a:pt x="15173" y="4707"/>
                </a:lnTo>
                <a:lnTo>
                  <a:pt x="15173" y="8224"/>
                </a:lnTo>
                <a:lnTo>
                  <a:pt x="17785" y="10800"/>
                </a:lnTo>
                <a:lnTo>
                  <a:pt x="16131" y="10800"/>
                </a:lnTo>
                <a:lnTo>
                  <a:pt x="16131" y="17989"/>
                </a:lnTo>
                <a:lnTo>
                  <a:pt x="5512" y="17989"/>
                </a:lnTo>
                <a:lnTo>
                  <a:pt x="5512" y="10800"/>
                </a:lnTo>
                <a:lnTo>
                  <a:pt x="3859" y="10800"/>
                </a:lnTo>
                <a:close/>
              </a:path>
              <a:path fill="darkenLess" w="21643" h="21600">
                <a:moveTo>
                  <a:pt x="13398" y="6448"/>
                </a:moveTo>
                <a:lnTo>
                  <a:pt x="13398" y="4707"/>
                </a:lnTo>
                <a:lnTo>
                  <a:pt x="15173" y="4707"/>
                </a:lnTo>
                <a:lnTo>
                  <a:pt x="15173" y="8224"/>
                </a:lnTo>
                <a:close/>
              </a:path>
              <a:path fill="darkenLess" w="21643" h="21600">
                <a:moveTo>
                  <a:pt x="9899" y="14299"/>
                </a:moveTo>
                <a:lnTo>
                  <a:pt x="11744" y="14299"/>
                </a:lnTo>
                <a:lnTo>
                  <a:pt x="11744" y="17989"/>
                </a:lnTo>
                <a:lnTo>
                  <a:pt x="16131" y="17989"/>
                </a:lnTo>
                <a:lnTo>
                  <a:pt x="16131" y="10800"/>
                </a:lnTo>
                <a:lnTo>
                  <a:pt x="5512" y="10800"/>
                </a:lnTo>
                <a:lnTo>
                  <a:pt x="5512" y="17989"/>
                </a:lnTo>
                <a:lnTo>
                  <a:pt x="9899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1930320" y="-1447920"/>
            <a:ext cx="13004640" cy="975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39640" y="117360"/>
          <a:ext cx="6096240" cy="67867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68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кета мотив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Тебе нравится на уроках физкультуры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равится-2б.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е очень -1б.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е нравится – 0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Если у тебя  сегодня первый урок – физкультура, то утром, когда просыпаешься, , ты всегда с радостью идешь в школу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ду с радостью -2б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бывает по-разному- 1б.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чаще нет -0б.         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Если бы учитель сказал, что завтра можешь не приходить на уроки физкультуры, ты согласился бы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все равно пришел бы на урок -2б.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е знаю-1б.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е пошел бы на урок -0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Тебе нравится, когда у вас отменяют уроки физкультуры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е нравится – 2б.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бывает по- разному – 1б.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равится – 0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Ты часто рассказываешь родителям про уроки физкультуры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часто -2б.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едко -1б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е рассказываю -0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Ты хотел бы, чтобы у тебя был другой учитель по физкультуре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е, не хотел бы -2б.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мне все равно – 1б.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хотел бы -0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У тебя в классе много друзей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много -2б.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мало -1б.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ет друзей -0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Тебе нравятся твои одноклассники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равятся -2 б.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е очень -1б.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е нравятся – 0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211640" y="2637000"/>
            <a:ext cx="4686120" cy="3870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716360" y="5589720"/>
            <a:ext cx="3888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59280" y="5661000"/>
            <a:ext cx="35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 г                    2008 г                2009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2205000"/>
            <a:ext cx="42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ровень мотивации к урокам физической культуры учащихся МОУ СОШ №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1930320" y="-144792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68360" y="1413000"/>
            <a:ext cx="813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Формы и методы работы на уроках физической культуры и во внеклассн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4594320"/>
            <a:ext cx="849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1:46:25Z</dcterms:created>
  <dc:creator>Admin</dc:creator>
  <dc:description/>
  <dc:language>en-US</dc:language>
  <cp:lastModifiedBy>SamLab.ws</cp:lastModifiedBy>
  <dcterms:modified xsi:type="dcterms:W3CDTF">2003-02-03T21:12:55Z</dcterms:modified>
  <cp:revision>16</cp:revision>
  <dc:subject/>
  <dc:title>Слайд 1</dc:title>
</cp:coreProperties>
</file>