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1.jpeg" ContentType="image/jpeg"/>
  <Override PartName="/ppt/media/image20.wmf" ContentType="image/x-wmf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6.wmf" ContentType="image/x-wmf"/>
  <Override PartName="/ppt/media/image19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DD0-D6F4-41BB-A379-BFF982B0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F3B-5969-48BE-9A40-C3DACE22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6FA-F062-46BA-A032-79FF8A25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2AA-56E1-4D60-8B8C-0DBE9618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B07-933B-4348-8FCA-6F2FCB9D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8EB-B93D-4299-9313-B0C3B999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18B2-5E7B-4589-9E0B-1A026508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ED3-739D-4B2B-8A79-5D5B64BE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316-17A0-4C75-9C46-50929915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03D-DD47-4CA2-B787-7A66CFF0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78B-7F0D-4CE9-AEED-7621C4B3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6FF-DF0A-4B57-B425-2DD17786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DB19-1D95-4F95-953C-907925E44A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58920"/>
            <a:ext cx="582912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mbria"/>
              </a:rPr>
              <a:t>          </a:t>
            </a:r>
            <a:r>
              <a:rPr b="1" i="1" lang="ru-RU" sz="4400" spc="-1" strike="noStrike">
                <a:solidFill>
                  <a:srgbClr val="c00000"/>
                </a:solidFill>
                <a:latin typeface="Cambria"/>
              </a:rPr>
              <a:t>Здравствуй,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Cambria"/>
              </a:rPr>
              <a:t>Лето долгожданное!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3" name="Рисунок 4" descr="IMG_9411.JPG"/>
          <p:cNvPicPr/>
          <p:nvPr/>
        </p:nvPicPr>
        <p:blipFill>
          <a:blip r:embed="rId2"/>
          <a:stretch/>
        </p:blipFill>
        <p:spPr>
          <a:xfrm>
            <a:off x="1557360" y="4500720"/>
            <a:ext cx="39592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325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52280" y="468000"/>
            <a:ext cx="504036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                       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А что же делать, когда на улице дождь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                          </a:t>
            </a:r>
            <a:r>
              <a:rPr b="1" i="1" lang="en-US" sz="1600" spc="-1" strike="noStrike">
                <a:solidFill>
                  <a:srgbClr val="c00000"/>
                </a:solidFill>
                <a:latin typeface="Bookman Old Style"/>
              </a:rPr>
              <a:t>( 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такое ведь бывает даже летом</a:t>
            </a:r>
            <a:r>
              <a:rPr b="1" i="1" lang="en-US" sz="1600" spc="-1" strike="noStrike">
                <a:solidFill>
                  <a:srgbClr val="c00000"/>
                </a:solidFill>
                <a:latin typeface="Bookman Old Style"/>
              </a:rPr>
              <a:t>)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Bookman Old Style"/>
              </a:rPr>
              <a:t>?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Предлагаем вам, уважаемые родители, воспользоваться такими нехитрыми советам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Девочкам можно предложит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 поиграть в </a:t>
            </a:r>
            <a:r>
              <a:rPr b="1" i="1" lang="en-US" sz="1600" spc="-1" strike="noStrike">
                <a:solidFill>
                  <a:srgbClr val="c00000"/>
                </a:solidFill>
                <a:latin typeface="Bookman Old Style"/>
              </a:rPr>
              <a:t>“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Дом мод</a:t>
            </a:r>
            <a:r>
              <a:rPr b="1" i="1" lang="en-US" sz="1600" spc="-1" strike="noStrike">
                <a:solidFill>
                  <a:srgbClr val="c00000"/>
                </a:solidFill>
                <a:latin typeface="Bookman Old Style"/>
              </a:rPr>
              <a:t>”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.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Только для этого маме придется поделиться своим гардеробом. Найдите несколько стареньких платьев, юбок, шарфиков, достаньте свои шляпки, бусы, туфли на каблуке. Есть парик – пожертвуйте им на время. Пусть ваша девочка создает разные образы!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Чтобы  поощрять инициативу ребенка, рекомендуем каждый новый образ маленькой модницы фотографировать и создавать портфолио. И тогда ваша дочка сможет похвастаться своими достижениями в области моды перед папой или родственниками!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0" name="Рисунок 7" descr="мама.WMF"/>
          <p:cNvPicPr/>
          <p:nvPr/>
        </p:nvPicPr>
        <p:blipFill>
          <a:blip r:embed="rId2"/>
          <a:stretch/>
        </p:blipFill>
        <p:spPr>
          <a:xfrm>
            <a:off x="2565360" y="637236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325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52280" y="1115640"/>
            <a:ext cx="5040360" cy="575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               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Родителям мальчиков мы также предлагаем сделать фотоальбом.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Предложите ему  мастерить из конструктора что-нибудь новое   </a:t>
            </a:r>
            <a:r>
              <a:rPr b="1" i="1" lang="en-US" sz="1600" spc="-1" strike="noStrike">
                <a:solidFill>
                  <a:srgbClr val="002060"/>
                </a:solidFill>
                <a:latin typeface="Bookman Old Style"/>
              </a:rPr>
              <a:t>(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машинки, самолеты, замки и т.п.</a:t>
            </a:r>
            <a:r>
              <a:rPr b="1" i="1" lang="en-US" sz="1600" spc="-1" strike="noStrike">
                <a:solidFill>
                  <a:srgbClr val="002060"/>
                </a:solidFill>
                <a:latin typeface="Bookman Old Style"/>
              </a:rPr>
              <a:t>)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, а сами фотографируйте все эти произведения искусства.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Пусть это будет </a:t>
            </a:r>
            <a:r>
              <a:rPr b="1" i="1" lang="en-US" sz="1600" spc="-1" strike="noStrike">
                <a:solidFill>
                  <a:srgbClr val="002060"/>
                </a:solidFill>
                <a:latin typeface="Bookman Old Style"/>
              </a:rPr>
              <a:t>“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Коллекцией изделий из конструктора</a:t>
            </a:r>
            <a:r>
              <a:rPr b="1" i="1" lang="en-US" sz="1600" spc="-1" strike="noStrike">
                <a:solidFill>
                  <a:srgbClr val="002060"/>
                </a:solidFill>
                <a:latin typeface="Bookman Old Style"/>
              </a:rPr>
              <a:t>”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!</a:t>
            </a:r>
            <a:br>
              <a:rPr sz="1600"/>
            </a:br>
            <a:br>
              <a:rPr sz="1600"/>
            </a:br>
            <a:r>
              <a:rPr b="1" i="1" lang="ru-RU" sz="1800" spc="-1" strike="noStrike">
                <a:solidFill>
                  <a:srgbClr val="c00000"/>
                </a:solidFill>
                <a:latin typeface="Cambria"/>
              </a:rPr>
              <a:t>Надеемся увидеть фотографии ваших детей , когда вы придете в сентябре в детский сад!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Кроме игр свободное время ребенка можно занять специальными поручениями</a:t>
            </a:r>
            <a:r>
              <a:rPr b="1" i="1" lang="en-US" sz="1600" spc="-1" strike="noStrike">
                <a:solidFill>
                  <a:srgbClr val="002060"/>
                </a:solidFill>
                <a:latin typeface="Bookman Old Style"/>
              </a:rPr>
              <a:t>: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например, попросить перебрать крупу, чтобы приготовить кашу папе на ужин. Ребенок будет очень стараться и увлечется этим занятием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Предложить разгадать специальные детские кроссворды, порисовать, собрать пазлы, полепить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3" name="Рисунок 5" descr="1.WMF"/>
          <p:cNvPicPr/>
          <p:nvPr/>
        </p:nvPicPr>
        <p:blipFill>
          <a:blip r:embed="rId2"/>
          <a:stretch/>
        </p:blipFill>
        <p:spPr>
          <a:xfrm>
            <a:off x="2637000" y="6948360"/>
            <a:ext cx="185076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6640" y="755640"/>
            <a:ext cx="482436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mbria"/>
              </a:rPr>
              <a:t>   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Cambria"/>
              </a:rPr>
              <a:t>Советы по питанию в летнее время.</a:t>
            </a:r>
            <a:br>
              <a:rPr sz="2400"/>
            </a:br>
            <a:br>
              <a:rPr sz="20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Летом процессы роста у детей протекают наиболее интенсивно,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в этой связи повышается их потребность в белке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Кроме того, в жаркие дни организм ребенка теряет с потом значительное количество минеральных веществ и витаминов – для покрытия этих затрат требуется увеличить калорийность детского рациона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С другой стороны в жаркие дни у детей нередко ухудшается аппетит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6" name="Рисунок 4" descr="DSCN0232.JPG"/>
          <p:cNvPicPr/>
          <p:nvPr/>
        </p:nvPicPr>
        <p:blipFill>
          <a:blip r:embed="rId2"/>
          <a:stretch/>
        </p:blipFill>
        <p:spPr>
          <a:xfrm>
            <a:off x="2492280" y="5651640"/>
            <a:ext cx="33861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6280" y="826920"/>
            <a:ext cx="504036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Cambria"/>
              </a:rPr>
              <a:t>Как же правильно организовать питание</a:t>
            </a:r>
            <a:r>
              <a:rPr b="1" i="1" lang="en-US" sz="2000" spc="-1" strike="noStrike">
                <a:solidFill>
                  <a:srgbClr val="c00000"/>
                </a:solidFill>
                <a:latin typeface="Bookman Old Style"/>
              </a:rPr>
              <a:t>? </a:t>
            </a:r>
            <a:br>
              <a:rPr sz="2000"/>
            </a:b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Во-первых,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чтобы повысить калорийность пищи,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необходимо увеличить количество молока и молочных продуктов,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в основном за счет кисломолочных напитков и творог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9" name="Рисунок 5" descr="DSCN0239.JPG"/>
          <p:cNvPicPr/>
          <p:nvPr/>
        </p:nvPicPr>
        <p:blipFill>
          <a:blip r:embed="rId2"/>
          <a:stretch/>
        </p:blipFill>
        <p:spPr>
          <a:xfrm>
            <a:off x="2205000" y="4356000"/>
            <a:ext cx="244800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81000" y="971640"/>
            <a:ext cx="540072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              </a:t>
            </a:r>
            <a:br>
              <a:rPr sz="14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                 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Во-вторых,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в жаркие месяцы </a:t>
            </a:r>
            <a:r>
              <a:rPr b="1" i="1" lang="ru-RU" sz="1600" spc="-1" strike="noStrike" u="sng">
                <a:solidFill>
                  <a:srgbClr val="002060"/>
                </a:solidFill>
                <a:uFillTx/>
                <a:latin typeface="Cambria"/>
              </a:rPr>
              <a:t>рекомендуется изменить режим питания 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таким образом, чтобы обед и полдник поменялись местами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Дело в том, что в особенно жаркое полуденное время, когда аппетит у ребенка снижен, ему предлагается более легкое питание </a:t>
            </a:r>
            <a:r>
              <a:rPr b="1" i="1" lang="en-US" sz="1600" spc="-1" strike="noStrike">
                <a:solidFill>
                  <a:srgbClr val="002060"/>
                </a:solidFill>
                <a:latin typeface="Bookman Old Style"/>
              </a:rPr>
              <a:t>: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кисломолочный напиток, булочка и фрукты. Он легко справляется с такой пищей, после чего его укладывают на дневной сон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Отдохнувший и проголодавшийся после легкого </a:t>
            </a:r>
            <a:r>
              <a:rPr b="1" i="1" lang="en-US" sz="1600" spc="-1" strike="noStrike">
                <a:solidFill>
                  <a:srgbClr val="002060"/>
                </a:solidFill>
                <a:latin typeface="Bookman Old Style"/>
              </a:rPr>
              <a:t>“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перекуса</a:t>
            </a:r>
            <a:r>
              <a:rPr b="1" i="1" lang="en-US" sz="1600" spc="-1" strike="noStrike">
                <a:solidFill>
                  <a:srgbClr val="002060"/>
                </a:solidFill>
                <a:latin typeface="Bookman Old Style"/>
              </a:rPr>
              <a:t>”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, ребенок с удовольствием съест весь обед!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2" name="Рисунок 7" descr="SAM_0450.JPG"/>
          <p:cNvPicPr/>
          <p:nvPr/>
        </p:nvPicPr>
        <p:blipFill>
          <a:blip r:embed="rId2"/>
          <a:stretch/>
        </p:blipFill>
        <p:spPr>
          <a:xfrm>
            <a:off x="1557360" y="5219640"/>
            <a:ext cx="32623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81000" y="1547640"/>
            <a:ext cx="536256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                    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Употребление сырых соков – это еще один шаг к здоровью.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Это существенный источник витаминов, минеральных солей  и многочисленных полезных микроэлементов.</a:t>
            </a:r>
            <a:br>
              <a:rPr sz="1600"/>
            </a:br>
            <a:br>
              <a:rPr sz="1600"/>
            </a:br>
            <a:r>
              <a:rPr b="1" i="1" lang="ru-RU" sz="2000" spc="-1" strike="noStrike">
                <a:solidFill>
                  <a:srgbClr val="c00000"/>
                </a:solidFill>
                <a:latin typeface="Cambria"/>
              </a:rPr>
              <a:t>Уважаемые мамы и папы, запомните</a:t>
            </a:r>
            <a:r>
              <a:rPr b="1" i="1" lang="en-US" sz="2000" spc="-1" strike="noStrike">
                <a:solidFill>
                  <a:srgbClr val="c00000"/>
                </a:solidFill>
                <a:latin typeface="Bookman Old Style"/>
              </a:rPr>
              <a:t>:</a:t>
            </a:r>
            <a:br>
              <a:rPr sz="2000"/>
            </a:br>
            <a:br>
              <a:rPr sz="1600"/>
            </a:br>
            <a:r>
              <a:rPr b="1" i="1" lang="ru-RU" sz="1600" spc="-1" strike="noStrike" u="sng">
                <a:solidFill>
                  <a:srgbClr val="002060"/>
                </a:solidFill>
                <a:uFillTx/>
                <a:latin typeface="Cambria"/>
              </a:rPr>
              <a:t>Морковный сок </a:t>
            </a:r>
            <a:r>
              <a:rPr b="1" i="1" lang="en-US" sz="1600" spc="-1" strike="noStrike">
                <a:solidFill>
                  <a:srgbClr val="002060"/>
                </a:solidFill>
                <a:latin typeface="Bookman Old Style"/>
              </a:rPr>
              <a:t>: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способствует нормализации обмена веществ, стимулирует физическое и умственное развитие.</a:t>
            </a:r>
            <a:br>
              <a:rPr sz="1600"/>
            </a:br>
            <a:r>
              <a:rPr b="1" i="1" lang="ru-RU" sz="1600" spc="-1" strike="noStrike" u="sng">
                <a:solidFill>
                  <a:srgbClr val="002060"/>
                </a:solidFill>
                <a:uFillTx/>
                <a:latin typeface="Cambria"/>
              </a:rPr>
              <a:t>Свекольный сок</a:t>
            </a:r>
            <a:r>
              <a:rPr b="1" i="1" lang="en-US" sz="1600" spc="-1" strike="noStrike" u="sng">
                <a:solidFill>
                  <a:srgbClr val="002060"/>
                </a:solidFill>
                <a:uFillTx/>
                <a:latin typeface="Bookman Old Style"/>
              </a:rPr>
              <a:t>: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Нормализует нервно-мышечное возбуждение при стрессах, расширяет кровеносные сосуды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5" name="Рисунок 4" descr="сок.WMF"/>
          <p:cNvPicPr/>
          <p:nvPr/>
        </p:nvPicPr>
        <p:blipFill>
          <a:blip r:embed="rId2"/>
          <a:stretch/>
        </p:blipFill>
        <p:spPr>
          <a:xfrm>
            <a:off x="2421000" y="5435640"/>
            <a:ext cx="2376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1000" y="1115640"/>
            <a:ext cx="5362560" cy="67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1600" spc="-1" strike="noStrike" u="sng">
                <a:solidFill>
                  <a:srgbClr val="002060"/>
                </a:solidFill>
                <a:uFillTx/>
                <a:latin typeface="Cambria"/>
              </a:rPr>
              <a:t>Томатный сок</a:t>
            </a:r>
            <a:r>
              <a:rPr b="1" i="1" lang="en-US" sz="1600" spc="-1" strike="noStrike" u="sng">
                <a:solidFill>
                  <a:srgbClr val="002060"/>
                </a:solidFill>
                <a:uFillTx/>
                <a:latin typeface="Bookman Old Style"/>
              </a:rPr>
              <a:t>: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Нормализует работу желудка и кишечника, улучшает деятельность сердца, содержит много витамина С.</a:t>
            </a:r>
            <a:br>
              <a:rPr sz="1600"/>
            </a:br>
            <a:r>
              <a:rPr b="1" i="1" lang="ru-RU" sz="1600" spc="-1" strike="noStrike" u="sng">
                <a:solidFill>
                  <a:srgbClr val="002060"/>
                </a:solidFill>
                <a:uFillTx/>
                <a:latin typeface="Cambria"/>
              </a:rPr>
              <a:t>Банановый сок</a:t>
            </a:r>
            <a:r>
              <a:rPr b="1" i="1" lang="en-US" sz="1600" spc="-1" strike="noStrike" u="sng">
                <a:solidFill>
                  <a:srgbClr val="002060"/>
                </a:solidFill>
                <a:uFillTx/>
                <a:latin typeface="Bookman Old Style"/>
              </a:rPr>
              <a:t>: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Много витамина С.</a:t>
            </a:r>
            <a:br>
              <a:rPr sz="1600"/>
            </a:br>
            <a:r>
              <a:rPr b="1" i="1" lang="ru-RU" sz="1600" spc="-1" strike="noStrike" u="sng">
                <a:solidFill>
                  <a:srgbClr val="002060"/>
                </a:solidFill>
                <a:uFillTx/>
                <a:latin typeface="Cambria"/>
              </a:rPr>
              <a:t>Яблочный сок</a:t>
            </a:r>
            <a:r>
              <a:rPr b="1" i="1" lang="en-US" sz="1600" spc="-1" strike="noStrike" u="sng">
                <a:solidFill>
                  <a:srgbClr val="002060"/>
                </a:solidFill>
                <a:uFillTx/>
                <a:latin typeface="Bookman Old Style"/>
              </a:rPr>
              <a:t>: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Укрепляет сердечно-сосудистую систему.</a:t>
            </a:r>
            <a:br>
              <a:rPr sz="1600"/>
            </a:br>
            <a:r>
              <a:rPr b="1" i="1" lang="ru-RU" sz="1600" spc="-1" strike="noStrike" u="sng">
                <a:solidFill>
                  <a:srgbClr val="002060"/>
                </a:solidFill>
                <a:uFillTx/>
                <a:latin typeface="Cambria"/>
              </a:rPr>
              <a:t>Виноградный сок</a:t>
            </a:r>
            <a:r>
              <a:rPr b="1" i="1" lang="en-US" sz="1600" spc="-1" strike="noStrike" u="sng">
                <a:solidFill>
                  <a:srgbClr val="002060"/>
                </a:solidFill>
                <a:uFillTx/>
                <a:latin typeface="Bookman Old Style"/>
              </a:rPr>
              <a:t>:</a:t>
            </a:r>
            <a:r>
              <a:rPr b="1" i="1" lang="ru-RU" sz="1600" spc="-1" strike="noStrike" u="sng">
                <a:solidFill>
                  <a:srgbClr val="002060"/>
                </a:solidFill>
                <a:uFillTx/>
                <a:latin typeface="Cambria"/>
              </a:rPr>
              <a:t>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Обладает бактерицидным, мочегонным, слабительным действием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8" name="Рисунок 5" descr="IMG_9108.JPG"/>
          <p:cNvPicPr/>
          <p:nvPr/>
        </p:nvPicPr>
        <p:blipFill>
          <a:blip r:embed="rId2"/>
          <a:stretch/>
        </p:blipFill>
        <p:spPr>
          <a:xfrm>
            <a:off x="2133720" y="4643280"/>
            <a:ext cx="30956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826560"/>
            <a:ext cx="58291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mbria"/>
              </a:rPr>
              <a:t>Опять смеется лето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mbria"/>
              </a:rPr>
              <a:t>В открытое окно,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Cambria"/>
              </a:rPr>
              <a:t>И солнышка и света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Cambria"/>
              </a:rPr>
              <a:t>Полным, полным-полно!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mbria"/>
              </a:rPr>
              <a:t>Опять трусы и майки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mbria"/>
              </a:rPr>
              <a:t>Лежат на берегу.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Cambria"/>
              </a:rPr>
              <a:t>И нежатся лужайки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Cambria"/>
              </a:rPr>
              <a:t>В ромашковом снегу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1" name="Рисунок 4" descr="IMG_9429.JPG"/>
          <p:cNvPicPr/>
          <p:nvPr/>
        </p:nvPicPr>
        <p:blipFill>
          <a:blip r:embed="rId2"/>
          <a:stretch/>
        </p:blipFill>
        <p:spPr>
          <a:xfrm>
            <a:off x="2276640" y="4500720"/>
            <a:ext cx="24476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25000" y="971640"/>
            <a:ext cx="52182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400" spc="-1" strike="noStrike">
                <a:solidFill>
                  <a:srgbClr val="002060"/>
                </a:solidFill>
                <a:latin typeface="Cambria"/>
              </a:rPr>
              <a:t>Летом мы с удовольствием отдыхаем  у водоемов, плаваем, катаемся на лодках и занимаемся различными видами водного спорта.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c00000"/>
                </a:solidFill>
                <a:latin typeface="Cambria"/>
              </a:rPr>
              <a:t>Но отдых для родителей с детьми на природе – это не всегда отдых!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2060"/>
                </a:solidFill>
                <a:latin typeface="Cambria"/>
              </a:rPr>
              <a:t>Находясь вблизи водоемов, не выпускайте из поля зрения своего ребенка. Перед тем как разрешить детям купаться, родители должны проверить место купания. Не является ли дно илистым, нет ли там ям.</a:t>
            </a:r>
            <a:br>
              <a:rPr sz="1400"/>
            </a:br>
            <a:r>
              <a:rPr b="1" i="1" lang="ru-RU" sz="1400" spc="-1" strike="noStrike">
                <a:solidFill>
                  <a:srgbClr val="002060"/>
                </a:solidFill>
                <a:latin typeface="Cambria"/>
              </a:rPr>
              <a:t>Купальный сезон следует начинать, когда температура воды достигла + 18 С.</a:t>
            </a:r>
            <a:br>
              <a:rPr sz="1400"/>
            </a:br>
            <a:br>
              <a:rPr sz="14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4" name="Picture 2" descr="C:\Users\Tolik\AppData\Local\Microsoft\Windows\Temporary Internet Files\Content.IE5\1UP767D4\MP900289532[1].jpg"/>
          <p:cNvPicPr/>
          <p:nvPr/>
        </p:nvPicPr>
        <p:blipFill>
          <a:blip r:embed="rId2"/>
          <a:stretch/>
        </p:blipFill>
        <p:spPr>
          <a:xfrm>
            <a:off x="1700280" y="4572000"/>
            <a:ext cx="3583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0640" y="-360"/>
            <a:ext cx="4969080" cy="68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Если около дома есть пруд, бассейн или колодец, их нужно отгородить так, чтобы дети не могли самостоятельно до них добраться.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В бассейнах возле дома нельзя оставлять плавающие игрушки, которые привлекают внимание детей. Ребенок попытается достать игрушку и может упасть в воду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Надувные плавательные средства пригодны для игр только под присмотром взрослых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7" name="Рисунок 3" descr="круг.WMF"/>
          <p:cNvPicPr/>
          <p:nvPr/>
        </p:nvPicPr>
        <p:blipFill>
          <a:blip r:embed="rId2"/>
          <a:stretch/>
        </p:blipFill>
        <p:spPr>
          <a:xfrm>
            <a:off x="2565360" y="4932360"/>
            <a:ext cx="19432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612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6280" y="684000"/>
            <a:ext cx="582912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mbria"/>
              </a:rPr>
              <a:t>       </a:t>
            </a:r>
            <a:r>
              <a:rPr b="1" i="1" lang="ru-RU" sz="1800" spc="-1" strike="noStrike">
                <a:solidFill>
                  <a:srgbClr val="c00000"/>
                </a:solidFill>
                <a:latin typeface="Cambria"/>
              </a:rPr>
              <a:t>Здравствуй,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mbria"/>
              </a:rPr>
              <a:t>Лето долгожданное!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mbria"/>
              </a:rPr>
              <a:t>Солнце, речка и песок,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mbria"/>
              </a:rPr>
              <a:t>Тень березки, ручеек,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mbria"/>
              </a:rPr>
              <a:t> Комариный звон и писк,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mbria"/>
              </a:rPr>
              <a:t> Иволги негромкий свист.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mbria"/>
              </a:rPr>
              <a:t>Трепет крыльев стрекозы,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mbria"/>
              </a:rPr>
              <a:t>И атласный шелк травы,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mbria"/>
              </a:rPr>
              <a:t>Колокольчиков букет,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mbria"/>
              </a:rPr>
              <a:t>Соловья ночной сонет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6" name="Рисунок 5" descr="IMG_9416.JPG"/>
          <p:cNvPicPr/>
          <p:nvPr/>
        </p:nvPicPr>
        <p:blipFill>
          <a:blip r:embed="rId2"/>
          <a:stretch/>
        </p:blipFill>
        <p:spPr>
          <a:xfrm>
            <a:off x="1989000" y="4643280"/>
            <a:ext cx="280836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80640" y="900000"/>
            <a:ext cx="4969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mbria"/>
              </a:rPr>
              <a:t>       </a:t>
            </a:r>
            <a:r>
              <a:rPr b="1" i="1" lang="ru-RU" sz="2000" spc="-1" strike="noStrike">
                <a:solidFill>
                  <a:srgbClr val="c00000"/>
                </a:solidFill>
                <a:latin typeface="Cambria"/>
              </a:rPr>
              <a:t>Уважаемые мамы и папы!</a:t>
            </a:r>
            <a:br>
              <a:rPr sz="2000"/>
            </a:b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mbria"/>
              </a:rPr>
              <a:t>Хочется пожелать вам и вашим детям  прекрасного летнего отдыха!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mbria"/>
              </a:rPr>
              <a:t>Пусть он будет наполнен радостью, новыми впечатлениями, насыщен только положительными событиями!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mbria"/>
              </a:rPr>
              <a:t>Надеемся  наши советы помогут сделать детский отдых нескучным, полезным и запоминающимся!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mbria"/>
              </a:rPr>
              <a:t>До встречи в сентябре!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0" name="Рисунок 5" descr="IMG_9408.JPG"/>
          <p:cNvPicPr/>
          <p:nvPr/>
        </p:nvPicPr>
        <p:blipFill>
          <a:blip r:embed="rId2"/>
          <a:stretch/>
        </p:blipFill>
        <p:spPr>
          <a:xfrm>
            <a:off x="1413000" y="500364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325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1332000"/>
            <a:ext cx="58291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mbria"/>
              </a:rPr>
              <a:t>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Cambria"/>
              </a:rPr>
              <a:t>Уважаемые родители!</a:t>
            </a:r>
            <a:br>
              <a:rPr sz="2000"/>
            </a:br>
            <a:br>
              <a:rPr sz="18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Скоро наступит лето </a:t>
            </a:r>
            <a:r>
              <a:rPr b="1" i="1" lang="en-US" sz="1600" spc="-1" strike="noStrike">
                <a:solidFill>
                  <a:srgbClr val="002060"/>
                </a:solidFill>
                <a:latin typeface="Bookman Old Style"/>
              </a:rPr>
              <a:t>: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         кто-то из вас  уедет с ребенком  на дачу , кто-то полетит за моря- океаны,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а кто-то останется в городе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Нам хотелось бы дать вам несколько советов по правильной организации детского отдыха в летний период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9" name="Рисунок 4" descr="IMG_9424.JPG"/>
          <p:cNvPicPr/>
          <p:nvPr/>
        </p:nvPicPr>
        <p:blipFill>
          <a:blip r:embed="rId2"/>
          <a:stretch/>
        </p:blipFill>
        <p:spPr>
          <a:xfrm>
            <a:off x="1916280" y="4427640"/>
            <a:ext cx="27367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325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52280" y="1332000"/>
            <a:ext cx="504036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              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Вопрос </a:t>
            </a:r>
            <a:r>
              <a:rPr b="1" i="1" lang="en-US" sz="1600" spc="-1" strike="noStrike">
                <a:solidFill>
                  <a:srgbClr val="c00000"/>
                </a:solidFill>
                <a:latin typeface="Bookman Old Style"/>
              </a:rPr>
              <a:t>”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 Чем занять ребенка летом</a:t>
            </a:r>
            <a:r>
              <a:rPr b="1" i="1" lang="en-US" sz="1600" spc="-1" strike="noStrike">
                <a:solidFill>
                  <a:srgbClr val="c00000"/>
                </a:solidFill>
                <a:latin typeface="Bookman Old Style"/>
              </a:rPr>
              <a:t>?”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 задают себе все родители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Как же распланировать эти три месяца так, чтобы ребенок отдохнул хорошо и с пользой</a:t>
            </a:r>
            <a:r>
              <a:rPr b="1" i="1" lang="en-US" sz="1600" spc="-1" strike="noStrike">
                <a:solidFill>
                  <a:srgbClr val="002060"/>
                </a:solidFill>
                <a:latin typeface="Bookman Old Style"/>
              </a:rPr>
              <a:t>?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Поездка с ребенком к морю 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– отличное решение для всей семьи.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Ребенок отдыхает</a:t>
            </a:r>
            <a:r>
              <a:rPr b="1" i="1" lang="en-US" sz="1600" spc="-1" strike="noStrike">
                <a:solidFill>
                  <a:srgbClr val="002060"/>
                </a:solidFill>
                <a:latin typeface="Bookman Old Style"/>
              </a:rPr>
              <a:t>: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купается, загорает, играет у моря в песок.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Оздоравливает свой организм, дыша морским воздухом, получает заряд положительных эмоций.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Да и мама посвящает весь день своему чаду, не думая о домашних делах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" name="Рисунок 7" descr="пляж.WMF"/>
          <p:cNvPicPr/>
          <p:nvPr/>
        </p:nvPicPr>
        <p:blipFill>
          <a:blip r:embed="rId2"/>
          <a:stretch/>
        </p:blipFill>
        <p:spPr>
          <a:xfrm>
            <a:off x="1989000" y="5508720"/>
            <a:ext cx="306576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325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52280" y="1547640"/>
            <a:ext cx="504036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            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Незаменима в летних условиях и дача.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Всем известно, что польза от дачной жизни огромна!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Она укрепляет здоровье, повышает иммунитет и ,конечно, дает шанс расширить кругозор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Для начала на участке надо сделать свободное место, чтобы ребенку было где побегать и попрыгать, подальше от драгоценных посадок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Можно сделать песочницу, горку, между деревьями повесить качели.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В жаркую погоду не помешает надувной бассейн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" name="Рисунок 6" descr="песок.WMF"/>
          <p:cNvPicPr/>
          <p:nvPr/>
        </p:nvPicPr>
        <p:blipFill>
          <a:blip r:embed="rId2"/>
          <a:stretch/>
        </p:blipFill>
        <p:spPr>
          <a:xfrm>
            <a:off x="2492280" y="5867280"/>
            <a:ext cx="230508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325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6640" y="971640"/>
            <a:ext cx="540072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                                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За городом, малышу становятся доступны различные игры с водой, песком, глиной, способствующие развитию внимания, воображения и мелкой моторик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Подвижные игры, игры с мячом, катание на велосипеде  в деревне становятся более безопасными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Хотим предложить вам, уважаемые родители, необычное занятие – игру в </a:t>
            </a:r>
            <a:r>
              <a:rPr b="1" i="1" lang="en-US" sz="1600" spc="-1" strike="noStrike">
                <a:solidFill>
                  <a:srgbClr val="c00000"/>
                </a:solidFill>
                <a:latin typeface="Bookman Old Style"/>
              </a:rPr>
              <a:t>“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кладоискателя</a:t>
            </a:r>
            <a:r>
              <a:rPr b="1" i="1" lang="en-US" sz="1600" spc="-1" strike="noStrike">
                <a:solidFill>
                  <a:srgbClr val="c00000"/>
                </a:solidFill>
                <a:latin typeface="Bookman Old Style"/>
              </a:rPr>
              <a:t>”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.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Для этого достаточно на территории участка закопать или просто спрятать банку, с положенным в нее сюрпризом </a:t>
            </a:r>
            <a:r>
              <a:rPr b="1" i="1" lang="en-US" sz="1600" spc="-1" strike="noStrike">
                <a:solidFill>
                  <a:srgbClr val="002060"/>
                </a:solidFill>
                <a:latin typeface="Bookman Old Style"/>
              </a:rPr>
              <a:t>(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конфеткой, игрушкой и т.п.</a:t>
            </a:r>
            <a:r>
              <a:rPr b="1" i="1" lang="en-US" sz="1600" spc="-1" strike="noStrike">
                <a:solidFill>
                  <a:srgbClr val="002060"/>
                </a:solidFill>
                <a:latin typeface="Bookman Old Style"/>
              </a:rPr>
              <a:t>)</a:t>
            </a: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.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Ребенку будет интересен сам процесс поиска клада. Можно нарисовать карту и на ней обозначить местонахождения клад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8" name="Рисунок 4" descr="клад.WMF"/>
          <p:cNvPicPr/>
          <p:nvPr/>
        </p:nvPicPr>
        <p:blipFill>
          <a:blip r:embed="rId2"/>
          <a:stretch/>
        </p:blipFill>
        <p:spPr>
          <a:xfrm>
            <a:off x="2349360" y="6012000"/>
            <a:ext cx="22194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325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1332000"/>
            <a:ext cx="460872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Также дети с удовольствием будут помогать вам на участке, если вы будете давать им посильную работу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Это может быть поливка цветов, обустройство клумбы, собирание полевых цветов для украшение стола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Самое главное – не забудьте похвалить своего ребенка и отметить его усилия!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Рисунок 3" descr="помощь.WMF"/>
          <p:cNvPicPr/>
          <p:nvPr/>
        </p:nvPicPr>
        <p:blipFill>
          <a:blip r:embed="rId2"/>
          <a:stretch/>
        </p:blipFill>
        <p:spPr>
          <a:xfrm>
            <a:off x="2349360" y="5292720"/>
            <a:ext cx="24480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325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52280" y="1618920"/>
            <a:ext cx="5040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Конечно хорошо, когда есть </a:t>
            </a:r>
            <a:r>
              <a:rPr b="1" i="1" lang="en-US" sz="1600" spc="-1" strike="noStrike">
                <a:solidFill>
                  <a:srgbClr val="c00000"/>
                </a:solidFill>
                <a:latin typeface="Bookman Old Style"/>
              </a:rPr>
              <a:t>“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домик в деревне</a:t>
            </a:r>
            <a:r>
              <a:rPr b="1" i="1" lang="en-US" sz="1600" spc="-1" strike="noStrike">
                <a:solidFill>
                  <a:srgbClr val="c00000"/>
                </a:solidFill>
                <a:latin typeface="Bookman Old Style"/>
              </a:rPr>
              <a:t>”</a:t>
            </a: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 с заботливой бабушкой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mbria"/>
              </a:rPr>
              <a:t> но если такового нет, надо что-то придумывать самим!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Во-первых, на выходных семьей можно выбираться за город, где есть лес или речка. Прогулки по лесу, собирание шишек, купание в речке конечно же порадуют ребенка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Во-вторых, в городе есть парки и скверы, где можно отлично погулять в тени. Не забудьте прихватить с собой семечек, орешков или булку, чтобы покормить птиц, а может даже белок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4" name="Рисунок 4" descr="корм.WMF"/>
          <p:cNvPicPr/>
          <p:nvPr/>
        </p:nvPicPr>
        <p:blipFill>
          <a:blip r:embed="rId2"/>
          <a:stretch/>
        </p:blipFill>
        <p:spPr>
          <a:xfrm flipH="1">
            <a:off x="2491920" y="5796000"/>
            <a:ext cx="20163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325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52280" y="826560"/>
            <a:ext cx="504036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Занять ребенка летом можно походами в зоопарк или ботанический сад, которые так же доставят Вашему ребенку море удовольствия, а заодно обеспечат полезной информацией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Не забудьте посетить и парки с качелями и аттракционами, ведь когда туда еще идти, как не в летнее время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7" name="Рисунок 5" descr="парк.WMF"/>
          <p:cNvPicPr/>
          <p:nvPr/>
        </p:nvPicPr>
        <p:blipFill>
          <a:blip r:embed="rId2"/>
          <a:stretch/>
        </p:blipFill>
        <p:spPr>
          <a:xfrm flipH="1">
            <a:off x="1699920" y="4788000"/>
            <a:ext cx="3600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6:09:57Z</dcterms:created>
  <dc:creator>Tolik</dc:creator>
  <dc:description/>
  <dc:language>en-US</dc:language>
  <cp:lastModifiedBy>Tolik</cp:lastModifiedBy>
  <dcterms:modified xsi:type="dcterms:W3CDTF">2012-02-06T08:38:43Z</dcterms:modified>
  <cp:revision>36</cp:revision>
  <dc:subject/>
  <dc:title>Слайд 1</dc:title>
</cp:coreProperties>
</file>