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2.gif" ContentType="image/gif"/>
  <Override PartName="/ppt/media/image5.jpeg" ContentType="image/jpeg"/>
  <Override PartName="/ppt/media/image26.jpeg" ContentType="image/jpeg"/>
  <Override PartName="/ppt/media/image6.jpeg" ContentType="image/jpeg"/>
  <Override PartName="/ppt/media/image4.gif" ContentType="image/gif"/>
  <Override PartName="/ppt/media/image1.jpeg" ContentType="image/jpeg"/>
  <Override PartName="/ppt/media/image27.gif" ContentType="image/gif"/>
  <Override PartName="/ppt/media/image3.png" ContentType="image/png"/>
  <Override PartName="/ppt/media/image24.gif" ContentType="image/gif"/>
  <Override PartName="/ppt/media/image21.jpeg" ContentType="image/jpeg"/>
  <Override PartName="/ppt/media/image16.jpeg" ContentType="image/jpeg"/>
  <Override PartName="/ppt/media/image23.jpeg" ContentType="image/jpeg"/>
  <Override PartName="/ppt/media/image25.jpeg" ContentType="image/jpeg"/>
  <Override PartName="/ppt/media/image22.gif" ContentType="image/gif"/>
  <Override PartName="/ppt/media/image20.jpeg" ContentType="image/jpeg"/>
  <Override PartName="/ppt/media/image17.wmf" ContentType="image/x-wmf"/>
  <Override PartName="/ppt/media/image15.jpeg" ContentType="image/jpeg"/>
  <Override PartName="/ppt/media/image19.gif" ContentType="image/gif"/>
  <Override PartName="/ppt/media/image14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E4DA-EB0A-4449-AF25-062BC6A9A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9987-6659-412A-B237-D1C9D1F7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A741-C374-4E05-821E-0487D73F4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E3FE-4DB4-4014-A70A-0D0160844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826D-61D2-40B6-A1C8-AE27FAAC2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882B-8D0B-46DD-A9A5-295151CB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306D-DD4E-42B0-8202-AE0F0868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3EF99-AF13-48BB-B312-96910675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5C14-088D-41C7-BBAD-1218B3B5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AB3AF-500A-4722-AE7C-BD96D702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12683-20BB-42A2-99C9-9272B000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09C9-5000-43E1-A455-5709E336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C9A0-2E53-495E-9BEB-E931C730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D450-FB44-4303-A4A4-8DC07F37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71E4-ACCB-4984-9A77-395FE873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8F9C-CBEA-4182-A492-A9337070F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B3E1-404C-46EE-BBE6-B03D8E0FF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AD502-4951-4B20-9424-E124D9C19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64FBF-938F-42AE-926E-0D7E0E7D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FE02B-2A9B-43BB-A9B3-F8FCB446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0A4B2-E9EB-480F-B1AA-87AAAA48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CFB31-0BFD-444D-8ED5-0EA142F6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28EE-72FF-4280-BFA6-BEF2156A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FF0A9-F130-461B-BC98-6FED6F68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F30F7-5185-45B3-A78F-32303482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FFBE0-D22D-4DDC-B3F1-DE8A2A62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9C5ED-758F-4FB9-969E-77773409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2DBA9-2E19-4888-8D67-A8B2EDF8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A90E4-347C-40B1-BD35-EDF60F715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50E2A-E9F3-4925-B136-3A553C65C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FEAE0-674A-4953-82E9-5A77B1372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AE6A0-A478-42E0-BB64-85F218AB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03B45-0463-4C17-BDDC-27CE141E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C8FF-CD6D-456C-BF35-0CE8ED66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F92E3-F397-4E47-B2A5-697DB866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83796-69DF-40B2-9BF8-F53CD76E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6DA54-C058-4830-9909-25BC3D7C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B24B2-1B88-4A58-9F80-EA8FF3C2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6FE26-FCBC-4D84-89C3-F4D772BD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313F0-786D-4906-9FC5-EC45413A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26A61-EA33-4176-B055-E98C0159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8142B-DA8F-486E-94A3-8155F6B94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39B8E-1885-4330-96C9-CF3627199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1799F-5656-48DB-BB92-7EB78FA86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2326-78AA-4BF8-A5EE-F1700A32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10A9F-C91A-43B1-BC8A-918F7666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BA33D-E1E5-4C4F-9D56-09235AC4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D168A-A8A3-4F80-9532-4F8B46D5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15D6C-D141-49D9-80F1-63E2A94F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06466-0E1E-4715-9E84-796097D4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584E5-50AD-4134-8B42-936170C0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28337-8164-4EF5-9F32-92227B29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96B1C-E421-49BA-8D41-5A3E5E3B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6F868-D3A7-4CC0-BE3A-F84D8B47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DF89E-7FB3-41BC-ACDB-8E106E2DE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EEE6-E9AE-4A20-8311-A82F2E4B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5F80B-AF4F-4F6B-8AF8-17E8A31F1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9335A-C6D8-489C-9680-9A4F54E8C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4DBA5-E26D-4727-95DB-F26C984E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4850C-A56D-4EBA-A5E0-9C121F94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76195-5AC8-4FD6-B3E7-ADF1E3B7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0EE5D-FBA0-43F4-B82D-B3401272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0FCD1-4589-4992-812D-FC4FA761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CF896-71B3-46FF-A24C-0C83BA32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1393C-E5BF-4AC3-A0BB-C362587A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C1806-E69A-4EA4-8A6B-90F07167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ED25-94FD-4324-8BEB-D400CC5C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A7067-7870-403F-A5D8-82C90843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17999-2C8B-49C0-9114-29B988DD1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DB3B9-F293-4CF0-9D07-9C6AAA359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FED7-3E00-4C21-B86E-C5FF79DE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9FA1-7D06-4364-B148-20DC8C43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59DA-30CF-43EA-89D0-F4A8641B6B8C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2C2C-B834-4389-93EE-BA73557EC99B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50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B88E-F7C1-41EC-86AA-3B30C4251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00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7A35-8D3D-4BEC-85EE-10649F70D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48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50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62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81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99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grpSp>
            <p:nvGrpSpPr>
              <p:cNvPr id="506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95C0-A59C-4F3A-BC23-89075D956C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53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55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67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86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604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grpSp>
            <p:nvGrpSpPr>
              <p:cNvPr id="611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4898-D4E0-4060-915B-973EDAA70A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.gif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476000" y="3573360"/>
            <a:ext cx="8893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ecff"/>
                </a:solidFill>
                <a:latin typeface="comic"/>
              </a:rPr>
              <a:t>American Christmas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3503520" y="5949720"/>
            <a:ext cx="564048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llegro Kalm"/>
                <a:ea typeface="Allegro Kalm"/>
              </a:rPr>
              <a:t>РаботаБухаевойСБ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250920" y="2637000"/>
            <a:ext cx="2700360" cy="196344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82920" cy="4149720"/>
          </a:xfrm>
          <a:prstGeom prst="rect">
            <a:avLst/>
          </a:prstGeom>
          <a:ln w="0">
            <a:noFill/>
          </a:ln>
        </p:spPr>
      </p:pic>
      <p:sp>
        <p:nvSpPr>
          <p:cNvPr id="682" name="PlaceHolder 1"/>
          <p:cNvSpPr>
            <a:spLocks noGrp="1"/>
          </p:cNvSpPr>
          <p:nvPr>
            <p:ph/>
          </p:nvPr>
        </p:nvSpPr>
        <p:spPr>
          <a:xfrm>
            <a:off x="971640" y="4437000"/>
            <a:ext cx="76183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Churches, homes, schools, shops and streets are decorated with Christmas trees,coloured lights,Santa Claus and his reinde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407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/>
          </p:nvPr>
        </p:nvSpPr>
        <p:spPr>
          <a:xfrm>
            <a:off x="-3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The Americans choose a tree and decorate it with ornaments and ligh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3276720" y="0"/>
            <a:ext cx="58672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7" name=""/>
          <p:cNvGraphicFramePr/>
          <p:nvPr/>
        </p:nvGraphicFramePr>
        <p:xfrm>
          <a:off x="0" y="1628640"/>
          <a:ext cx="4022640" cy="452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28640"/>
                    <a:ext cx="40226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9" name="PlaceHolder 1"/>
          <p:cNvSpPr>
            <a:spLocks noGrp="1"/>
          </p:cNvSpPr>
          <p:nvPr>
            <p:ph/>
          </p:nvPr>
        </p:nvSpPr>
        <p:spPr>
          <a:xfrm>
            <a:off x="4716000" y="1557360"/>
            <a:ext cx="33116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The American children hang up stockings near the fire-place to receive gifts from Santa Cla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4"/>
          <a:stretch/>
        </p:blipFill>
        <p:spPr>
          <a:xfrm>
            <a:off x="7559640" y="4221000"/>
            <a:ext cx="1584360" cy="129708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5"/>
          <a:stretch/>
        </p:blipFill>
        <p:spPr>
          <a:xfrm>
            <a:off x="971640" y="1700280"/>
            <a:ext cx="3689280" cy="43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lex Kalm"/>
                <a:ea typeface="Alex Kalm"/>
              </a:rPr>
              <a:t>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3887640" cy="475308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/>
          <p:cNvPicPr/>
          <p:nvPr/>
        </p:nvPicPr>
        <p:blipFill>
          <a:blip r:embed="rId2"/>
          <a:stretch/>
        </p:blipFill>
        <p:spPr>
          <a:xfrm>
            <a:off x="5076720" y="1557360"/>
            <a:ext cx="3672000" cy="468000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3"/>
          <a:stretch/>
        </p:blipFill>
        <p:spPr>
          <a:xfrm>
            <a:off x="1979640" y="2637000"/>
            <a:ext cx="1590480" cy="1361880"/>
          </a:xfrm>
          <a:prstGeom prst="rect">
            <a:avLst/>
          </a:prstGeom>
          <a:ln w="0">
            <a:noFill/>
          </a:ln>
        </p:spPr>
      </p:pic>
      <p:pic>
        <p:nvPicPr>
          <p:cNvPr id="696" name="" descr=""/>
          <p:cNvPicPr/>
          <p:nvPr/>
        </p:nvPicPr>
        <p:blipFill>
          <a:blip r:embed="rId4"/>
          <a:stretch/>
        </p:blipFill>
        <p:spPr>
          <a:xfrm>
            <a:off x="6588000" y="3860640"/>
            <a:ext cx="1800360" cy="18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/>
          </p:nvPr>
        </p:nvSpPr>
        <p:spPr>
          <a:xfrm>
            <a:off x="5526000" y="2360160"/>
            <a:ext cx="3618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Baskerville Old Face"/>
              </a:rPr>
              <a:t>On Christmas Eve the President of the United States turns on the lights of the Christmas tree near the White House and sends his greetings to the n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3745080" cy="4537080"/>
          </a:xfrm>
          <a:prstGeom prst="rect">
            <a:avLst/>
          </a:prstGeom>
          <a:ln w="0">
            <a:noFill/>
          </a:ln>
        </p:spPr>
      </p:pic>
      <p:pic>
        <p:nvPicPr>
          <p:cNvPr id="699" name="" descr=""/>
          <p:cNvPicPr/>
          <p:nvPr/>
        </p:nvPicPr>
        <p:blipFill>
          <a:blip r:embed="rId2"/>
          <a:stretch/>
        </p:blipFill>
        <p:spPr>
          <a:xfrm>
            <a:off x="684360" y="549360"/>
            <a:ext cx="1508040" cy="121896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3"/>
          <a:stretch/>
        </p:blipFill>
        <p:spPr>
          <a:xfrm>
            <a:off x="3059280" y="40464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4"/>
          <a:stretch/>
        </p:blipFill>
        <p:spPr>
          <a:xfrm>
            <a:off x="3708360" y="1916280"/>
            <a:ext cx="2033640" cy="25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2"/>
          <a:stretch/>
        </p:blipFill>
        <p:spPr>
          <a:xfrm>
            <a:off x="2268360" y="907920"/>
            <a:ext cx="4751640" cy="396108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3"/>
          <a:stretch/>
        </p:blipFill>
        <p:spPr>
          <a:xfrm>
            <a:off x="899172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153862" fill="hold"/>
                                        <p:tgtEl>
                                          <p:spTgt spid="7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5" name="" descr=""/>
          <p:cNvPicPr/>
          <p:nvPr/>
        </p:nvPicPr>
        <p:blipFill>
          <a:blip r:embed="rId2"/>
          <a:stretch/>
        </p:blipFill>
        <p:spPr>
          <a:xfrm>
            <a:off x="1692360" y="1233360"/>
            <a:ext cx="5670360" cy="446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/>
          </p:nvPr>
        </p:nvSpPr>
        <p:spPr>
          <a:xfrm>
            <a:off x="0" y="1598760"/>
            <a:ext cx="4021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The Americans celebrate Christmas on the 2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Baskerville Old Face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of December. Christmas is a religious holiday. It is the day on which Christians celebrate the birth of Jesus Ch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3851280" y="0"/>
            <a:ext cx="54738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/>
          </p:nvPr>
        </p:nvSpPr>
        <p:spPr>
          <a:xfrm>
            <a:off x="914400" y="33336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The Christmas story comes from the Bi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9" name="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6913800" cy="587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/>
          </p:nvPr>
        </p:nvSpPr>
        <p:spPr>
          <a:xfrm>
            <a:off x="5292720" y="1628280"/>
            <a:ext cx="3618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It tell us an interesting story of shepherds who were watching their sheep when the angel appeard to them.He told them that a Savior had been born in Bethlehem.They went there to see Jes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5164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-3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The baby Jesus was born in a stable.His mother was the Virgin Mary and his Father was Josep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3564000" y="0"/>
            <a:ext cx="5580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The Bible tell us how the Wise Men (the Magi) followed a star until it led them to Jesus. They gave Jesus many  gif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1964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0920" y="1483920"/>
            <a:ext cx="827712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Because of the birth of Jesus Christ,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the Christians celebrate Christma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/>
          </p:nvPr>
        </p:nvSpPr>
        <p:spPr>
          <a:xfrm>
            <a:off x="-3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askerville Old Face"/>
              </a:rPr>
              <a:t>Cities and towns in America sparkle with bright lights and decor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1"/>
          <a:stretch/>
        </p:blipFill>
        <p:spPr>
          <a:xfrm>
            <a:off x="3564000" y="0"/>
            <a:ext cx="5761080" cy="6858000"/>
          </a:xfrm>
          <a:prstGeom prst="rect">
            <a:avLst/>
          </a:prstGeom>
          <a:ln w="0">
            <a:noFill/>
          </a:ln>
        </p:spPr>
      </p:pic>
      <p:pic>
        <p:nvPicPr>
          <p:cNvPr id="68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6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9T07:07:44Z</dcterms:created>
  <dc:creator>bsb</dc:creator>
  <dc:description/>
  <dc:language>en-US</dc:language>
  <cp:lastModifiedBy>Админ</cp:lastModifiedBy>
  <dcterms:modified xsi:type="dcterms:W3CDTF">2012-02-07T13:41:05Z</dcterms:modified>
  <cp:revision>22</cp:revision>
  <dc:subject/>
  <dc:title>American Christmas</dc:title>
</cp:coreProperties>
</file>