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7.png" ContentType="image/png"/>
  <Override PartName="/ppt/media/image24.png" ContentType="image/png"/>
  <Override PartName="/ppt/media/image11.jpeg" ContentType="image/jpeg"/>
  <Override PartName="/ppt/media/image31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43.jpeg" ContentType="image/jpeg"/>
  <Override PartName="/ppt/media/image26.png" ContentType="image/png"/>
  <Override PartName="/ppt/media/image33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50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2.png" ContentType="image/png"/>
  <Override PartName="/ppt/media/image40.jpeg" ContentType="image/jpeg"/>
  <Override PartName="/ppt/media/image1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23.png" ContentType="image/png"/>
  <Override PartName="/ppt/media/image30.gif" ContentType="image/gif"/>
  <Override PartName="/ppt/media/image9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.jpeg" ContentType="image/jpeg"/>
  <Override PartName="/ppt/media/image35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42.jpeg" ContentType="image/jpeg"/>
  <Override PartName="/ppt/media/image6.png" ContentType="image/png"/>
  <Override PartName="/ppt/media/image8.gif" ContentType="image/gi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FEF-02A8-4C6B-8F40-A986AD24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48D-C439-4CB4-B485-774A65EF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74F-5BB9-4A07-A2CC-09D8B0D7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B9A-F2C5-49C2-9A8A-A3131525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F587-BFE6-4630-BF72-554B6508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EDC8-573A-40A7-B03D-9D4DC3F3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CF08-FCD7-453C-B245-53591E0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4693-2F7C-4710-B6A2-57068AD4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D7D8-3D67-4A11-BCE2-D391E63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3EC4-D3E1-4C63-87F7-124B0B90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AF02-4FE9-4702-B551-1334D24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5D9-065E-40E9-A0BE-A409743F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F6ED-83CC-42E0-8A22-7636C36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81F5-1E91-4FB5-90BC-FB8443A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6288-90C2-4E4A-87EF-1D44B7C7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4683-8157-4438-A41C-70EC40D9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B6AB-7577-4D74-9A0D-F417722B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B14-0CD6-40BD-A994-A78D9D06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22A-696C-4B21-BAAD-1D94279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BB0-2243-4BA5-AF26-562FF419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CEB-C742-4243-B2D9-7D205F4A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1B6-06A7-451C-88A3-6360A7A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05E-DA3C-4611-AD3C-87A72C10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834-AAF5-4F11-8339-68CFE135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5AF3-D401-42B1-AC09-6AD6B9ED99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53A2-6F4F-4ED4-9A4D-EB64E3E482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Автоматизация  звуков  в  слогах,  словах  и  фразах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Гусенич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Корабл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Пчёл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Тигрён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Самолё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Змей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Стреко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«Большой-маленький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«Четвёртый лишний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«Поймай звук». Найди   предмет,  название  которого  начинается  с  того  же  звука,  как  в  слове  «ЛЕВ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«Всех излечит,  исцелит добрый доктор Айболит».  Назови  всех,  кого  вылечил  доктор Айболит,  начиная  с  фразы:  «Добрый доктор Айболит  излечил…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«Что делает слон?»  (Слон  сидит  на  стул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матизация 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Считалка.  Назови  все  предметы  по  очереди,  и  у  тебя  получится  весёлая  считалоч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Кирилл\Рабочий стол\МАМА\детские презентации\Почемучка\efeb55bbf7fe.png"/>
          <p:cNvPicPr/>
          <p:nvPr/>
        </p:nvPicPr>
        <p:blipFill>
          <a:blip r:embed="rId2"/>
          <a:stretch/>
        </p:blipFill>
        <p:spPr>
          <a:xfrm>
            <a:off x="304920" y="457200"/>
            <a:ext cx="2108160" cy="122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C:\Documents and Settings\Кирилл\Рабочий стол\МАМА\детские презентации\Почемучка\b1c12472bde8.png"/>
          <p:cNvPicPr/>
          <p:nvPr/>
        </p:nvPicPr>
        <p:blipFill>
          <a:blip r:embed="rId3"/>
          <a:stretch/>
        </p:blipFill>
        <p:spPr>
          <a:xfrm>
            <a:off x="2819520" y="1523880"/>
            <a:ext cx="1874880" cy="1871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Documents and Settings\Кирилл\Рабочий стол\МАМА\детские презентации\Почемучка\03ea78dc7c4e.png"/>
          <p:cNvPicPr/>
          <p:nvPr/>
        </p:nvPicPr>
        <p:blipFill>
          <a:blip r:embed="rId4"/>
          <a:stretch/>
        </p:blipFill>
        <p:spPr>
          <a:xfrm>
            <a:off x="7010280" y="4495680"/>
            <a:ext cx="1658880" cy="20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C:\Documents and Settings\Кирилл\Рабочий стол\МАМА\детские презентации\Почемучка\40e7f45e77c2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29200" y="3048120"/>
            <a:ext cx="1550880" cy="1439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7600" y="17514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ля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920" y="3427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окол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31720" y="452664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пельс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5080" y="6444360"/>
            <a:ext cx="15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ба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Documents and Settings\Кирилл\Рабочий стол\МАМА\детские презентации\Почемучка\8aef9f2de653.png"/>
          <p:cNvPicPr/>
          <p:nvPr/>
        </p:nvPicPr>
        <p:blipFill>
          <a:blip r:embed="rId1"/>
          <a:stretch/>
        </p:blipFill>
        <p:spPr>
          <a:xfrm>
            <a:off x="0" y="762120"/>
            <a:ext cx="3657600" cy="5181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C:\Documents and Settings\Кирилл\Рабочий стол\МАМА\детские презентации\Почемучка\43f519eb48d3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457200"/>
            <a:ext cx="1380960" cy="1511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Ольга\Рабочий стол\картинки\Новая папка (2)\игрушки\dc701436b9b3.png"/>
          <p:cNvPicPr/>
          <p:nvPr/>
        </p:nvPicPr>
        <p:blipFill>
          <a:blip r:embed="rId4"/>
          <a:stretch/>
        </p:blipFill>
        <p:spPr>
          <a:xfrm>
            <a:off x="7086600" y="990720"/>
            <a:ext cx="790560" cy="792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Ольга\Рабочий стол\картинки\Новая папка (2)\игрушки\9b18a1327af1.png"/>
          <p:cNvPicPr/>
          <p:nvPr/>
        </p:nvPicPr>
        <p:blipFill>
          <a:blip r:embed="rId5"/>
          <a:stretch/>
        </p:blipFill>
        <p:spPr>
          <a:xfrm>
            <a:off x="4572000" y="42670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Documents and Settings\Кирилл\Рабочий стол\МАМА\детские презентации\Почемучка\1afeabd9c36a.png"/>
          <p:cNvPicPr/>
          <p:nvPr/>
        </p:nvPicPr>
        <p:blipFill>
          <a:blip r:embed="rId6"/>
          <a:stretch/>
        </p:blipFill>
        <p:spPr>
          <a:xfrm>
            <a:off x="7315200" y="4724280"/>
            <a:ext cx="879480" cy="863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C:\Documents and Settings\Кирилл\Рабочий стол\МАМА\детские презентации\Почемучка\0655d5a29e93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2133720"/>
            <a:ext cx="1033200" cy="2052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374120" y="6050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7720" y="37645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де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3640" y="1859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я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4320" y="19040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н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94040" y="5669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рб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3440" y="5517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ш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Documents and Settings\Кирилл\Рабочий стол\МАМА\книги\hframe014.jpg"/>
          <p:cNvPicPr/>
          <p:nvPr/>
        </p:nvPicPr>
        <p:blipFill>
          <a:blip r:embed="rId1"/>
          <a:srcRect l="0" t="0" r="2708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:\Documents and Settings\Кирилл\Рабочий стол\МАМА\зоопарк\20.gif"/>
          <p:cNvPicPr/>
          <p:nvPr/>
        </p:nvPicPr>
        <p:blipFill>
          <a:blip r:embed="rId2"/>
          <a:stretch/>
        </p:blipFill>
        <p:spPr>
          <a:xfrm>
            <a:off x="3886200" y="685800"/>
            <a:ext cx="2455920" cy="3419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C:\Documents and Settings\Кирилл\Рабочий стол\МАМА\детские презентации\Почемучка\27.gif"/>
          <p:cNvPicPr/>
          <p:nvPr/>
        </p:nvPicPr>
        <p:blipFill>
          <a:blip r:embed="rId3"/>
          <a:stretch/>
        </p:blipFill>
        <p:spPr>
          <a:xfrm>
            <a:off x="6019920" y="228600"/>
            <a:ext cx="3676680" cy="4032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C:\Documents and Settings\Кирилл\Рабочий стол\МАМА\зоопарк\35.gif"/>
          <p:cNvPicPr/>
          <p:nvPr/>
        </p:nvPicPr>
        <p:blipFill>
          <a:blip r:embed="rId4"/>
          <a:stretch/>
        </p:blipFill>
        <p:spPr>
          <a:xfrm flipH="1">
            <a:off x="4266720" y="4265640"/>
            <a:ext cx="4605480" cy="2592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00" y="47268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ый  доктор  Айбол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лечил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C:\Documents and Settings\Кирилл\Рабочий стол\МАМА\анимация\f225f56e7ec9.png"/>
          <p:cNvPicPr/>
          <p:nvPr/>
        </p:nvPicPr>
        <p:blipFill>
          <a:blip r:embed="rId1"/>
          <a:stretch/>
        </p:blipFill>
        <p:spPr>
          <a:xfrm>
            <a:off x="6324480" y="3200400"/>
            <a:ext cx="2133720" cy="2682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Documents and Settings\Кирилл\Рабочий стол\МАМА\зоопарк\102.gif"/>
          <p:cNvPicPr/>
          <p:nvPr/>
        </p:nvPicPr>
        <p:blipFill>
          <a:blip r:embed="rId2"/>
          <a:stretch/>
        </p:blipFill>
        <p:spPr>
          <a:xfrm>
            <a:off x="228600" y="1676520"/>
            <a:ext cx="2936880" cy="3384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95480" y="4878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он  сидит  на  сту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59166 -0.01112 E">
                                      <p:cBhvr>
                                        <p:cTn id="1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86480" y="-7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т  со  звуком [Р] считал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28480" cy="1219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581280" y="60948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6248520" y="609480"/>
            <a:ext cx="1428480" cy="1390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3505320" y="2362320"/>
            <a:ext cx="1371600" cy="1428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6248520" y="2666880"/>
            <a:ext cx="1428480" cy="1028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990720" y="457200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3581280" y="4572000"/>
            <a:ext cx="12956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6400800" y="4648320"/>
            <a:ext cx="1104840" cy="1428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69560" y="18280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ре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8000" y="1980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03320" y="19803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са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8840" y="3733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35720" y="37332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480" y="35805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5520" y="594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5360" y="586656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6280" y="60192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хом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1428480" cy="1171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505320" y="533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6248520" y="45720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990720" y="2971800"/>
            <a:ext cx="1162080" cy="14288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3505320" y="3429000"/>
            <a:ext cx="1428480" cy="8762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6248520" y="2971800"/>
            <a:ext cx="1428480" cy="12002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296720" y="1675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06760" y="1828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оллей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2600" y="1751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5160" y="43426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36440" y="426636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02240" y="4114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ра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ла Бочарова Е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28600" y="5036040"/>
            <a:ext cx="62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  Бочарова Е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23"/>
          <p:cNvPicPr/>
          <p:nvPr/>
        </p:nvPicPr>
        <p:blipFill>
          <a:blip r:embed="rId2"/>
          <a:stretch/>
        </p:blipFill>
        <p:spPr>
          <a:xfrm>
            <a:off x="6934320" y="5029200"/>
            <a:ext cx="2209680" cy="947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59080" y="32007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-С-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52917 0.0088 E">
                                      <p:cBhvr>
                                        <p:cTn id="6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Documents and Settings\Кирилл\Рабочий стол\МАМА\детские презентации\Почемучка\korab30.png"/>
          <p:cNvPicPr/>
          <p:nvPr/>
        </p:nvPicPr>
        <p:blipFill>
          <a:blip r:embed="rId2"/>
          <a:stretch/>
        </p:blipFill>
        <p:spPr>
          <a:xfrm>
            <a:off x="6553080" y="2438280"/>
            <a:ext cx="2590920" cy="2446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88720" y="7927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-Л-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34 0.04398 C 0.09931 0.02407 0.10382 0.03055 0.09393 0.02176 C 0.09132 0.01666 0.09045 0.00995 0.08768 0.00509 C 0.08768 0.00532 0.07205 -0.01574 0.06893 -0.01991 C 0.05955 -0.03241 0.07066 -0.0257 0.05851 -0.03102 C 0.05365 -0.04051 0.04896 -0.04676 0.04184 -0.05324 C 0.03594 -0.06482 0.02865 -0.07107 0.01893 -0.07547 C -0.00538 -0.07408 -0.0302 -0.07662 -0.05399 -0.06991 C -0.06215 -0.0676 -0.06475 -0.05116 -0.07274 -0.04769 C -0.08298 -0.04306 -0.07691 -0.04537 -0.09149 -0.04213 C -0.09566 -0.03658 -0.10208 -0.03287 -0.10399 -0.02547 C -0.10694 -0.01389 -0.10416 -0.01875 -0.11232 -0.01158 C -0.11527 3.70369999999967E-006 -0.11805 0.00301 -0.12482 0.01064 C -0.14531 0.03333 -0.11892 0.00555 -0.13524 0.02731 C -0.13906 0.0324 -0.14392 0.03611 -0.14774 0.0412 C -0.15312 0.06296 -0.16389 0.05416 -0.18107 0.05231 C -0.18732 0.04676 -0.19357 0.04398 -0.19982 0.03842 C -0.20468 0.0287 -0.21111 0.02523 -0.21649 0.0162 C -0.22673 -0.00139 -0.22951 -0.02686 -0.24357 -0.03936 C -0.24496 -0.04213 -0.24583 -0.04561 -0.24774 -0.04769 C -0.25156 -0.05209 -0.26024 -0.0588 -0.26024 -0.05857 C -0.2658 -0.06991 -0.26927 -0.07223 -0.27899 -0.07547 C -0.30052 -0.07431 -0.32291 -0.07824 -0.34357 -0.06991 C -0.34843 -0.06806 -0.3526 -0.05996 -0.35607 -0.05602 C -0.37152 -0.03889 -0.38559 -0.01945 -0.39982 -0.00047 C -0.40729 0.00949 -0.41163 0.02199 -0.42066 0.03009 C -0.42517 0.03912 -0.43073 0.04328 -0.43524 0.05231 C -0.44427 0.05139 -0.45347 0.05254 -0.46232 0.04953 C -0.4651 0.04861 -0.46614 0.04328 -0.46857 0.0412 C -0.47048 0.03958 -0.47274 0.03935 -0.47482 0.03842 C -0.48159 0.02939 -0.49705 0.00764 -0.49982 -0.00324 C -0.5026 -0.01436 -0.50451 -0.0301 -0.51024 -0.03936 C -0.51736 -0.0507 -0.52812 -0.05903 -0.53732 -0.06713 C -0.54392 -0.08033 -0.53906 -0.07431 -0.55399 -0.08102 C -0.55937 -0.08334 -0.56753 -0.09144 -0.57274 -0.09491 C -0.57795 -0.09838 -0.58663 -0.09931 -0.59149 -0.10047 C -0.60885 -0.09861 -0.62656 -0.09977 -0.64149 -0.08658 C -0.64288 -0.0838 -0.64392 -0.08056 -0.64566 -0.07824 C -0.64739 -0.07593 -0.65034 -0.07524 -0.65191 -0.07269 C -0.6552 -0.0676 -0.65607 -0.05973 -0.66024 -0.05602 C -0.67066 -0.04676 -0.67621 -0.0419 -0.68316 -0.02824 C -0.6809 -0.01899 -0.68333 -0.01991 -0.67899 -0.01991 E">
                                      <p:cBhvr>
                                        <p:cTn id="12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5759506d777c"/>
          <p:cNvPicPr/>
          <p:nvPr/>
        </p:nvPicPr>
        <p:blipFill>
          <a:blip r:embed="rId2"/>
          <a:stretch/>
        </p:blipFill>
        <p:spPr>
          <a:xfrm>
            <a:off x="343080" y="720720"/>
            <a:ext cx="1439640" cy="111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040280" y="2592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-Ж-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1 0.01806 C 0.09878 0.00533 0.09861 -0.00787 0.10034 -0.02037 C 0.10243 -0.03588 0.11666 -0.05208 0.12378 -0.0618 C 0.12847 -0.06805 0.13316 -0.07453 0.13784 -0.08078 C 0.14236 -0.08703 0.15954 -0.09236 0.1684 -0.09676 C 0.19114 -0.10856 0.21493 -0.11597 0.23888 -0.12222 C 0.24843 -0.12013 0.26024 -0.11898 0.26944 -0.11273 C 0.275 -0.10902 0.28003 -0.1037 0.28576 -0.1 C 0.29027 -0.09097 0.29409 -0.08078 0.29757 -0.07129 C 0.29878 -0.06828 0.29843 -0.06458 0.29982 -0.0618 C 0.30156 -0.0581 0.30486 -0.05578 0.30694 -0.05208 C 0.31076 -0.04537 0.31388 -0.0375 0.31632 -0.02986 C 0.31823 -0.02384 0.31823 -0.0162 0.321 -0.01064 C 0.32743 0.00209 0.32604 -0.00254 0.33055 0.01482 C 0.33229 0.0213 0.33507 0.03403 0.33507 0.03426 C 0.33698 0.05649 0.34045 0.07223 0.33263 0.09445 C 0.33073 0.1007 0.30781 0.11459 0.30225 0.1169 C 0.29444 0.11574 0.28611 0.11783 0.27864 0.11366 C 0.27274 0.10996 0.26944 0.10093 0.26475 0.09445 C 0.25763 0.08496 0.25138 0.07709 0.24583 0.06574 C 0.24513 0.06158 0.24253 0.05741 0.24357 0.05301 C 0.24704 0.03774 0.25208 0.03473 0.26007 0.02755 C 0.26684 0.01366 0.28107 0.00741 0.29288 0.00209 C 0.30798 -0.00486 0.32465 -0.00949 0.33975 -0.01713 C 0.35069 -0.02268 0.35972 -0.03333 0.37031 -0.03935 C 0.37482 -0.04213 0.39062 -0.0449 0.39375 -0.04583 C 0.43958 -0.04398 0.46041 -0.05185 0.49479 -0.03611 C 0.50208 -0.02152 0.5118 -0.01018 0.52066 0.00209 C 0.5276 0.01135 0.53229 0.02315 0.53715 0.03403 C 0.54357 0.04838 0.55034 0.06042 0.5559 0.07547 C 0.55399 0.11389 0.55538 0.14815 0.53003 0.17107 C 0.51996 0.17014 0.50954 0.17107 0.49948 0.16783 C 0.48211 0.16227 0.49097 0.13542 0.49253 0.12014 C 0.49444 0.09977 0.5125 0.08727 0.52309 0.07547 C 0.53229 0.06505 0.54288 0.06274 0.55347 0.05625 C 0.55607 0.05463 0.55798 0.05139 0.56059 0.05 C 0.57135 0.04283 0.58402 0.04306 0.59583 0.04028 C 0.60989 0.03704 0.62378 0.03334 0.63819 0.03079 C 0.65243 0.03149 0.69079 0.02894 0.71319 0.03704 C 0.72708 0.04213 0.73524 0.05116 0.74843 0.05949 C 0.78489 0.08195 0.80833 0.11297 0.83055 0.15834 C 0.83993 0.20811 0.84218 0.26204 0.82829 0.31135 C 0.82239 0.33357 0.82586 0.31574 0.81649 0.3338 C 0.80902 0.34838 0.80434 0.36644 0.79774 0.38172 C 0.79253 0.39375 0.78055 0.40811 0.7743 0.41667 C 0.771 0.4213 0.76232 0.42385 0.75798 0.42616 C 0.74392 0.43334 0.72968 0.43912 0.71562 0.44537 C 0.70243 0.44445 0.68906 0.44468 0.67569 0.44213 C 0.67083 0.44144 0.66145 0.43588 0.66145 0.43612 C 0.65347 0.425 0.65451 0.42709 0.64757 0.41343 C 0.64409 0.40718 0.63819 0.39445 0.63819 0.39468 C 0.63888 0.37408 0.63767 0.35371 0.64045 0.3338 C 0.64097 0.32917 0.64566 0.32801 0.64757 0.32431 C 0.64878 0.3213 0.64861 0.3176 0.64982 0.31459 C 0.65902 0.29283 0.68125 0.27292 0.69913 0.26667 C 0.721 0.26991 0.74392 0.26667 0.76493 0.27639 C 0.77552 0.28102 0.79548 0.29561 0.79548 0.29584 C 0.80607 0.32477 0.81267 0.35232 0.81649 0.38473 C 0.81579 0.39653 0.81597 0.40834 0.81423 0.41991 C 0.81371 0.42362 0.81076 0.42593 0.80954 0.4294 C 0.80382 0.44699 0.7993 0.46158 0.79079 0.47732 C 0.7835 0.49051 0.77274 0.49514 0.7625 0.50278 C 0.74965 0.51274 0.76145 0.50625 0.74618 0.51875 C 0.73107 0.53102 0.71475 0.53195 0.69913 0.54098 C 0.6901 0.5463 0.68802 0.55 0.67795 0.55394 C 0.66267 0.55973 0.62239 0.55996 0.61684 0.56019 C 0.56684 0.57014 0.58732 0.56737 0.49027 0.55695 C 0.48073 0.55602 0.47326 0.54514 0.46423 0.54098 C 0.4493 0.53426 0.43645 0.53195 0.42448 0.51551 C 0.42031 0.50996 0.4177 0.49954 0.41493 0.49329 C 0.40555 0.47176 0.40763 0.47894 0.39843 0.46135 C 0.39166 0.44815 0.38802 0.43426 0.37986 0.42315 C 0.3809 0.39561 0.37743 0.36412 0.38906 0.34005 C 0.39357 0.31574 0.4026 0.31274 0.41961 0.30834 C 0.42829 0.30926 0.43715 0.30903 0.44548 0.31135 C 0.45173 0.31297 0.45937 0.32292 0.46423 0.32732 C 0.47448 0.33704 0.49201 0.34908 0.50191 0.3625 C 0.51927 0.38612 0.4993 0.36644 0.51597 0.38172 C 0.52222 0.41598 0.52152 0.40903 0.51597 0.46135 C 0.51093 0.50996 0.496 0.55139 0.47604 0.59213 C 0.47395 0.59653 0.46961 0.59815 0.46666 0.60162 C 0.44757 0.62477 0.46024 0.61806 0.44305 0.62408 C 0.43246 0.6338 0.42621 0.63403 0.41267 0.63681 C 0.38316 0.65 0.36788 0.64746 0.33055 0.64954 C 0.25121 0.64723 0.246 0.65348 0.19652 0.63681 C 0.18767 0.62848 0.1776 0.625 0.1684 0.6176 C 0.13559 0.5919 0.16145 0.60973 0.14027 0.59537 C 0.13073 0.57408 0.11823 0.55463 0.10746 0.53473 C 0.10277 0.52662 0.10017 0.51713 0.09566 0.50926 C 0.08993 0.48588 0.09201 0.49676 0.08854 0.47732 C 0.09097 0.42524 0.09236 0.3588 0.11666 0.31459 C 0.12413 0.28449 0.15833 0.28334 0.17777 0.27963 C 0.19184 0.28172 0.20607 0.28241 0.22013 0.28588 C 0.22899 0.28797 0.23888 0.31135 0.23888 0.31181 C 0.24079 0.34514 0.2427 0.37824 0.25052 0.41042 C 0.25138 0.42408 0.25312 0.43797 0.25295 0.45186 C 0.25277 0.46783 0.26441 0.58287 0.23645 0.62084 C 0.23177 0.62709 0.22604 0.63241 0.22239 0.64005 C 0.21423 0.65649 0.20868 0.66991 0.19427 0.675 C 0.18298 0.68519 0.18993 0.6801 0.17309 0.68774 C 0.17066 0.68889 0.1684 0.68982 0.16614 0.69098 C 0.16371 0.69213 0.15902 0.69422 0.15902 0.69445 C 0.14913 0.70394 0.14218 0.70718 0.13073 0.71343 C 0.11979 0.71227 0.10902 0.71204 0.09791 0.71019 C 0.08993 0.7088 0.08437 0.70024 0.07673 0.69746 C 0.06145 0.69167 0.05451 0.68982 0.04166 0.67824 C 0.03524 0.66551 0.02517 0.65487 0.01562 0.6463 C 0.01406 0.64306 0.01215 0.64028 0.01093 0.63681 C 0.00989 0.6338 0.00885 0.62709 0.00885 0.62755 E">
                                      <p:cBhvr>
                                        <p:cTn id="18" dur="5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733560" cy="5029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533520"/>
            <a:ext cx="2209680" cy="1523880"/>
          </a:xfrm>
          <a:prstGeom prst="cloudCallout">
            <a:avLst>
              <a:gd name="adj1" fmla="val -47412"/>
              <a:gd name="adj2" fmla="val 5802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-Р-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PLANE1"/>
          <p:cNvPicPr/>
          <p:nvPr/>
        </p:nvPicPr>
        <p:blipFill>
          <a:blip r:embed="rId2"/>
          <a:stretch/>
        </p:blipFill>
        <p:spPr>
          <a:xfrm>
            <a:off x="228600" y="5029200"/>
            <a:ext cx="2808360" cy="1297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88720" y="6127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-Л-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60486 -0.69445 E">
                                      <p:cBhvr>
                                        <p:cTn id="24" dur="5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019920" y="4038480"/>
            <a:ext cx="3124080" cy="2819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963600" y="33552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-Ш-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305 0.11436 C 0.16198 0.01227 0.15399 -0.07129 0.12708 -0.08402 C 0.10069 -0.09652 0.05885 -0.03726 0.02413 0.05695 C 0.03906 -0.04722 0.03576 -0.128 0.00833 -0.14097 C -0.01841 -0.15416 -0.06059 -0.0949 -0.09479 0.00047 C -0.07917 -0.10393 -0.08368 -0.18495 -0.11042 -0.19745 C -0.13837 -0.21088 -0.18351 -0.15324 -0.21736 -0.0581 C -0.19966 -0.16088 -0.20295 -0.24236 -0.23368 -0.25694 C -0.25677 -0.26759 -0.30191 -0.20972 -0.33664 -0.11597 C -0.31823 -0.21759 -0.32587 -0.30138 -0.35243 -0.31365 C -0.37969 -0.32592 -0.42118 -0.26666 -0.45591 -0.17314 C -0.44063 -0.27662 -0.44462 -0.35717 -0.47205 -0.3706 C -0.49861 -0.38333 -0.5408 -0.32407 -0.57848 -0.23101 C -0.55938 -0.33356 -0.56389 -0.41481 -0.59063 -0.42824 C -0.61789 -0.44074 -0.66354 -0.38287 -0.69757 -0.28842 C -0.67917 -0.3905 -0.68264 -0.47199 -0.71372 -0.48657 C -0.74028 -0.4993 -0.78177 -0.43981 -0.81702 -0.3456 E">
                                      <p:cBhvr>
                                        <p:cTn id="30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877840" cy="2895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049200" y="1832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-З-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0.04444 C -0.08855 0.04444 -0.11563 -0.02639 -0.11563 -0.11297 C -0.11563 -0.21505 -0.0856 -0.25186 -0.06754 -0.26737 L -0.04358 -0.28334 C -0.02553 -0.29908 0.00451 -0.3382 0.00451 -0.45348 C 0.00451 -0.52732 -0.02257 -0.61112 -0.05556 -0.61112 C -0.08855 -0.61112 -0.11563 -0.52732 -0.11563 -0.45348 C -0.11563 -0.3382 -0.0856 -0.29908 -0.06754 -0.28334 L -0.04358 -0.26737 C -0.02553 -0.25186 0.00451 -0.21505 0.00451 -0.11297 C 0.00451 -0.02639 -0.02257 0.04444 -0.05556 0.04444 Z">
                                      <p:cBhvr>
                                        <p:cTn id="36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Кирилл\Рабочий стол\МАМА\детские презентации\Почемучка\284165acb4e6.png"/>
          <p:cNvPicPr/>
          <p:nvPr/>
        </p:nvPicPr>
        <p:blipFill>
          <a:blip r:embed="rId1"/>
          <a:stretch/>
        </p:blipFill>
        <p:spPr>
          <a:xfrm>
            <a:off x="457200" y="380880"/>
            <a:ext cx="3200400" cy="586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Кирилл\Рабочий стол\МАМА\детские презентации\Почемучка\261b97f41fdd.png"/>
          <p:cNvPicPr/>
          <p:nvPr/>
        </p:nvPicPr>
        <p:blipFill>
          <a:blip r:embed="rId2"/>
          <a:stretch/>
        </p:blipFill>
        <p:spPr>
          <a:xfrm>
            <a:off x="4267080" y="304920"/>
            <a:ext cx="3886200" cy="2651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648320" y="3276720"/>
            <a:ext cx="2743200" cy="26668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8840" y="6247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3480" y="25898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8000" y="61711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лтый круж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ДОУ Полянка</cp:lastModifiedBy>
  <dcterms:modified xsi:type="dcterms:W3CDTF">2012-02-06T08:41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