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67F8-3C97-428C-B244-58AF9663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D234-F9A5-47D4-80DC-24F00DB5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3FB4-9C93-422D-A62F-90DD3595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11E-6DE7-4A5E-B790-7E8ABC14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C5C0-AED2-42B4-94AB-508D7334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80BE-ADAF-46D1-908D-5DD6976A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22E3-CADD-47AA-8721-0034FA8B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3EAB-B517-4896-BA21-19CD329F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56AC-2218-4C24-A675-8790F01A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A3D6-C145-4CB6-9499-E4E7BA94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E18-0F49-45F2-9C95-1F0AD427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9D65-CF1E-4F8E-8E61-35B03844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C95C-3B55-4E5F-A277-78F3FC72A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" Target="slide6.xml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777840" y="5624640"/>
            <a:ext cx="5365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Выполнила Левчук И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зам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директора по УР школы № 2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2643120"/>
            <a:ext cx="82803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истательный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анкт-Петербург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уроках математики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35200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ccff"/>
                </a:solidFill>
                <a:latin typeface="Arial"/>
              </a:rPr>
              <a:t>Летний дворец Петра </a:t>
            </a: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1577880"/>
            <a:ext cx="5180040" cy="405612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6095880" y="6095880"/>
            <a:ext cx="636840" cy="457200"/>
          </a:xfrm>
          <a:custGeom>
            <a:avLst/>
            <a:gdLst>
              <a:gd name="textAreaLeft" fmla="*/ 29520 w 636840"/>
              <a:gd name="textAreaRight" fmla="*/ 607320 w 636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080" h="21600">
                <a:moveTo>
                  <a:pt x="0" y="0"/>
                </a:moveTo>
                <a:lnTo>
                  <a:pt x="30080" y="0"/>
                </a:lnTo>
                <a:lnTo>
                  <a:pt x="30080" y="21600"/>
                </a:lnTo>
                <a:lnTo>
                  <a:pt x="0" y="21600"/>
                </a:lnTo>
                <a:close/>
              </a:path>
              <a:path fill="lightenLess" w="30080" h="21600">
                <a:moveTo>
                  <a:pt x="0" y="0"/>
                </a:moveTo>
                <a:lnTo>
                  <a:pt x="30080" y="0"/>
                </a:lnTo>
                <a:lnTo>
                  <a:pt x="28680" y="1400"/>
                </a:lnTo>
                <a:lnTo>
                  <a:pt x="1400" y="1400"/>
                </a:lnTo>
                <a:close/>
              </a:path>
              <a:path fill="darken" w="30080" h="21600">
                <a:moveTo>
                  <a:pt x="30080" y="0"/>
                </a:moveTo>
                <a:lnTo>
                  <a:pt x="30080" y="21600"/>
                </a:lnTo>
                <a:lnTo>
                  <a:pt x="28680" y="20200"/>
                </a:lnTo>
                <a:lnTo>
                  <a:pt x="28680" y="1400"/>
                </a:lnTo>
                <a:close/>
              </a:path>
              <a:path fill="darkenLess" w="30080" h="21600">
                <a:moveTo>
                  <a:pt x="30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80" y="20200"/>
                </a:lnTo>
                <a:close/>
              </a:path>
              <a:path fill="lighten" w="30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80" h="21600">
                <a:moveTo>
                  <a:pt x="8034" y="10800"/>
                </a:moveTo>
                <a:lnTo>
                  <a:pt x="22047" y="3794"/>
                </a:lnTo>
                <a:lnTo>
                  <a:pt x="2204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7775640" y="6095880"/>
            <a:ext cx="649080" cy="465120"/>
          </a:xfrm>
          <a:custGeom>
            <a:avLst/>
            <a:gdLst>
              <a:gd name="textAreaLeft" fmla="*/ 29880 w 649080"/>
              <a:gd name="textAreaRight" fmla="*/ 619200 w 649080"/>
              <a:gd name="textAreaTop" fmla="*/ 29880 h 465120"/>
              <a:gd name="textAreaBottom" fmla="*/ 435240 h 465120"/>
            </a:gdLst>
            <a:ahLst/>
            <a:rect l="textAreaLeft" t="textAreaTop" r="textAreaRight" b="textAreaBottom"/>
            <a:pathLst>
              <a:path w="30136" h="21600">
                <a:moveTo>
                  <a:pt x="0" y="0"/>
                </a:moveTo>
                <a:lnTo>
                  <a:pt x="30136" y="0"/>
                </a:lnTo>
                <a:lnTo>
                  <a:pt x="30136" y="21600"/>
                </a:lnTo>
                <a:lnTo>
                  <a:pt x="0" y="21600"/>
                </a:lnTo>
                <a:close/>
              </a:path>
              <a:path fill="lightenLess" w="30136" h="21600">
                <a:moveTo>
                  <a:pt x="0" y="0"/>
                </a:moveTo>
                <a:lnTo>
                  <a:pt x="30136" y="0"/>
                </a:lnTo>
                <a:lnTo>
                  <a:pt x="28736" y="1400"/>
                </a:lnTo>
                <a:lnTo>
                  <a:pt x="1400" y="1400"/>
                </a:lnTo>
                <a:close/>
              </a:path>
              <a:path fill="darken" w="30136" h="21600">
                <a:moveTo>
                  <a:pt x="30136" y="0"/>
                </a:moveTo>
                <a:lnTo>
                  <a:pt x="30136" y="21600"/>
                </a:lnTo>
                <a:lnTo>
                  <a:pt x="28736" y="20200"/>
                </a:lnTo>
                <a:lnTo>
                  <a:pt x="28736" y="1400"/>
                </a:lnTo>
                <a:close/>
              </a:path>
              <a:path fill="darkenLess" w="30136" h="21600">
                <a:moveTo>
                  <a:pt x="301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6" y="20200"/>
                </a:lnTo>
                <a:close/>
              </a:path>
              <a:path fill="lighten" w="301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6" h="21600">
                <a:moveTo>
                  <a:pt x="8062" y="7493"/>
                </a:moveTo>
                <a:lnTo>
                  <a:pt x="11569" y="7493"/>
                </a:lnTo>
                <a:lnTo>
                  <a:pt x="11569" y="12828"/>
                </a:lnTo>
                <a:cubicBezTo>
                  <a:pt x="11569" y="13751"/>
                  <a:pt x="12370" y="14482"/>
                  <a:pt x="13406" y="14482"/>
                </a:cubicBezTo>
                <a:lnTo>
                  <a:pt x="15068" y="14482"/>
                </a:lnTo>
                <a:cubicBezTo>
                  <a:pt x="16104" y="14482"/>
                  <a:pt x="16905" y="13751"/>
                  <a:pt x="16905" y="12828"/>
                </a:cubicBezTo>
                <a:lnTo>
                  <a:pt x="16905" y="7493"/>
                </a:lnTo>
                <a:lnTo>
                  <a:pt x="15068" y="7493"/>
                </a:lnTo>
                <a:lnTo>
                  <a:pt x="18576" y="3985"/>
                </a:lnTo>
                <a:lnTo>
                  <a:pt x="22249" y="7493"/>
                </a:lnTo>
                <a:lnTo>
                  <a:pt x="20412" y="7493"/>
                </a:lnTo>
                <a:lnTo>
                  <a:pt x="20412" y="12828"/>
                </a:lnTo>
                <a:cubicBezTo>
                  <a:pt x="20412" y="15596"/>
                  <a:pt x="17836" y="18155"/>
                  <a:pt x="15068" y="18155"/>
                </a:cubicBezTo>
                <a:lnTo>
                  <a:pt x="13406" y="18155"/>
                </a:lnTo>
                <a:cubicBezTo>
                  <a:pt x="10638" y="18155"/>
                  <a:pt x="8062" y="15596"/>
                  <a:pt x="8062" y="1282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1600200"/>
            <a:ext cx="2666880" cy="411480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4114800"/>
              <a:gd name="textAreaBottom" fmla="*/ 3984840 h 4114800"/>
            </a:gdLst>
            <a:ahLst/>
            <a:rect l="textAreaLeft" t="textAreaTop" r="textAreaRight" b="textAreaBottom"/>
            <a:pathLst>
              <a:path w="21600" h="33326">
                <a:moveTo>
                  <a:pt x="3600" y="0"/>
                </a:moveTo>
                <a:arcTo wR="3600" hR="3600" stAng="16200000" swAng="-5400000"/>
                <a:lnTo>
                  <a:pt x="0" y="29726"/>
                </a:lnTo>
                <a:arcTo wR="3600" hR="3600" stAng="10800000" swAng="-5400000"/>
                <a:lnTo>
                  <a:pt x="18000" y="333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ичество рельеф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рашавших Лет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орец Петр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ража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ухзначным числ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тором числ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сятков составля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/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 количества единиц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цифры эт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исла перестави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 получится нов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исло, которое больш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комого на 6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олько барельеф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рашало Летний дворец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5219640" y="6129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6985080" y="6129360"/>
            <a:ext cx="611280" cy="431640"/>
          </a:xfrm>
          <a:custGeom>
            <a:avLst/>
            <a:gdLst>
              <a:gd name="textAreaLeft" fmla="*/ 27720 w 611280"/>
              <a:gd name="textAreaRight" fmla="*/ 583560 w 611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0582" h="21600">
                <a:moveTo>
                  <a:pt x="0" y="0"/>
                </a:moveTo>
                <a:lnTo>
                  <a:pt x="30582" y="0"/>
                </a:lnTo>
                <a:lnTo>
                  <a:pt x="30582" y="21600"/>
                </a:lnTo>
                <a:lnTo>
                  <a:pt x="0" y="21600"/>
                </a:lnTo>
                <a:close/>
              </a:path>
              <a:path fill="lightenLess" w="30582" h="21600">
                <a:moveTo>
                  <a:pt x="0" y="0"/>
                </a:moveTo>
                <a:lnTo>
                  <a:pt x="30582" y="0"/>
                </a:lnTo>
                <a:lnTo>
                  <a:pt x="29182" y="1400"/>
                </a:lnTo>
                <a:lnTo>
                  <a:pt x="1400" y="1400"/>
                </a:lnTo>
                <a:close/>
              </a:path>
              <a:path fill="darken" w="30582" h="21600">
                <a:moveTo>
                  <a:pt x="30582" y="0"/>
                </a:moveTo>
                <a:lnTo>
                  <a:pt x="30582" y="21600"/>
                </a:lnTo>
                <a:lnTo>
                  <a:pt x="29182" y="20200"/>
                </a:lnTo>
                <a:lnTo>
                  <a:pt x="29182" y="1400"/>
                </a:lnTo>
                <a:close/>
              </a:path>
              <a:path fill="darkenLess" w="30582" h="21600">
                <a:moveTo>
                  <a:pt x="30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82" y="20200"/>
                </a:lnTo>
                <a:close/>
              </a:path>
              <a:path fill="lighten" w="30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82" h="21600">
                <a:moveTo>
                  <a:pt x="15291" y="3837"/>
                </a:moveTo>
                <a:lnTo>
                  <a:pt x="17867" y="6448"/>
                </a:lnTo>
                <a:lnTo>
                  <a:pt x="17867" y="4707"/>
                </a:lnTo>
                <a:lnTo>
                  <a:pt x="19643" y="4707"/>
                </a:lnTo>
                <a:lnTo>
                  <a:pt x="19643" y="8224"/>
                </a:lnTo>
                <a:lnTo>
                  <a:pt x="22254" y="10800"/>
                </a:lnTo>
                <a:lnTo>
                  <a:pt x="20600" y="10800"/>
                </a:lnTo>
                <a:lnTo>
                  <a:pt x="20600" y="17989"/>
                </a:lnTo>
                <a:lnTo>
                  <a:pt x="9982" y="17989"/>
                </a:lnTo>
                <a:lnTo>
                  <a:pt x="9982" y="10800"/>
                </a:lnTo>
                <a:lnTo>
                  <a:pt x="8328" y="10800"/>
                </a:lnTo>
                <a:close/>
              </a:path>
              <a:path fill="darkenLess" w="30582" h="21600">
                <a:moveTo>
                  <a:pt x="17867" y="6448"/>
                </a:moveTo>
                <a:lnTo>
                  <a:pt x="17867" y="4707"/>
                </a:lnTo>
                <a:lnTo>
                  <a:pt x="19643" y="4707"/>
                </a:lnTo>
                <a:lnTo>
                  <a:pt x="19643" y="8224"/>
                </a:lnTo>
                <a:close/>
              </a:path>
              <a:path fill="darkenLess" w="30582" h="21600">
                <a:moveTo>
                  <a:pt x="14368" y="14299"/>
                </a:moveTo>
                <a:lnTo>
                  <a:pt x="16214" y="14299"/>
                </a:lnTo>
                <a:lnTo>
                  <a:pt x="16214" y="17989"/>
                </a:lnTo>
                <a:lnTo>
                  <a:pt x="20600" y="17989"/>
                </a:lnTo>
                <a:lnTo>
                  <a:pt x="20600" y="10800"/>
                </a:lnTo>
                <a:lnTo>
                  <a:pt x="9982" y="10800"/>
                </a:lnTo>
                <a:lnTo>
                  <a:pt x="9982" y="17989"/>
                </a:lnTo>
                <a:lnTo>
                  <a:pt x="14368" y="179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2f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413000"/>
            <a:ext cx="2043000" cy="1361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00400" y="1447920"/>
            <a:ext cx="2057400" cy="1380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943600" y="1447920"/>
            <a:ext cx="2133720" cy="1430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752480" y="2971800"/>
            <a:ext cx="2125800" cy="142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4876920" y="2971800"/>
            <a:ext cx="2081160" cy="1414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533520" y="4648320"/>
            <a:ext cx="1957320" cy="1309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3352680" y="4648320"/>
            <a:ext cx="2057400" cy="1369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6172200" y="4724280"/>
            <a:ext cx="1935000" cy="1297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400800" y="274320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 ком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33920" y="2590920"/>
            <a:ext cx="121896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 карт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2590920"/>
            <a:ext cx="1143000" cy="609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191120"/>
            <a:ext cx="1219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 колон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4191120"/>
            <a:ext cx="1067040" cy="609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5 то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7 то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5791320"/>
            <a:ext cx="1143000" cy="609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 м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5791320"/>
            <a:ext cx="1219320" cy="609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2,5 ме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579132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9 рельеф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7980480" y="6269040"/>
            <a:ext cx="479160" cy="450720"/>
          </a:xfrm>
          <a:custGeom>
            <a:avLst/>
            <a:gdLst>
              <a:gd name="textAreaLeft" fmla="*/ 29160 w 479160"/>
              <a:gd name="textAreaRight" fmla="*/ 450000 w 479160"/>
              <a:gd name="textAreaTop" fmla="*/ 29160 h 450720"/>
              <a:gd name="textAreaBottom" fmla="*/ 421560 h 450720"/>
            </a:gdLst>
            <a:ahLst/>
            <a:rect l="textAreaLeft" t="textAreaTop" r="textAreaRight" b="textAreaBottom"/>
            <a:pathLst>
              <a:path w="22962" h="21600">
                <a:moveTo>
                  <a:pt x="0" y="0"/>
                </a:moveTo>
                <a:lnTo>
                  <a:pt x="22962" y="0"/>
                </a:lnTo>
                <a:lnTo>
                  <a:pt x="22962" y="21600"/>
                </a:lnTo>
                <a:lnTo>
                  <a:pt x="0" y="21600"/>
                </a:lnTo>
                <a:close/>
              </a:path>
              <a:path fill="lightenLess" w="22962" h="21600">
                <a:moveTo>
                  <a:pt x="0" y="0"/>
                </a:moveTo>
                <a:lnTo>
                  <a:pt x="22962" y="0"/>
                </a:lnTo>
                <a:lnTo>
                  <a:pt x="21562" y="1400"/>
                </a:lnTo>
                <a:lnTo>
                  <a:pt x="1400" y="1400"/>
                </a:lnTo>
                <a:close/>
              </a:path>
              <a:path fill="darken" w="22962" h="21600">
                <a:moveTo>
                  <a:pt x="22962" y="0"/>
                </a:moveTo>
                <a:lnTo>
                  <a:pt x="22962" y="21600"/>
                </a:lnTo>
                <a:lnTo>
                  <a:pt x="21562" y="20200"/>
                </a:lnTo>
                <a:lnTo>
                  <a:pt x="21562" y="1400"/>
                </a:lnTo>
                <a:close/>
              </a:path>
              <a:path fill="darkenLess" w="22962" h="21600">
                <a:moveTo>
                  <a:pt x="229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62" y="20200"/>
                </a:lnTo>
                <a:close/>
              </a:path>
              <a:path fill="lighten" w="229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62" h="21600">
                <a:moveTo>
                  <a:pt x="4474" y="10800"/>
                </a:moveTo>
                <a:lnTo>
                  <a:pt x="18487" y="3794"/>
                </a:lnTo>
                <a:lnTo>
                  <a:pt x="1848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8556480" y="6234120"/>
            <a:ext cx="479520" cy="507960"/>
          </a:xfrm>
          <a:custGeom>
            <a:avLst/>
            <a:gdLst>
              <a:gd name="textAreaLeft" fmla="*/ 30960 w 479520"/>
              <a:gd name="textAreaRight" fmla="*/ 448560 w 479520"/>
              <a:gd name="textAreaTop" fmla="*/ 30960 h 507960"/>
              <a:gd name="textAreaBottom" fmla="*/ 477000 h 507960"/>
            </a:gdLst>
            <a:ahLst/>
            <a:rect l="textAreaLeft" t="textAreaTop" r="textAreaRight" b="textAreaBottom"/>
            <a:pathLst>
              <a:path w="21600" h="22880">
                <a:moveTo>
                  <a:pt x="0" y="0"/>
                </a:moveTo>
                <a:lnTo>
                  <a:pt x="21600" y="0"/>
                </a:lnTo>
                <a:lnTo>
                  <a:pt x="21600" y="22880"/>
                </a:lnTo>
                <a:lnTo>
                  <a:pt x="0" y="22880"/>
                </a:lnTo>
                <a:close/>
              </a:path>
              <a:path fill="lightenLess" w="21600" h="228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80">
                <a:moveTo>
                  <a:pt x="21600" y="0"/>
                </a:moveTo>
                <a:lnTo>
                  <a:pt x="21600" y="22880"/>
                </a:lnTo>
                <a:lnTo>
                  <a:pt x="20200" y="21480"/>
                </a:lnTo>
                <a:lnTo>
                  <a:pt x="20200" y="1400"/>
                </a:lnTo>
                <a:close/>
              </a:path>
              <a:path fill="darkenLess" w="21600" h="22880">
                <a:moveTo>
                  <a:pt x="21600" y="22880"/>
                </a:moveTo>
                <a:lnTo>
                  <a:pt x="0" y="22880"/>
                </a:lnTo>
                <a:lnTo>
                  <a:pt x="1400" y="21480"/>
                </a:lnTo>
                <a:lnTo>
                  <a:pt x="20200" y="21480"/>
                </a:lnTo>
                <a:close/>
              </a:path>
              <a:path fill="lighten" w="21600" h="22880">
                <a:moveTo>
                  <a:pt x="0" y="228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80"/>
                </a:lnTo>
                <a:close/>
              </a:path>
              <a:path fill="darken" w="21600" h="22880">
                <a:moveTo>
                  <a:pt x="3794" y="8133"/>
                </a:moveTo>
                <a:lnTo>
                  <a:pt x="7301" y="8133"/>
                </a:lnTo>
                <a:lnTo>
                  <a:pt x="7301" y="13468"/>
                </a:lnTo>
                <a:cubicBezTo>
                  <a:pt x="7301" y="14391"/>
                  <a:pt x="8102" y="15122"/>
                  <a:pt x="9138" y="15122"/>
                </a:cubicBezTo>
                <a:lnTo>
                  <a:pt x="10800" y="15122"/>
                </a:lnTo>
                <a:cubicBezTo>
                  <a:pt x="11836" y="15122"/>
                  <a:pt x="12636" y="14391"/>
                  <a:pt x="12636" y="13468"/>
                </a:cubicBezTo>
                <a:lnTo>
                  <a:pt x="12636" y="8133"/>
                </a:lnTo>
                <a:lnTo>
                  <a:pt x="10800" y="8133"/>
                </a:lnTo>
                <a:lnTo>
                  <a:pt x="14308" y="4625"/>
                </a:lnTo>
                <a:lnTo>
                  <a:pt x="17981" y="8133"/>
                </a:lnTo>
                <a:lnTo>
                  <a:pt x="16144" y="8133"/>
                </a:lnTo>
                <a:lnTo>
                  <a:pt x="16144" y="13468"/>
                </a:lnTo>
                <a:cubicBezTo>
                  <a:pt x="16144" y="16236"/>
                  <a:pt x="13568" y="18795"/>
                  <a:pt x="10800" y="18795"/>
                </a:cubicBezTo>
                <a:lnTo>
                  <a:pt x="9138" y="18795"/>
                </a:lnTo>
                <a:cubicBezTo>
                  <a:pt x="6370" y="18795"/>
                  <a:pt x="3794" y="16236"/>
                  <a:pt x="3794" y="1346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Содерж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8360" y="1413000"/>
            <a:ext cx="2043000" cy="1361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00400" y="1447920"/>
            <a:ext cx="2057400" cy="1380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943600" y="1447920"/>
            <a:ext cx="2133720" cy="1430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752480" y="2971800"/>
            <a:ext cx="2125800" cy="1425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876920" y="2971800"/>
            <a:ext cx="2081160" cy="1414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533520" y="4648320"/>
            <a:ext cx="1957320" cy="130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3352680" y="4648320"/>
            <a:ext cx="2057400" cy="1369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6172200" y="4724280"/>
            <a:ext cx="1935000" cy="129708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609588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701028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Arial"/>
              </a:rPr>
              <a:t>Русский муз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5776920" cy="4191120"/>
          </a:xfrm>
          <a:prstGeom prst="rect">
            <a:avLst/>
          </a:prstGeom>
          <a:ln w="0">
            <a:noFill/>
          </a:ln>
          <a:effectLst>
            <a:outerShdw dist="296447" dir="18793712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609588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701028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792468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1447920"/>
            <a:ext cx="2667240" cy="4267080"/>
          </a:xfrm>
          <a:custGeom>
            <a:avLst/>
            <a:gdLst>
              <a:gd name="textAreaLeft" fmla="*/ 129960 w 2667240"/>
              <a:gd name="textAreaRight" fmla="*/ 2537280 w 2667240"/>
              <a:gd name="textAreaTop" fmla="*/ 129960 h 4267080"/>
              <a:gd name="textAreaBottom" fmla="*/ 4137120 h 4267080"/>
            </a:gdLst>
            <a:ahLst/>
            <a:rect l="textAreaLeft" t="textAreaTop" r="textAreaRight" b="textAreaBottom"/>
            <a:pathLst>
              <a:path w="21600" h="34554">
                <a:moveTo>
                  <a:pt x="3600" y="0"/>
                </a:moveTo>
                <a:arcTo wR="3600" hR="3600" stAng="16200000" swAng="-5400000"/>
                <a:lnTo>
                  <a:pt x="0" y="30954"/>
                </a:lnTo>
                <a:arcTo wR="3600" hR="3600" stAng="10800000" swAng="-5400000"/>
                <a:lnTo>
                  <a:pt x="18000" y="34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 вновь организуем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в 1898г.) Русский муз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Академии художе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ыло передано на 4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ртины больше, чем и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рмитажа. Суммар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исло в 1898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ставляет 1 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5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годняшн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ртинного фон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олько картин переда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рмитаж тогда, ес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годня все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х в Русском муз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5 000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5219640" y="609300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Дворец А.Д. Меншик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340080" y="1341360"/>
            <a:ext cx="5695920" cy="420372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609588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701028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792468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276640"/>
            <a:ext cx="2819520" cy="42670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267080"/>
              <a:gd name="textAreaBottom" fmla="*/ 4129560 h 4267080"/>
            </a:gdLst>
            <a:ahLst/>
            <a:rect l="textAreaLeft" t="textAreaTop" r="textAreaRight" b="textAreaBottom"/>
            <a:pathLst>
              <a:path w="21600" h="32688">
                <a:moveTo>
                  <a:pt x="3600" y="0"/>
                </a:moveTo>
                <a:arcTo wR="3600" hR="3600" stAng="16200000" swAng="-5400000"/>
                <a:lnTo>
                  <a:pt x="0" y="29088"/>
                </a:lnTo>
                <a:arcTo wR="3600" hR="3600" stAng="10800000" swAng="-5400000"/>
                <a:lnTo>
                  <a:pt x="18000" y="326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исло парадных комнат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ншиковском двор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ражается трехзнач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ислом. Цифра десят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нем в 5 ра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е цифры сотен, 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фра единиц на 5 мень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фры десят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олько комнат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ншиковском дворц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3" action="ppaction://hlinksldjump"/>
          </p:cNvPr>
          <p:cNvSpPr/>
          <p:nvPr/>
        </p:nvSpPr>
        <p:spPr>
          <a:xfrm>
            <a:off x="5219640" y="6093000"/>
            <a:ext cx="720720" cy="46800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8000"/>
              <a:gd name="textAreaBottom" fmla="*/ 437760 h 468000"/>
            </a:gdLst>
            <a:ahLst/>
            <a:rect l="textAreaLeft" t="textAreaTop" r="textAreaRight" b="textAreaBottom"/>
            <a:pathLst>
              <a:path w="33255" h="21600">
                <a:moveTo>
                  <a:pt x="0" y="0"/>
                </a:moveTo>
                <a:lnTo>
                  <a:pt x="33255" y="0"/>
                </a:lnTo>
                <a:lnTo>
                  <a:pt x="33255" y="21600"/>
                </a:lnTo>
                <a:lnTo>
                  <a:pt x="0" y="21600"/>
                </a:lnTo>
                <a:close/>
              </a:path>
              <a:path fill="lightenLess" w="33255" h="21600">
                <a:moveTo>
                  <a:pt x="0" y="0"/>
                </a:moveTo>
                <a:lnTo>
                  <a:pt x="33255" y="0"/>
                </a:lnTo>
                <a:lnTo>
                  <a:pt x="31855" y="1400"/>
                </a:lnTo>
                <a:lnTo>
                  <a:pt x="1400" y="1400"/>
                </a:lnTo>
                <a:close/>
              </a:path>
              <a:path fill="darken" w="33255" h="21600">
                <a:moveTo>
                  <a:pt x="33255" y="0"/>
                </a:moveTo>
                <a:lnTo>
                  <a:pt x="33255" y="21600"/>
                </a:lnTo>
                <a:lnTo>
                  <a:pt x="31855" y="20200"/>
                </a:lnTo>
                <a:lnTo>
                  <a:pt x="31855" y="1400"/>
                </a:lnTo>
                <a:close/>
              </a:path>
              <a:path fill="darkenLess" w="33255" h="21600">
                <a:moveTo>
                  <a:pt x="33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55" y="20200"/>
                </a:lnTo>
                <a:close/>
              </a:path>
              <a:path fill="lighten" w="33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Казанский со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5543640" cy="371808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609588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701028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7920000" y="6093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72200" y="1447920"/>
            <a:ext cx="2819520" cy="40384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038480"/>
              <a:gd name="textAreaBottom" fmla="*/ 3900960 h 4038480"/>
            </a:gdLst>
            <a:ahLst/>
            <a:rect l="textAreaLeft" t="textAreaTop" r="textAreaRight" b="textAreaBottom"/>
            <a:pathLst>
              <a:path w="21600" h="30937">
                <a:moveTo>
                  <a:pt x="3600" y="0"/>
                </a:moveTo>
                <a:arcTo wR="3600" hR="3600" stAng="16200000" swAng="-5400000"/>
                <a:lnTo>
                  <a:pt x="0" y="27337"/>
                </a:lnTo>
                <a:arcTo wR="3600" hR="3600" stAng="10800000" swAng="-5400000"/>
                <a:lnTo>
                  <a:pt x="18000" y="309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 числа колон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занского соб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28 установле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нутри н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36 числа всех колон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разуют отдель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лоннаду, а ост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 стоят у трех в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со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олько вс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лонн в собо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5219640" y="6129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"/>
              </a:rPr>
              <a:t>Исаакиевский со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5627520" cy="42544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609588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701028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792468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1523880"/>
            <a:ext cx="2666880" cy="403884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4038840"/>
              <a:gd name="textAreaBottom" fmla="*/ 3908880 h 4038840"/>
            </a:gdLst>
            <a:ahLst/>
            <a:rect l="textAreaLeft" t="textAreaTop" r="textAreaRight" b="textAreaBottom"/>
            <a:pathLst>
              <a:path w="21600" h="32710">
                <a:moveTo>
                  <a:pt x="3600" y="0"/>
                </a:moveTo>
                <a:arcTo wR="3600" hR="3600" stAng="16200000" swAng="-5400000"/>
                <a:lnTo>
                  <a:pt x="0" y="29110"/>
                </a:lnTo>
                <a:arcTo wR="3600" hR="3600" stAng="10800000" swAng="-5400000"/>
                <a:lnTo>
                  <a:pt x="18000" y="327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 изготовление од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алахитовой колон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центрального иконоста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аакиевского собо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шло на 0,8 т камня больш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ем на изготовление од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азуритовой колон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колько камня пошл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 каждую колонну, ес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звестно, что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малахитов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лонн его использова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 13,6 т больш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ем на 2 лазуритовые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19640" y="609300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"/>
              </a:rPr>
              <a:t>Кунсткам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5832360" cy="390384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609588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701028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792468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600200"/>
            <a:ext cx="2743200" cy="396252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3962520"/>
              <a:gd name="textAreaBottom" fmla="*/ 3828600 h 3962520"/>
            </a:gdLst>
            <a:ahLst/>
            <a:rect l="textAreaLeft" t="textAreaTop" r="textAreaRight" b="textAreaBottom"/>
            <a:pathLst>
              <a:path w="21600" h="31200">
                <a:moveTo>
                  <a:pt x="3600" y="0"/>
                </a:moveTo>
                <a:arcTo wR="3600" hR="3600" stAng="16200000" swAng="-5400000"/>
                <a:lnTo>
                  <a:pt x="0" y="27600"/>
                </a:lnTo>
                <a:arcTo wR="3600" hR="3600" stAng="10800000" swAng="-5400000"/>
                <a:lnTo>
                  <a:pt x="18000" y="31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дание Кунсткаме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лане явля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моугольник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ины сторон котор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носятся, как 3:19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периметр равен 220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числите высот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ашни зда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известно, чт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го ширина составля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5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/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 % от высоты баш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5219640" y="609300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Петропавловский со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5488200" cy="388296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609588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701028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792468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1676520"/>
            <a:ext cx="2895840" cy="411480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4114800"/>
              <a:gd name="textAreaBottom" fmla="*/ 3973680 h 4114800"/>
            </a:gdLst>
            <a:ahLst/>
            <a:rect l="textAreaLeft" t="textAreaTop" r="textAreaRight" b="textAreaBottom"/>
            <a:pathLst>
              <a:path w="21600" h="30691">
                <a:moveTo>
                  <a:pt x="3600" y="0"/>
                </a:moveTo>
                <a:arcTo wR="3600" hR="3600" stAng="16200000" swAng="-5400000"/>
                <a:lnTo>
                  <a:pt x="0" y="27091"/>
                </a:lnTo>
                <a:arcTo wR="3600" hR="3600" stAng="10800000" swAng="-5400000"/>
                <a:lnTo>
                  <a:pt x="18000" y="306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1723 году колокольн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ора Петра и Пав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мела высоту 106 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 связа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пожаром перестрой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е в 1757 – 1758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ота колоколь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росла 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3/2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воначаль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ова выс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ынешней колоколь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тропавловского собор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3" action="ppaction://hlinksldjump"/>
          </p:cNvPr>
          <p:cNvSpPr/>
          <p:nvPr/>
        </p:nvSpPr>
        <p:spPr>
          <a:xfrm>
            <a:off x="5219640" y="609300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Эрмита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419640" y="1341360"/>
            <a:ext cx="5486400" cy="441972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609588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701028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792468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371600"/>
            <a:ext cx="2971800" cy="449568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4495680"/>
              <a:gd name="textAreaBottom" fmla="*/ 4350600 h 4495680"/>
            </a:gdLst>
            <a:ahLst/>
            <a:rect l="textAreaLeft" t="textAreaTop" r="textAreaRight" b="textAreaBottom"/>
            <a:pathLst>
              <a:path w="21600" h="32675">
                <a:moveTo>
                  <a:pt x="3600" y="0"/>
                </a:moveTo>
                <a:arcTo wR="3600" hR="3600" stAng="16200000" swAng="-5400000"/>
                <a:lnTo>
                  <a:pt x="0" y="29075"/>
                </a:lnTo>
                <a:arcTo wR="3600" hR="3600" stAng="10800000" swAng="-5400000"/>
                <a:lnTo>
                  <a:pt x="18000" y="326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В коллекция Эрмитаж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больше 2 млн. 800 ты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предме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Если рассматривать 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каждый день по 8 час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то сколько л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на это уйде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если у кажд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предмета задержа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всего на 1 минут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5219640" y="609300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0T18:28:19Z</dcterms:created>
  <dc:creator>Николайчук</dc:creator>
  <dc:description/>
  <dc:language>en-US</dc:language>
  <cp:lastModifiedBy>Оксана</cp:lastModifiedBy>
  <dcterms:modified xsi:type="dcterms:W3CDTF">2011-08-07T18:00:57Z</dcterms:modified>
  <cp:revision>16</cp:revision>
  <dc:subject/>
  <dc:title>Архитектура</dc:title>
</cp:coreProperties>
</file>