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0.jpeg" ContentType="image/jpeg"/>
  <Override PartName="/ppt/media/image11.jpeg" ContentType="image/jpeg"/>
  <Override PartName="/ppt/media/clap.wav" ContentType="audio/x-wav"/>
  <Override PartName="/ppt/media/image1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3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4.jpeg" ContentType="image/jpeg"/>
  <Override PartName="/ppt/media/image19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A8A-70A7-42DA-AD56-0A8B30CE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384-2A78-4315-908C-E69A2B8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0BA-44AA-4AC0-B2C2-2270653A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DBD-A004-4606-88FB-7900A104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A2AD-1A30-4F2B-8395-71D4DEFC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179A-1700-45FE-BA10-22946866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9E92-337F-4D44-9A9E-3A679A9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54F4-C99E-4941-91B2-65D3964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4D0E-FE5A-4ABF-94E5-F030964E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478F-A902-48D4-9B1D-29D4F3F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445C-3075-4A52-934E-99A2EA5D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751-AFB0-4E05-9AFF-C2EB7425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665-F581-4E4E-802A-D03070F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EF79-862B-4EDB-B757-9C82196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ED5C-E037-4FC1-8CA5-14019CB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EDD8-B6F9-4D1F-A9EC-0A03FBF7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9F54-92F5-4472-81A3-B8298051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F00-9B8A-4DED-A20E-D8D7087D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534-7DF0-408E-9A0E-76E48878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AA5-4D39-4392-8FF9-57A3E30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C81-DC94-4E65-92AE-D1E7BEC8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841-9FEF-43FB-B52F-7592CEB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97D-F73A-40F8-86CF-DD3D0088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BFC-2C55-402C-9276-679FBA69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26BB-DC60-436A-A23D-88373AA7D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C02C-FFAF-4590-8FFC-98823D46BD2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Monotype Corsiva"/>
              </a:rPr>
              <a:t>Древнерусское государство при Владимире</a:t>
            </a:r>
            <a:endParaRPr b="0" lang="en-US" sz="80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484360" y="2708280"/>
            <a:ext cx="41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Святосла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10920" y="3571920"/>
            <a:ext cx="792360" cy="1008000"/>
          </a:xfrm>
          <a:prstGeom prst="line">
            <a:avLst/>
          </a:prstGeom>
          <a:ln w="127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571920"/>
            <a:ext cx="720720" cy="1008000"/>
          </a:xfrm>
          <a:prstGeom prst="line">
            <a:avLst/>
          </a:prstGeom>
          <a:ln w="127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860640"/>
            <a:ext cx="0" cy="1368720"/>
          </a:xfrm>
          <a:prstGeom prst="line">
            <a:avLst/>
          </a:prstGeom>
          <a:ln w="127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36392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Яропол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501156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Оле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43700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Владим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08360" y="189000"/>
            <a:ext cx="2082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82720" y="533520"/>
            <a:ext cx="5560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6950"/>
                </a:solidFill>
                <a:latin typeface="Monotype Corsiva"/>
              </a:rPr>
              <a:t>Усобица – война между князьями</a:t>
            </a:r>
            <a:endParaRPr b="0" lang="en-US" sz="7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8263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19640" y="0"/>
            <a:ext cx="4824360" cy="393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267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e9e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692520" cy="4416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00720" y="1557360"/>
            <a:ext cx="439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Monotype Corsiva"/>
              </a:rPr>
              <a:t>княз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Monotype Corsiva"/>
              </a:rPr>
              <a:t>Владими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4365720"/>
            <a:ext cx="453708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Monotype Corsiva"/>
              </a:rPr>
              <a:t>Годы пра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Monotype Corsiva"/>
              </a:rPr>
              <a:t>(980 – 1015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7339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1066680"/>
            <a:ext cx="3337200" cy="452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4048200" cy="57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353360" y="0"/>
            <a:ext cx="1790640" cy="269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0" y="44355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620040" y="3048120"/>
            <a:ext cx="252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e9e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00"/>
                </a:solidFill>
                <a:latin typeface="Monotype Corsiva"/>
              </a:rPr>
              <a:t>Заслуги Владимира: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99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Восстановил вновь единство Русской земл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99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Укрепил систему управления страно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99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Продолжил активную внешнюю политику Святослав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9933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Создал оборонительную систему на юг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65956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e9e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0" cy="3714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19640" y="2743200"/>
            <a:ext cx="572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Ольг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4267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-160560"/>
            <a:ext cx="7543800" cy="25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00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2131920"/>
            <a:ext cx="777240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Monotype Corsiva"/>
              </a:rPr>
              <a:t>ЦЕЛЬ УРОКА: рассмотреть историю  Древнерусского государства при князе Владимире, причины, процесс и итоги крещения Ру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6600"/>
                </a:solidFill>
                <a:latin typeface="Times New Roman"/>
              </a:rPr>
              <a:t>МОНОТЕИЗМ – единобожие, вера в одного Бога.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520" y="44953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6600"/>
                </a:solidFill>
                <a:latin typeface="Times New Roman"/>
              </a:rPr>
              <a:t>«Повесть временных лет»</a:t>
            </a:r>
            <a:endParaRPr b="0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5791320"/>
            <a:ext cx="7620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5561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Работа с документом</a:t>
            </a: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стр. 54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3200" y="2057400"/>
            <a:ext cx="63993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86950"/>
                </a:solidFill>
                <a:latin typeface="Times New Roman"/>
              </a:rPr>
              <a:t>Как летописец объясняет отказ Владимира от других религий?</a:t>
            </a:r>
            <a:endParaRPr b="0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e9e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76360" cy="3174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2293920" cy="278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2802240" cy="309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362320" y="1523880"/>
            <a:ext cx="428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6600"/>
                </a:solidFill>
                <a:latin typeface="Times New Roman"/>
              </a:rPr>
              <a:t>ЛИТУРГИЯ – византийская православная служба.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56386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e9e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Monotype Corsiva"/>
              </a:rPr>
              <a:t>Исторические причины крещения Руси: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onotype Corsiva"/>
              </a:rPr>
              <a:t>Новая вера способствовала укреплению княжеской власти, объединению различных племен в державе Рюрикович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onotype Corsiva"/>
              </a:rPr>
              <a:t>Этого требовали международные условия. Почти весь европейский мир уже перешел к христианству, и Русь более не могла оставаться языческой окраин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onotype Corsiva"/>
              </a:rPr>
              <a:t>Христианство приобщало Русь к высокой духовности, важнейшим достижениям культуры. Оно вводило новые правила жизни людей, запрещало многоженство и кровавые жертвоприношения. Укреплялись семьи, смягчались нрав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86950"/>
                </a:solidFill>
                <a:latin typeface="Times New Roman"/>
              </a:rPr>
              <a:t>Работа с учебником</a:t>
            </a:r>
            <a:br>
              <a:rPr sz="5400"/>
            </a:br>
            <a:r>
              <a:rPr b="1" lang="en-US" sz="5400" spc="-1" strike="noStrike">
                <a:solidFill>
                  <a:srgbClr val="786950"/>
                </a:solidFill>
                <a:latin typeface="Times New Roman"/>
              </a:rPr>
              <a:t>стр. 50</a:t>
            </a:r>
            <a:endParaRPr b="0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66760" y="52560"/>
            <a:ext cx="59612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e9e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3300"/>
                </a:solidFill>
                <a:latin typeface="Monotype Corsiva"/>
              </a:rPr>
              <a:t>Крещение Владимира</a:t>
            </a:r>
            <a:br>
              <a:rPr sz="7200"/>
            </a:br>
            <a:r>
              <a:rPr b="1" lang="en-US" sz="7200" spc="-1" strike="noStrike">
                <a:solidFill>
                  <a:srgbClr val="993300"/>
                </a:solidFill>
                <a:latin typeface="Monotype Corsiva"/>
              </a:rPr>
              <a:t>988 год</a:t>
            </a:r>
            <a:endParaRPr b="0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75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Крещение Рус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3733920" cy="2455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733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Был грозным князь сей для врагов</a:t>
            </a:r>
            <a:br>
              <a:rPr sz="4000"/>
            </a:br>
            <a:r>
              <a:rPr b="0" i="1" lang="ru-RU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От Киева до Цареграда,</a:t>
            </a:r>
            <a:br>
              <a:rPr sz="4000"/>
            </a:br>
            <a:r>
              <a:rPr b="0" i="1" lang="ru-RU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Но плохо слушал он волхвов,</a:t>
            </a:r>
            <a:br>
              <a:rPr sz="4000"/>
            </a:br>
            <a:r>
              <a:rPr b="0" i="1" lang="ru-RU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И смерть была ему наградой. </a:t>
            </a:r>
            <a:br>
              <a:rPr sz="4000"/>
            </a:b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10552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Олег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324036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5202000" cy="3902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042920" y="0"/>
            <a:ext cx="4340160" cy="3456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500720" y="3105000"/>
            <a:ext cx="4286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e9e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Monotype Corsiva"/>
              </a:rPr>
              <a:t>Значение крещения Руси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068640"/>
            <a:ext cx="4319640" cy="231876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Крещение 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князем Владимиром </a:t>
            </a:r>
            <a:r>
              <a:rPr b="1" lang="en-US" sz="3200" spc="-1" strike="noStrike">
                <a:solidFill>
                  <a:srgbClr val="993300"/>
                </a:solidFill>
                <a:latin typeface="Monotype Corsiv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Monotype Corsiva"/>
              </a:rPr>
              <a:t>(9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1628640"/>
            <a:ext cx="2916000" cy="161352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Улуч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междунар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положения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628640"/>
            <a:ext cx="2879640" cy="15282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Укр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киевского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628640"/>
            <a:ext cx="2340000" cy="144288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Спло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2708280"/>
            <a:ext cx="50328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24360" y="2708280"/>
            <a:ext cx="50328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270828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5084640"/>
            <a:ext cx="2305080" cy="144288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Смяг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нра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5084640"/>
            <a:ext cx="2952720" cy="183564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Возникнов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Рус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правосла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4941720"/>
            <a:ext cx="2952720" cy="22284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пись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кам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строитель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Monotype Corsiva"/>
              </a:rPr>
              <a:t>жив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050920" y="4723920"/>
            <a:ext cx="50328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227280" y="4724280"/>
            <a:ext cx="289080" cy="2174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00720" y="472392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Почему жестокий, нравственно распущенный человек, убивший своего родного брата, стал святым?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При князе Владимире сложилось Древнерусское государство с единой территорией, системой власти, единой верой и православной культурой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5943240"/>
            <a:ext cx="7620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7, устно ответить на вопро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лектронном варианте составить кроссворд или тест по тем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до 10 вопрос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Написать рассказ от имени греческого купца, побывавшего в Древнерусском государстве при правлении Владими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сообщение о Ярославе Мудр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Не смог он греков победить,</a:t>
            </a:r>
            <a:br>
              <a:rPr sz="4400"/>
            </a:b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«По людям» стал потом ходить.</a:t>
            </a:r>
            <a:br>
              <a:rPr sz="4400"/>
            </a:b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Но много дани захотел – </a:t>
            </a:r>
            <a:br>
              <a:rPr sz="4400"/>
            </a:b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Печален был его удел. 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181120" y="4952880"/>
            <a:ext cx="3961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Игорь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За Мала замуж не пошла,</a:t>
            </a:r>
            <a:br>
              <a:rPr sz="4000"/>
            </a:br>
            <a:r>
              <a:rPr b="0" i="1" lang="en-US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Его послов живьем сожгла,</a:t>
            </a:r>
            <a:br>
              <a:rPr sz="4000"/>
            </a:br>
            <a:r>
              <a:rPr b="0" i="1" lang="en-US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Во всем порядок навела,</a:t>
            </a:r>
            <a:br>
              <a:rPr sz="4000"/>
            </a:br>
            <a:r>
              <a:rPr b="0" i="1" lang="en-US" sz="40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Потом крещенье приняла.</a:t>
            </a: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81120" y="5257440"/>
            <a:ext cx="3961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Ольга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Хазар разбил, болгар разбил.</a:t>
            </a:r>
            <a:br>
              <a:rPr sz="4400"/>
            </a:b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Да, жить он дома не любил.</a:t>
            </a:r>
            <a:br>
              <a:rPr sz="4400"/>
            </a:b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Как воин, голову свою</a:t>
            </a:r>
            <a:br>
              <a:rPr sz="4400"/>
            </a:br>
            <a:r>
              <a:rPr b="0" i="1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В неравном он сложил бою.</a:t>
            </a:r>
            <a:r>
              <a:rPr b="0" lang="en-US" sz="4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181120" y="5029200"/>
            <a:ext cx="3961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Святослав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476280"/>
            <a:ext cx="76201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езультате восстания древлян против князя Игоря княгиня Ольга устано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ур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полюдь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новый вид нало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штраф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зычество – эт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религия, которую исповедовали славя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вид идолопоклон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культовый обря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е обря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ликий князь – эт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глава великого Киевского княжества 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в. на Рус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предводитель дружи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член Совета старейши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глава народного собрания у славя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475920"/>
            <a:ext cx="76201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че – эт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народное собр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феодальная верхуш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родоплеменная зна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Совет старейш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легенде город Киев был назван в чес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Хор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К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Щ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еру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точные славяне поклонялис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Перун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Один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Сварог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уриш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07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Почему жестокий, нравственно распущенный человек, убивший своего родного брата, стал святым?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9:54:38Z</dcterms:created>
  <dc:creator>Пользователь</dc:creator>
  <dc:description/>
  <dc:language>en-US</dc:language>
  <cp:lastModifiedBy>Ученик</cp:lastModifiedBy>
  <dcterms:modified xsi:type="dcterms:W3CDTF">2008-01-30T05:55:16Z</dcterms:modified>
  <cp:revision>19</cp:revision>
  <dc:subject/>
  <dc:title>Древнерусское государство при Владимире</dc:title>
</cp:coreProperties>
</file>