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lick.wav" ContentType="audio/x-wav"/>
  <Override PartName="/ppt/media/image7.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308B-2837-46D8-B257-8775FE1215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26C3-9833-452C-BC5B-9636AD2B042B}"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734F-70A3-47B6-97EB-9D57188AEC90}"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D2B7-53D3-4CAA-88FE-B17D1F843A54}"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81D8-13FE-4C06-91EC-14184870AB28}"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DE22-B785-48BD-AF7F-8DD844DFA404}"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7F84-51ED-455C-B7C5-62A53CFCAA1D}"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0503-DA7C-4661-B15D-0D17CF986147}"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5055-A0E7-4603-B8AE-DD58245F12FA}"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59E3-1DF5-4D80-B58D-783FA4E40E53}"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7619-A02B-4B95-8339-26AC6F8E5A6D}"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F30F-AD30-4CEF-AFB7-7B67A2862358}"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5531-2B22-4306-A299-B97881CF2219}"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488F-1763-44C5-82CC-4C2ED7016634}"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44E8-F96F-4E27-878F-2E31DB597918}"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7EC2-E30C-4B8B-A02B-6668BE1EA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9F3D-5E03-46BE-99D7-288A72E2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BE1B1-4E98-42A6-A237-DDA2A3887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481C1-877B-4791-8BC0-BB11AB451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66DDB-580C-47BA-BA9B-82516A763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2955-D9DD-439B-9B9E-9A57EFA00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50E4-B05D-445F-BCAF-454196F91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1D7C4-F136-43AB-B0C4-76707E393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5F47A-EBF3-412C-9FA5-FB7BEE3B3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5C146-B9ED-4F0F-B1C8-B1C6A2F9B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D74F2-F89E-45DA-8EFE-7B8FB8C45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33B4-74D4-4336-B3F4-11AA47DC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7F4C9-458E-46DB-B2AC-C3E7EFC63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293E-8A20-4C49-A26E-5D14C29E8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7B842-B627-4A20-A186-AFC8356B2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DFFB4-15AC-43E0-AA7D-A32351E77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51538-5BD8-400C-BF66-01CDEFB19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3D356-9920-44E4-93D4-8FBF9741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CD21-A8B3-4169-BEF6-2689A484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C5BE-5003-488F-8DF6-AEB3581B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A900-E6A6-4FFD-AA7D-C49F015ED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4A80-2D4B-45A9-BA85-C73F745CC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AE4A-CB07-4250-8292-69B7E42F5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6916-103B-4F5B-95A4-B1253B85D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7CC2-3C0D-4BD2-A4C4-90B98E04371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958D-E6A2-4468-87F5-19763FEE757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lick.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80880"/>
            <a:ext cx="7772400" cy="1470240"/>
          </a:xfrm>
          <a:prstGeom prst="rect">
            <a:avLst/>
          </a:prstGeom>
          <a:solidFill>
            <a:srgbClr val="ffcc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Древние олимпийские игры в Олимпии .</a:t>
            </a:r>
            <a:endParaRPr b="0" lang="en-US" sz="4400" spc="-1" strike="noStrike">
              <a:solidFill>
                <a:srgbClr val="ffff99"/>
              </a:solidFill>
              <a:latin typeface="Arial"/>
            </a:endParaRPr>
          </a:p>
        </p:txBody>
      </p:sp>
      <p:pic>
        <p:nvPicPr>
          <p:cNvPr id="168" name="Picture 3" descr=""/>
          <p:cNvPicPr/>
          <p:nvPr/>
        </p:nvPicPr>
        <p:blipFill>
          <a:blip r:embed="rId1"/>
          <a:stretch/>
        </p:blipFill>
        <p:spPr>
          <a:xfrm>
            <a:off x="1371600" y="2057400"/>
            <a:ext cx="6400800" cy="4191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380880"/>
            <a:ext cx="4038480" cy="57499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 панкратионе позволялось все: любой удар, захват, пинки ногами, болевые приемы и даже... укусы. Позже в программу Игр были включены бег в вооружении, бег трубачей и герольдов, состязания колесниц, запряженных мулами, соревнования для детей по борьбе, скачкам, пятиборью, а в 200 году до н. э., на 145-й Олимпиаде, появляется даже панкратион детей. </a:t>
            </a:r>
            <a:endParaRPr b="0" lang="en-US" sz="2400" spc="-1" strike="noStrike">
              <a:solidFill>
                <a:srgbClr val="ffffff"/>
              </a:solidFill>
              <a:latin typeface="Verdana"/>
            </a:endParaRPr>
          </a:p>
        </p:txBody>
      </p:sp>
      <p:pic>
        <p:nvPicPr>
          <p:cNvPr id="183" name="Picture 6" descr=""/>
          <p:cNvPicPr/>
          <p:nvPr/>
        </p:nvPicPr>
        <p:blipFill>
          <a:blip r:embed="rId2"/>
          <a:stretch/>
        </p:blipFill>
        <p:spPr>
          <a:xfrm>
            <a:off x="4800600" y="609480"/>
            <a:ext cx="4114800" cy="5105520"/>
          </a:xfrm>
          <a:prstGeom prst="rect">
            <a:avLst/>
          </a:prstGeom>
          <a:ln w="0">
            <a:noFill/>
          </a:ln>
        </p:spPr>
      </p:pic>
    </p:spTree>
  </p:cSld>
  <p:transition spd="slow" advTm="12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a:rPr>
              <a:t>Пятиборье .</a:t>
            </a:r>
            <a:endParaRPr b="0" lang="en-US" sz="4400" spc="-1" strike="noStrike">
              <a:solidFill>
                <a:srgbClr val="ffff99"/>
              </a:solidFill>
              <a:latin typeface="Arial"/>
            </a:endParaRPr>
          </a:p>
        </p:txBody>
      </p:sp>
      <p:pic>
        <p:nvPicPr>
          <p:cNvPr id="185" name="Picture 5" descr=""/>
          <p:cNvPicPr/>
          <p:nvPr/>
        </p:nvPicPr>
        <p:blipFill>
          <a:blip r:embed="rId1"/>
          <a:stretch/>
        </p:blipFill>
        <p:spPr>
          <a:xfrm>
            <a:off x="914400" y="1600200"/>
            <a:ext cx="7772400" cy="5029200"/>
          </a:xfrm>
          <a:prstGeom prst="rect">
            <a:avLst/>
          </a:prstGeom>
          <a:ln w="0">
            <a:noFill/>
          </a:ln>
        </p:spPr>
      </p:pic>
    </p:spTree>
  </p:cSld>
  <p:transition spd="slow" advTm="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80880" y="304560"/>
            <a:ext cx="7848720" cy="5825880"/>
          </a:xfrm>
          <a:prstGeom prst="rect">
            <a:avLst/>
          </a:prstGeom>
          <a:noFill/>
          <a:ln w="0">
            <a:noFill/>
          </a:ln>
        </p:spPr>
        <p:txBody>
          <a:bodyPr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конец великий день наступал: олимпийские празднества начинались с восходом полной луны. Накануне зрители могли восхищаться мраморными статуями предыдущих победителей, которые были поставлены между стадионом и рекой Алфей на средства тех городов, откуда родом были новые "полубоги": </a:t>
            </a:r>
            <a:endParaRPr b="0" lang="en-US" sz="2000" spc="-1" strike="noStrike">
              <a:solidFill>
                <a:srgbClr val="ffffff"/>
              </a:solidFill>
              <a:latin typeface="Verdana"/>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й олимпионик</a:t>
            </a:r>
            <a:r>
              <a:rPr b="1" lang="ru-RU" sz="2000" spc="-1" strike="noStrike">
                <a:solidFill>
                  <a:srgbClr val="ffffff"/>
                </a:solidFill>
                <a:latin typeface="Verdana"/>
              </a:rPr>
              <a:t> Корэб из Элиды</a:t>
            </a:r>
            <a:r>
              <a:rPr b="0" lang="ru-RU" sz="2000" spc="-1" strike="noStrike">
                <a:solidFill>
                  <a:srgbClr val="ffffff"/>
                </a:solidFill>
                <a:latin typeface="Verdana"/>
              </a:rPr>
              <a:t>; </a:t>
            </a:r>
            <a:endParaRPr b="0" lang="en-US" sz="2000" spc="-1" strike="noStrike">
              <a:solidFill>
                <a:srgbClr val="ffffff"/>
              </a:solidFill>
              <a:latin typeface="Verdana"/>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ильнейший среди сильных" </a:t>
            </a:r>
            <a:r>
              <a:rPr b="1" lang="ru-RU" sz="2000" spc="-1" strike="noStrike">
                <a:solidFill>
                  <a:srgbClr val="ffffff"/>
                </a:solidFill>
                <a:latin typeface="Verdana"/>
              </a:rPr>
              <a:t>Милон из Кротона</a:t>
            </a:r>
            <a:r>
              <a:rPr b="0" lang="ru-RU" sz="2000" spc="-1" strike="noStrike">
                <a:solidFill>
                  <a:srgbClr val="ffffff"/>
                </a:solidFill>
                <a:latin typeface="Verdana"/>
              </a:rPr>
              <a:t>; </a:t>
            </a:r>
            <a:endParaRPr b="0" lang="en-US" sz="2000" spc="-1" strike="noStrike">
              <a:solidFill>
                <a:srgbClr val="ffffff"/>
              </a:solidFill>
              <a:latin typeface="Verdana"/>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олитес из Корины</a:t>
            </a:r>
            <a:r>
              <a:rPr b="0" lang="ru-RU" sz="2000" spc="-1" strike="noStrike">
                <a:solidFill>
                  <a:srgbClr val="ffffff"/>
                </a:solidFill>
                <a:latin typeface="Verdana"/>
              </a:rPr>
              <a:t>, одержавший на 212-й Олимпиаде три победы во всех трех видах бега в течение одного дня; </a:t>
            </a:r>
            <a:endParaRPr b="0" lang="en-US" sz="2000" spc="-1" strike="noStrike">
              <a:solidFill>
                <a:srgbClr val="ffffff"/>
              </a:solidFill>
              <a:latin typeface="Verdana"/>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Ласфен из Тебеи</a:t>
            </a:r>
            <a:r>
              <a:rPr b="0" lang="ru-RU" sz="2000" spc="-1" strike="noStrike">
                <a:solidFill>
                  <a:srgbClr val="ffffff"/>
                </a:solidFill>
                <a:latin typeface="Verdana"/>
              </a:rPr>
              <a:t>, который бежал 30 километров, соревнуясь с лошадью; </a:t>
            </a:r>
            <a:endParaRPr b="0" lang="en-US" sz="2000" spc="-1" strike="noStrike">
              <a:solidFill>
                <a:srgbClr val="ffffff"/>
              </a:solidFill>
              <a:latin typeface="Verdana"/>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Никкола из Акрии</a:t>
            </a:r>
            <a:r>
              <a:rPr b="0" lang="ru-RU" sz="2000" spc="-1" strike="noStrike">
                <a:solidFill>
                  <a:srgbClr val="ffffff"/>
                </a:solidFill>
                <a:latin typeface="Verdana"/>
              </a:rPr>
              <a:t>, который на двух Олимпиадах одержал пять побед в беге, </a:t>
            </a:r>
            <a:endParaRPr b="0" lang="en-US" sz="2000" spc="-1" strike="noStrike">
              <a:solidFill>
                <a:srgbClr val="ffffff"/>
              </a:solidFill>
              <a:latin typeface="Verdana"/>
            </a:endParaRPr>
          </a:p>
          <a:p>
            <a:pPr marL="339480" indent="-3394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 множество других славных атлетов. Юношам обязательно показывали несколько десятков почти одинаковых статуй Зевса, возвышавшихся возле холма Крона. Каждая из этих статуй была сооружена на деньги со штрафов, накладывавшихся на тех участников Игр, которые жульничали, пытались подкупать противников, наносили во время соревнований увечья сопернику,- в общем, совершали различные неэтичные поступки. </a:t>
            </a:r>
            <a:endParaRPr b="0" lang="en-US" sz="2000" spc="-1" strike="noStrike">
              <a:solidFill>
                <a:srgbClr val="ffffff"/>
              </a:solidFill>
              <a:latin typeface="Verdana"/>
            </a:endParaRPr>
          </a:p>
        </p:txBody>
      </p:sp>
    </p:spTree>
  </p:cSld>
  <p:transition spd="slow" advTm="15000">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Место где проходили игры .</a:t>
            </a:r>
            <a:endParaRPr b="0" lang="en-US" sz="4400" spc="-1" strike="noStrike">
              <a:solidFill>
                <a:srgbClr val="ffff99"/>
              </a:solidFill>
              <a:latin typeface="Arial"/>
            </a:endParaRPr>
          </a:p>
        </p:txBody>
      </p:sp>
      <p:pic>
        <p:nvPicPr>
          <p:cNvPr id="188" name="Picture 4" descr=""/>
          <p:cNvPicPr/>
          <p:nvPr/>
        </p:nvPicPr>
        <p:blipFill>
          <a:blip r:embed="rId1"/>
          <a:stretch/>
        </p:blipFill>
        <p:spPr>
          <a:xfrm>
            <a:off x="685800" y="1676520"/>
            <a:ext cx="7543800" cy="4572000"/>
          </a:xfrm>
          <a:prstGeom prst="rect">
            <a:avLst/>
          </a:prstGeom>
          <a:ln w="0">
            <a:noFill/>
          </a:ln>
        </p:spPr>
      </p:pic>
    </p:spTree>
  </p:cSld>
  <p:transition spd="slow" advTm="5000">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c66"/>
                </a:solidFill>
                <a:latin typeface="Arial"/>
              </a:rPr>
              <a:t>Конец</a:t>
            </a:r>
            <a:r>
              <a:rPr b="0" lang="ru-RU" sz="7200" spc="-1" strike="noStrike">
                <a:solidFill>
                  <a:srgbClr val="800000"/>
                </a:solidFill>
                <a:latin typeface="Arial"/>
              </a:rPr>
              <a:t> .</a:t>
            </a:r>
            <a:endParaRPr b="0" lang="en-US" sz="7200" spc="-1" strike="noStrike">
              <a:solidFill>
                <a:srgbClr val="ffff99"/>
              </a:solidFill>
              <a:latin typeface="Arial"/>
            </a:endParaRPr>
          </a:p>
        </p:txBody>
      </p:sp>
      <p:sp>
        <p:nvSpPr>
          <p:cNvPr id="190" name="PlaceHolder 2"/>
          <p:cNvSpPr>
            <a:spLocks noGrp="1"/>
          </p:cNvSpPr>
          <p:nvPr>
            <p:ph type="subTitle"/>
          </p:nvPr>
        </p:nvSpPr>
        <p:spPr>
          <a:xfrm>
            <a:off x="2666520" y="2819160"/>
            <a:ext cx="5791320" cy="1143000"/>
          </a:xfrm>
          <a:prstGeom prst="rect">
            <a:avLst/>
          </a:prstGeom>
          <a:noFill/>
          <a:ln w="0">
            <a:noFill/>
          </a:ln>
        </p:spPr>
        <p:txBody>
          <a:bodyPr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Verdana"/>
              </a:rPr>
              <a:t>         </a:t>
            </a:r>
            <a:r>
              <a:rPr b="0" lang="ru-RU" sz="4000" spc="-1" strike="noStrike">
                <a:solidFill>
                  <a:srgbClr val="ffffff"/>
                </a:solidFill>
                <a:latin typeface="Verdana"/>
              </a:rPr>
              <a:t>Работа ученицы 7в            Жевлаковой Ирины </a:t>
            </a:r>
            <a:endParaRPr b="0" lang="en-US" sz="4000" spc="-1" strike="noStrike">
              <a:solidFill>
                <a:srgbClr val="ffffff"/>
              </a:solidFill>
              <a:latin typeface="Verdana"/>
            </a:endParaRPr>
          </a:p>
        </p:txBody>
      </p:sp>
    </p:spTree>
  </p:cSld>
  <p:transition spd="slow" advTm="4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8076960" cy="5867280"/>
          </a:xfrm>
          <a:prstGeom prst="rect">
            <a:avLst/>
          </a:prstGeom>
          <a:noFill/>
          <a:ln w="0">
            <a:noFill/>
          </a:ln>
        </p:spPr>
        <p:txBody>
          <a:bodyPr anchor="t">
            <a:normAutofit fontScale="97000"/>
          </a:bodyPr>
          <a:p>
            <a:pPr marL="332640" indent="-3326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лимпия - не обычный город, не похожий на любой другой. Он расположен на юго-западе Греции, в долине реки Алфей, которая впадает в Ионическое море. Северный берег Алфея представляет собой огромную долину, окаймленную поросшими лесом холмами, за которыми высятся горные вершины, покрытые снегом. Только во время Игр Олимпия принадлежала людям, в обычное же время это был город, посвященный богам. Здесь жили только священники,хранители захоронений и сокровищ. </a:t>
            </a:r>
            <a:br>
              <a:rPr sz="1800"/>
            </a:br>
            <a:r>
              <a:rPr b="0" lang="ru-RU" sz="1800" spc="-1" strike="noStrike">
                <a:solidFill>
                  <a:srgbClr val="ffffff"/>
                </a:solidFill>
                <a:latin typeface="Verdana"/>
              </a:rPr>
              <a:t>Вокруг долины зеленел священный пояс - Альтис. В этой священной роще росли платаны, кипарисы, оливы. За рощей белели храмы Зевса, Геры, Деметры, храмы прекрасных и чистых линий, шедевры греческой архитектуры. Внутри находились прекрасные статуи, среди которых Гермес известного греческого скульптора Праксителя и двенадцатиметровый Зевс, сделанный из золота и слоновой кости крупнейшим скульптором древности Фидием. Блестящие коллекции щитов, амфор, ваз, драгоценных шлемов дополняли великолепие этих храмов. К северу от храма Зевса находился холм, окруженный стеной в виде пятиугольника. По преданию, этот холм был могилой Пелопса. Еще дальше на север, у подножия Кроносского холма, в храме Геры долгое время хранился медный диск с высеченным на нем текстом договора Ифита с Ликургом. Здесь же, в Альтисе, в северо-западной стороне располагался ряд строений, где хранились драгоценности - дары греческих государств и городов, дары отдельных граждан. Между всеми этими строениями Альтиса находилось около семидесяти алтарей, на которых приносили жертвы многочисленным богам, почитаемым в Древней Греции. </a:t>
            </a:r>
            <a:endParaRPr b="0" lang="en-US" sz="1800" spc="-1" strike="noStrike">
              <a:solidFill>
                <a:srgbClr val="ffffff"/>
              </a:solidFill>
              <a:latin typeface="Verdana"/>
            </a:endParaRPr>
          </a:p>
        </p:txBody>
      </p:sp>
    </p:spTree>
  </p:cSld>
  <p:transition spd="slow" advTm="20000">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609480" y="380520"/>
            <a:ext cx="8229600" cy="574524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амой популярной в древности была легенда, о которой упоминает в своих песнях в честь победителей Олимпийских игр Пиндар. По этой легенде Игры основал Геракл после свершения своего шестого подвига - очищения скотного двора Авгия, царя Элиды. Авгий обладал неисчислимыми богатствами. Особенно многочисленны были его стада. Геракл предложил Авгию очистить в один день весь его громадный двор, если он согласится отдать ему десятую часть своих стад. Авгий согласился, считая, что такую работу выполнить в один день просто невозможно . Геракл сломал с двух противоположных сторон стену, окружавшую скотный двор, и отвел в него воду реки Алфей. Вода в один день унесла весь навоз со скотного двора, и Геракл снова сложил стены. Когда Геракл пришел к Авгию требовать награды, царь не дал ему ничего, да еще и выгнал его. Геракл страшно отомстил царю Элиды. С большим войском он вторгся в Элиду, победил в кровопролитной битве Авгия и убил его смертоносной стрелой. После победы собрал Геракл войско и всю добычу у города Писы , принес жертвы олимпийским богам и учредил Олимпийские игры, которые проводились с тех пор каждые четыре года на священной равнине, обсаженной самим Гераклом оливами, посвященными богине Афине Палладе.</a:t>
            </a:r>
            <a:endParaRPr b="0" lang="en-US" sz="1800" spc="-1" strike="noStrike">
              <a:solidFill>
                <a:srgbClr val="ffffff"/>
              </a:solidFill>
              <a:latin typeface="Verdana"/>
            </a:endParaRPr>
          </a:p>
        </p:txBody>
      </p:sp>
    </p:spTree>
  </p:cSld>
  <p:transition spd="slow" advTm="20000">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447280"/>
            <a:ext cx="76320" cy="1106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99"/>
              </a:solidFill>
              <a:latin typeface="Arial"/>
            </a:endParaRPr>
          </a:p>
        </p:txBody>
      </p:sp>
      <p:sp>
        <p:nvSpPr>
          <p:cNvPr id="172" name="PlaceHolder 2"/>
          <p:cNvSpPr>
            <a:spLocks noGrp="1"/>
          </p:cNvSpPr>
          <p:nvPr>
            <p:ph/>
          </p:nvPr>
        </p:nvSpPr>
        <p:spPr>
          <a:xfrm>
            <a:off x="456840" y="228600"/>
            <a:ext cx="4343400" cy="77724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лимпийские игры Древней Греции представляли собой религиозный и спортивный праздник, проводившийся в Олимпии. Древние греки создали множество прекрасных легенд, рассказывающих о том, как появились Олимпийские игры. </a:t>
            </a:r>
            <a:endParaRPr b="0" lang="en-US" sz="2800" spc="-1" strike="noStrike">
              <a:solidFill>
                <a:srgbClr val="ffffff"/>
              </a:solidFill>
              <a:latin typeface="Verdana"/>
            </a:endParaRPr>
          </a:p>
        </p:txBody>
      </p:sp>
      <p:pic>
        <p:nvPicPr>
          <p:cNvPr id="173" name="Picture 5" descr=""/>
          <p:cNvPicPr/>
          <p:nvPr/>
        </p:nvPicPr>
        <p:blipFill>
          <a:blip r:embed="rId2"/>
          <a:stretch/>
        </p:blipFill>
        <p:spPr>
          <a:xfrm>
            <a:off x="4724280" y="228600"/>
            <a:ext cx="4038840" cy="5897520"/>
          </a:xfrm>
          <a:prstGeom prst="rect">
            <a:avLst/>
          </a:prstGeom>
          <a:ln w="0">
            <a:noFill/>
          </a:ln>
        </p:spPr>
      </p:pic>
    </p:spTree>
  </p:cSld>
  <p:transition spd="slow" advTm="1300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990720" y="519840"/>
            <a:ext cx="6110280" cy="56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 древних греков была славная традиция : имена олимпийских победителей - олимпиоников - выгравировывали на мраморных колоннах, установленных вдоль берега реки Алфей. Благодаря этой традиции нам известна эта дата - 776 год до н. э. - имя первого победителя: его звали Корэб, он был поваром из Элиды.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Первые тринадцать Игр состояли только из одного вида состязаний - бега на один стадий, что должно соответствовать по длине шести ступням жреца Зевса. По преданию, это расстояние в Олимпии отмерял сам Геракл, и оно равнялось 192 метрам 27 сантиметрам. Так возникло и хорошо знакомое всем слово "стадион" . Поначалу в Играх участвовали атлеты лишь двух городов Элиды - Эллиса и Пизы. Но очень скоро популярность Игр , равно как и "священного перемирия" становится такой, что все греческие государства начинают принимать в них участие. В течение всех Олимпийских игр, а продолжительность их все увеличивалась, наступало перемирие для всех воюющих армий. Воины, еще вчера непримиримые враги, откладывали в сторону оружие и со всех концов Греции направлялись в Олимпию. </a:t>
            </a:r>
            <a:endParaRPr b="0" lang="en-US" sz="1600" spc="-1" strike="noStrike">
              <a:solidFill>
                <a:srgbClr val="ffffff"/>
              </a:solidFill>
              <a:latin typeface="Verdana"/>
            </a:endParaRPr>
          </a:p>
        </p:txBody>
      </p:sp>
      <p:pic>
        <p:nvPicPr>
          <p:cNvPr id="175" name="Picture 8" descr="old"/>
          <p:cNvPicPr/>
          <p:nvPr/>
        </p:nvPicPr>
        <p:blipFill>
          <a:blip r:embed="rId1"/>
          <a:stretch/>
        </p:blipFill>
        <p:spPr>
          <a:xfrm>
            <a:off x="7086600" y="4419720"/>
            <a:ext cx="1905120" cy="2228760"/>
          </a:xfrm>
          <a:prstGeom prst="rect">
            <a:avLst/>
          </a:prstGeom>
          <a:ln w="0">
            <a:noFill/>
          </a:ln>
        </p:spPr>
      </p:pic>
    </p:spTree>
  </p:cSld>
  <p:transition spd="slow" advTm="21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3520" y="228600"/>
            <a:ext cx="4038480" cy="6324480"/>
          </a:xfrm>
          <a:prstGeom prst="rect">
            <a:avLst/>
          </a:prstGeom>
          <a:noFill/>
          <a:ln w="0">
            <a:noFill/>
          </a:ln>
        </p:spPr>
        <p:txBody>
          <a:bodyPr anchor="t">
            <a:normAutofit/>
          </a:bodyPr>
          <a:p>
            <a:pPr marL="343080" indent="-343080">
              <a:lnSpc>
                <a:spcPct val="80000"/>
              </a:lnSpc>
              <a:spcBef>
                <a:spcPts val="34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 северо-востоку от священной рощи находился стадион, лежавший в углублении метра на четыре ниже Альтиса. Он был соединен с Альтисом тридцатидвухметровым подземным ходом. Через этот ход участники состязаний в сопровождении судей после принесения жертвы богам выходили на стадион для соревнований. Стадион представлял собой полуовал, вытянутый с запада на восток, длиной около 215 метров и шириной около 30 метров. Он был окружен невысокой насыпью, за которой находились зрители. Для знатных гостей были выбиты скамьи, покрытые белым мрамором. Беговая дорожка была довольно широкой, по ней одновременно могли бежать восемь атлетов.</a:t>
            </a:r>
            <a:r>
              <a:rPr b="0" lang="ru-RU" sz="1400" spc="-1" strike="noStrike">
                <a:solidFill>
                  <a:srgbClr val="ffffff"/>
                </a:solidFill>
                <a:latin typeface="Verdana"/>
              </a:rPr>
              <a:t> </a:t>
            </a:r>
            <a:endParaRPr b="0" lang="en-US" sz="1400" spc="-1" strike="noStrike">
              <a:solidFill>
                <a:srgbClr val="ffffff"/>
              </a:solidFill>
              <a:latin typeface="Verdana"/>
            </a:endParaRPr>
          </a:p>
        </p:txBody>
      </p:sp>
      <p:pic>
        <p:nvPicPr>
          <p:cNvPr id="177" name="Picture 6" descr=""/>
          <p:cNvPicPr/>
          <p:nvPr/>
        </p:nvPicPr>
        <p:blipFill>
          <a:blip r:embed="rId2"/>
          <a:stretch/>
        </p:blipFill>
        <p:spPr>
          <a:xfrm>
            <a:off x="4648320" y="762120"/>
            <a:ext cx="4267080" cy="4530600"/>
          </a:xfrm>
          <a:prstGeom prst="rect">
            <a:avLst/>
          </a:prstGeom>
          <a:ln w="0">
            <a:noFill/>
          </a:ln>
        </p:spPr>
      </p:pic>
    </p:spTree>
  </p:cSld>
  <p:transition spd="slow" advTm="20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04560" y="533520"/>
            <a:ext cx="7924680" cy="559728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 числу сооружений Олимпии, имевших тесную связь с праздником и с происходившими во время него спортивными выступлениями, принадлежала также гимназия, расположенная северо-западнее священной рощи. Гимназия представляла собой обширный двор, окруженный колоннадой, на котором были устроены беговые дорожки, места для метаний, для борьбы и так далее. Гимназия предназначалась для тренировок. На гимназическом дворе были проложены аллеи с тенистыми деревьями, где атлеты отдыхали после упражнений. Между деревьями тут и там стояли высеченные из мрамора статуи наиболее знаменитых олимпиоников. В центре гимназического двора находилось каменное здание - палестра,- предназначавшееся для различных упражнений. Здесь имелись комнаты для игры в мяч, для упражнений с мешками (эти упражнения были основными в тренировке кулачных бойцов). Здесь же были устроены бани. В специальной комнате можно было смазать тело маслом, а в другой был сложен привозимый из Египта мелкий нильский песок для обсыпания тела. Атлеты перед упражнениями смазывали тело маслом и затем посыпали его песком. За пределами гимназии, почти примыкая к ней, находилась первая "олимпийская деревня" - помещение для жилья атлетов, прибывающих на состязания. </a:t>
            </a:r>
            <a:endParaRPr b="0" lang="en-US" sz="1800" spc="-1" strike="noStrike">
              <a:solidFill>
                <a:srgbClr val="ffffff"/>
              </a:solidFill>
              <a:latin typeface="Verdana"/>
            </a:endParaRPr>
          </a:p>
        </p:txBody>
      </p:sp>
    </p:spTree>
  </p:cSld>
  <p:transition spd="slow" advTm="23000">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80880" y="380880"/>
            <a:ext cx="7848720" cy="7848720"/>
          </a:xfrm>
          <a:prstGeom prst="rect">
            <a:avLst/>
          </a:prstGeom>
          <a:noFill/>
          <a:ln w="0">
            <a:noFill/>
          </a:ln>
        </p:spPr>
        <p:txBody>
          <a:bodyPr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Закон запрещал выступать на Играх только рабам и варварам, оставляя место только свободнорожденным грекам. Но свободнорожденные греки были неоднородны по своему социальному и имущественному положению. Наряду с рабовладельческой аристократией существовали многочисленные мелкие землевладельцы и ремесленники. Закон не запрещал им участвовать в Играх, но целый ряд требований, предъявляемых к участникам, фактически не давал им возможности выступать в состязаниях. По олимпийским правилам все атлеты должны были записываться у судей за год до открытия состязаний и перед началом Игр представить доказательства того, что они в течение не менее десяти последних месяцев перед Играми готовились к состязаниям, ежедневно упражняясь. Исключение составляли лишь победители предыдущих Олимпиад. Кроме того, каждый участник должен был за месяц до начала Игр прибыть в Олимпию и в течение месяца проходить испытания в гимназии, причем все расходы оплачивал сам участник. Объявление об Олимпийских играх вызывало неслыханную лихорадку среди всех греков. Люди набивались в лодки, собирались в огромные толпы и шли пешком, повсюду можно было увидеть вереницы мужчин и подростков, направляющихся в Олимпию. Исключение составляли замужние женщины, которым под страхом смерти запрещалось присутствовать на Играх. В своей книге </a:t>
            </a:r>
            <a:r>
              <a:rPr b="0" i="1" lang="ru-RU" sz="1600" spc="-1" strike="noStrike">
                <a:solidFill>
                  <a:srgbClr val="ffffff"/>
                </a:solidFill>
                <a:latin typeface="Verdana"/>
              </a:rPr>
              <a:t>"Описание Эллады"</a:t>
            </a:r>
            <a:r>
              <a:rPr b="0" lang="ru-RU" sz="1600" spc="-1" strike="noStrike">
                <a:solidFill>
                  <a:srgbClr val="ffffff"/>
                </a:solidFill>
                <a:latin typeface="Verdana"/>
              </a:rPr>
              <a:t> Павсаний пишет, что вблизи Олимпии, на берегу Алфея, высилась огромная скала, на которую должны были приводить женщин, пытавшихся проникнуть на священные Игры, и сбрасывать их оттуда. Павсаний, правда, при этом добавляет, что был один только случай, когда на празднике обнаружили женщину. </a:t>
            </a:r>
            <a:endParaRPr b="0" lang="en-US" sz="1600" spc="-1" strike="noStrike">
              <a:solidFill>
                <a:srgbClr val="ffffff"/>
              </a:solidFill>
              <a:latin typeface="Verdana"/>
            </a:endParaRPr>
          </a:p>
        </p:txBody>
      </p:sp>
    </p:spTree>
  </p:cSld>
  <p:transition spd="slow" advTm="18000">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304560"/>
            <a:ext cx="4495680" cy="5825880"/>
          </a:xfrm>
          <a:prstGeom prst="rect">
            <a:avLst/>
          </a:prstGeom>
          <a:noFill/>
          <a:ln w="0">
            <a:noFill/>
          </a:ln>
        </p:spPr>
        <p:txBody>
          <a:bodyPr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 дороге в Олимпию старики объясняли молодым эволюцию спортивных состязаний. В самом начале Игры состояли только из бега на один стадий - стадиодром. В 724 году до н. э. к нему добавился двойной бег - диаул - на дистанцию 384,54 метра. Затем, в 720 году до н. э., длинный бег - долиходром,- или бег на 24 стадия. В 708 году до н. э., на 18-й Олимпиаде, появилось пятиборье, состоящее из простого бега, прыжков в длину, метания диска и копья, борьбы. На той же Олимпиаде впервые были проведены соревнования по борьбе. Еще через пять Олимпиад, в 688 году до н. э., программа обогатилась кулачным боем, через две Олимпиады - состязанием колесниц и, наконец, на 33-й Олимпиаде, в 648 году до н. э., появляется самый трудный и, несомненно, самый жестокий вид соревнований - панкратион, соединяющий в себе приемы кулачного боя и борьбы. </a:t>
            </a:r>
            <a:endParaRPr b="0" lang="en-US" sz="1600" spc="-1" strike="noStrike">
              <a:solidFill>
                <a:srgbClr val="ffffff"/>
              </a:solidFill>
              <a:latin typeface="Verdana"/>
            </a:endParaRPr>
          </a:p>
        </p:txBody>
      </p:sp>
      <p:pic>
        <p:nvPicPr>
          <p:cNvPr id="181" name="Picture 5" descr=""/>
          <p:cNvPicPr/>
          <p:nvPr/>
        </p:nvPicPr>
        <p:blipFill>
          <a:blip r:embed="rId2"/>
          <a:stretch/>
        </p:blipFill>
        <p:spPr>
          <a:xfrm>
            <a:off x="4648320" y="762120"/>
            <a:ext cx="4343400" cy="5368680"/>
          </a:xfrm>
          <a:prstGeom prst="rect">
            <a:avLst/>
          </a:prstGeom>
          <a:ln w="0">
            <a:noFill/>
          </a:ln>
        </p:spPr>
      </p:pic>
    </p:spTree>
  </p:cSld>
  <p:transition spd="slow" advTm="18000">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07:11:29Z</dcterms:created>
  <dc:creator>1</dc:creator>
  <dc:description/>
  <dc:language>en-US</dc:language>
  <cp:lastModifiedBy>Татьяна</cp:lastModifiedBy>
  <dcterms:modified xsi:type="dcterms:W3CDTF">2012-02-07T19:12:2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