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9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.png" ContentType="image/png"/>
  <Override PartName="/ppt/media/image4.gif" ContentType="image/gif"/>
  <Override PartName="/ppt/media/image5.gif" ContentType="image/gif"/>
  <Override PartName="/ppt/media/image10.gif" ContentType="image/gif"/>
  <Override PartName="/ppt/media/image3.gif" ContentType="image/gif"/>
  <Override PartName="/ppt/media/image6.png" ContentType="image/png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046DF-2C62-4D8C-BB79-3FEF6ADED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6167A-5D8B-4040-9AA3-81994CE9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F3696-6D8D-46C2-AE44-7FD52D612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57235-13C0-4163-89EA-CF465562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FDE8-A616-4700-954B-7F40BB61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6B5C-D37D-4FAD-AE98-F8960892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3AE3-8106-4064-818A-C6775FDF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3925-6529-428D-8E4D-312ECFC3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38F0-A104-4C60-85CA-679C28B8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9A17-EEDA-4AD4-84D2-72652797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89CD-C700-4F5C-8A03-8A089D7B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52032-13B7-421C-BDD1-80CC6EB5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A1B6-413E-43E4-BD58-E1188FAF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5BA8-1695-4A56-AC3A-3BB62BE7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C3B2-4FF7-4ABE-8799-422A7C83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05E8-3A6F-42CB-A321-A7538374C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D743-620E-449C-B9A3-A5EFA2A46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EFCF2-7C75-4C5F-BB81-8E0036CC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FBA88-41E8-453E-AABC-73D97B0F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78C6D-EAFD-426B-B886-31F7048C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224F5-4F4E-47E9-BDA7-A0F86A88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555B8-8EC1-451B-9D2F-69421A47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9B1DD-BD67-449D-B979-241D4CC2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9DA85-4BAF-40E3-9935-88487614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AA86-A63F-4D70-8296-2F2E9445AC7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35E6-FE68-4BB3-82BC-5E3E7DC7F4F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miles.33b.ru/smile.108339.html" TargetMode="External"/><Relationship Id="rId2" Type="http://schemas.openxmlformats.org/officeDocument/2006/relationships/image" Target="../media/image15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684360" y="260280"/>
            <a:ext cx="7991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кĕ ту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4495680"/>
            <a:ext cx="472428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7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Arial Cyr Chuv"/>
              </a:rPr>
              <a:t>\керч.кл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Arial Cyr Chuv"/>
              <a:ea typeface="Arial Cyr Chuv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952880" y="3124080"/>
            <a:ext cx="388620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Century Gothic"/>
              </a:rPr>
              <a:t>ЮМАХ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Century Gothic"/>
              <a:ea typeface="Century Gothic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975280" y="2276640"/>
            <a:ext cx="3168720" cy="37256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71640" y="1125360"/>
            <a:ext cx="5292720" cy="4319640"/>
          </a:xfrm>
          <a:prstGeom prst="wedgeEllipseCallout">
            <a:avLst>
              <a:gd name="adj1" fmla="val 64787"/>
              <a:gd name="adj2" fmla="val 1052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14320" y="2276640"/>
            <a:ext cx="4469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- Ырă кăмăллă çынсе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улăшсамăр ман тус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лĕр хăвăр патă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ăларар тăр шыв ç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Çавăн пек хуçасен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1764000" cy="4824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74680"/>
            <a:ext cx="9144000" cy="65833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6227640" y="2033640"/>
            <a:ext cx="2916360" cy="4824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3328920"/>
            <a:ext cx="5616720" cy="3529080"/>
          </a:xfrm>
          <a:prstGeom prst="wedgeEllipseCallout">
            <a:avLst>
              <a:gd name="adj1" fmla="val 78319"/>
              <a:gd name="adj2" fmla="val -25259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4092480"/>
            <a:ext cx="467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Юмах ятăм, юптартă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авăнтăм та пăшăрхантă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ирĕн чуна çемçетрĕ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39640" y="5229360"/>
            <a:ext cx="511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Чипер юлăр, туссем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403280" y="6200640"/>
            <a:ext cx="57326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епре тĕл пуличчен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r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1125360"/>
            <a:ext cx="2987640" cy="5183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24000" y="189000"/>
            <a:ext cx="5256000" cy="4267080"/>
          </a:xfrm>
          <a:prstGeom prst="wedgeEllipseCallout">
            <a:avLst>
              <a:gd name="adj1" fmla="val 74041"/>
              <a:gd name="adj2" fmla="val 2287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Cyr Chuv"/>
              </a:rPr>
              <a:t>САЛА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Cyr Chuv"/>
              </a:rPr>
              <a:t>Куян тесен мана пурте пĕле==. пулĕ тетĕп? Сире эпĕ паян  юмах каласа паратăп? Вăл икĕ ту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çинчен</a:t>
            </a:r>
            <a:r>
              <a:rPr b="1" lang="ru-RU" sz="2400" spc="-1" strike="noStrike">
                <a:solidFill>
                  <a:srgbClr val="000000"/>
                </a:solidFill>
                <a:latin typeface="Arial Cyr Chuv"/>
              </a:rPr>
              <a:t> пулĕ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951200" y="250920"/>
            <a:ext cx="4632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урăннă, тет, пĕр кил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кĕ уйрăлми туссе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Йытă тус та кушак т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авăннă вĕсем пĕр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Çĕнĕ хуçа киличчен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443640" y="3645000"/>
            <a:ext cx="1484280" cy="2438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547640" y="3284640"/>
            <a:ext cx="2737080" cy="3384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32640" y="1844640"/>
            <a:ext cx="505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Хĕвел ларсан пĕр каçх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Çĕнĕ хуçа килчĕ 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лсе кайрĕ йытти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227640" y="2133720"/>
            <a:ext cx="2521080" cy="4174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50920" y="3284640"/>
            <a:ext cx="3097080" cy="3384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042920" y="691200"/>
            <a:ext cx="7305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ĕл пулсан пĕр кунхине йытăпала кушак т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к пуçларĕç пупл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24000" y="4653000"/>
            <a:ext cx="3095640" cy="1728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>
            <a:grayscl/>
            <a:lum bright="42000"/>
          </a:blip>
          <a:stretch/>
        </p:blipFill>
        <p:spPr>
          <a:xfrm>
            <a:off x="0" y="5407200"/>
            <a:ext cx="8015400" cy="1450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3357720"/>
            <a:ext cx="4067280" cy="3500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95280" y="189000"/>
            <a:ext cx="4535640" cy="3887640"/>
          </a:xfrm>
          <a:prstGeom prst="wedgeEllipseCallout">
            <a:avLst>
              <a:gd name="adj1" fmla="val 83671"/>
              <a:gd name="adj2" fmla="val 3881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0760" y="1080000"/>
            <a:ext cx="4179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ĕншĕн, йытă тусăмçă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ит кулянсах йĕретĕ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авăнмастăн, кулмастă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уçна усса çÿретĕ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580000" y="2205000"/>
            <a:ext cx="3168720" cy="3726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724360" y="2276640"/>
            <a:ext cx="3241800" cy="4392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763640" y="0"/>
            <a:ext cx="5292720" cy="4319640"/>
          </a:xfrm>
          <a:prstGeom prst="wedgeEllipseCallout">
            <a:avLst>
              <a:gd name="adj1" fmla="val 70546"/>
              <a:gd name="adj2" fmla="val 3228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90440" y="1049760"/>
            <a:ext cx="519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урнăç йывăр-çке ман,  тусă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Ырах мар манăн хуç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ана апат çитермес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ачах манпа выляма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ан çинчен шухăшлам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-396720" y="3132000"/>
            <a:ext cx="3168360" cy="3726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-181080" y="4221000"/>
            <a:ext cx="2556000" cy="2637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156360" y="1700280"/>
            <a:ext cx="3168720" cy="48765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258920" y="738360"/>
            <a:ext cx="5292720" cy="6119640"/>
          </a:xfrm>
          <a:prstGeom prst="wedgeEllipseCallout">
            <a:avLst>
              <a:gd name="adj1" fmla="val 66226"/>
              <a:gd name="adj2" fmla="val -2634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50920" y="1474560"/>
            <a:ext cx="4176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Санăн, тусăм, чăн та ç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урнăç йывăр. Мĕн тăв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анăн вара пит ава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Хуçам лайăх пулнăр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Хуçа мана юрат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ана ялан вăл пăх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патне те çитер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рамра та вăл манп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Çывăрма та вăл ман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ихăçан кÿрентермес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Юратать те ачашл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221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219640" y="2781360"/>
            <a:ext cx="3924360" cy="38955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2538360"/>
            <a:ext cx="5292720" cy="4319640"/>
          </a:xfrm>
          <a:prstGeom prst="wedgeEllipseCallout">
            <a:avLst>
              <a:gd name="adj1" fmla="val 65504"/>
              <a:gd name="adj2" fmla="val 2934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2920" y="3335400"/>
            <a:ext cx="4725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- Кĕçех ман çуралнă ку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Асаттеçĕм, Хĕл Муч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Эсĕ савăнăç хуç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Эс парсам ман хуç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Ырă кăмăл, таса чун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18:11:37Z</dcterms:created>
  <dc:creator>Customer</dc:creator>
  <dc:description/>
  <dc:language>en-US</dc:language>
  <cp:lastModifiedBy>Customer</cp:lastModifiedBy>
  <dcterms:modified xsi:type="dcterms:W3CDTF">2012-01-11T16:06:33Z</dcterms:modified>
  <cp:revision>3</cp:revision>
  <dc:subject/>
  <dc:title>Слайд 1</dc:title>
</cp:coreProperties>
</file>