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D43A-9308-49DC-A293-1FA864CCC7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B8FD-DC32-451A-AA8E-EE99E6611C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3F6-9664-4A61-AF75-57BCB567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7A9-FDBD-4DB5-A887-882073A3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E13-9BE0-4915-BF07-9B031669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445-9F31-4BE4-A9F7-021A22D6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E031-7681-4280-B726-9D2F8570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7BB3-AA47-4519-ACEA-E001DFCB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AC03-81A2-4749-95DF-48512B69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1D75-B9D3-4650-BE19-FC92FE7A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3695-6113-40A3-A71E-29BD890D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F701-824E-492B-BF42-C4B95468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9ABA-6640-4203-89D7-0EC558DA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950-3ACA-4B4A-AD55-780E30CE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198E-16C3-4545-A0AE-18CC959E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5641-C0AE-4085-B959-699C912D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A952-48C7-47B7-A9E0-5CAEB622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82CE-6970-4E60-A3BB-B5235CFA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35A5-EBC5-4FB9-8732-BB1FA839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E6D-F695-42EB-8B6C-999B4062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5F6-7E0C-4440-B197-4A12FB22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B09-2A1D-4B47-A904-7587E415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CC0-F12A-45B9-96DC-0F588EC3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BCE-9688-4148-A417-0D2AFD4C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5C0-604B-4B1D-9DFF-D2A3E315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998-C3D3-4850-907C-6DC7E7C9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DD9B-A4C0-4A61-8C8D-B53762B55F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7112-91BB-4085-AE38-1D719FCD5AE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99840" y="214200"/>
            <a:ext cx="664236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e298b"/>
                </a:solidFill>
                <a:latin typeface="Times New Roman"/>
              </a:rPr>
              <a:t>«Формирование гражданско-патриотических</a:t>
            </a:r>
            <a:r>
              <a:rPr b="0" lang="ru-RU" sz="4400" spc="-1" strike="noStrike">
                <a:solidFill>
                  <a:srgbClr val="1e298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1e298b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1e298b"/>
                </a:solidFill>
                <a:latin typeface="Times New Roman"/>
              </a:rPr>
              <a:t>качеств личности»</a:t>
            </a:r>
            <a:r>
              <a:rPr b="1" lang="ru-RU" sz="5400" spc="-1" strike="noStrike">
                <a:solidFill>
                  <a:srgbClr val="1e298b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723920" y="4786200"/>
            <a:ext cx="4418280" cy="15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ект  разработа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траковой Ириной Геннадьев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ведующей школьной библиоте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БОУ СОШ № 5 г. Балако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85560" y="213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298b"/>
                </a:solidFill>
                <a:latin typeface="Times New Roman"/>
              </a:rPr>
              <a:t>Основные направления работы  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71600" y="1143000"/>
          <a:ext cx="7620120" cy="5357880"/>
        </p:xfrm>
        <a:graphic>
          <a:graphicData uri="http://schemas.openxmlformats.org/drawingml/2006/table">
            <a:tbl>
              <a:tblPr/>
              <a:tblGrid>
                <a:gridCol w="1914480"/>
                <a:gridCol w="5705640"/>
              </a:tblGrid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9e2b6"/>
                          </a:solidFill>
                          <a:latin typeface="Times New Roman"/>
                        </a:rPr>
                        <a:t>Гражданско-право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18720">
                      <a:solidFill>
                        <a:srgbClr val="e9e2b6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e9e2b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9e2b6"/>
                          </a:solidFill>
                          <a:latin typeface="Times New Roman"/>
                        </a:rPr>
                        <a:t>изучение Конституции РФ, государственной символики, символики и атрибутики Саратовской области, г.Балаково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e9e2b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9e2b6"/>
                          </a:solidFill>
                          <a:latin typeface="Times New Roman"/>
                        </a:rPr>
                        <a:t>усвоение школьниками своих гражданских прав и выполнение гражданских обязаннос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e9e2b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9e2b6"/>
                          </a:solidFill>
                          <a:latin typeface="Times New Roman"/>
                        </a:rPr>
                        <a:t>воспитание ценностного отношения к национальным интересам России, к её целостности, суверенитету и независим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18720">
                      <a:solidFill>
                        <a:srgbClr val="e9e2b6"/>
                      </a:solidFill>
                    </a:lnB>
                    <a:solidFill>
                      <a:srgbClr val="727de0"/>
                    </a:solidFill>
                  </a:tcPr>
                </a:tc>
              </a:tr>
              <a:tr h="13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но-истор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1872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ие потребности к освоению и сохранению культуры народов России, Саратовской области, г.Балаково и  района, их традиций и обычае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ие чувства национальной гордости, национального самосознания в сочетании с интернационализм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1872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</a:tr>
              <a:tr h="19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патрио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ние Дней воинской славы, боевых, трудовых подвигов жителей Саратовской области, г. Балаково и Балаковского района в годы Великой Отечественной войны 1941-1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поисков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встреч с ветеранами войны, участниками локальных войн, военнослужащи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ие военно-спортивных и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e298b"/>
                </a:solidFill>
                <a:latin typeface="Times New Roman"/>
              </a:rPr>
              <a:t>Ожидаемые результаты: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71240" y="1571400"/>
            <a:ext cx="762012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в школе методической копилки с  разнообразными формами и методами по гражданско-патриотическому воспитанию школьник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педагогической деятельности классных руководителей, педагогов по воспитанию гражданина – патриота Отече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динение усилий школы, семьи, общественности в гражданско-патриотическом воспитании школьников, а также выработка единых подходов в воспитан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я свободного времени школьников: привлечение учащихся  к работе по сохранению культурных  и духовно-нравственных ценностей родного кра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21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6600"/>
                </a:solidFill>
                <a:latin typeface="Times New Roman"/>
              </a:rPr>
              <a:t>Благодарю за внимание</a:t>
            </a:r>
            <a:r>
              <a:rPr b="0" lang="ru-RU" sz="7200" spc="-1" strike="noStrike">
                <a:solidFill>
                  <a:srgbClr val="9966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5" name="Рисунок 4" descr="IMG_2830.JPG"/>
          <p:cNvPicPr/>
          <p:nvPr/>
        </p:nvPicPr>
        <p:blipFill>
          <a:blip r:embed="rId1"/>
          <a:stretch/>
        </p:blipFill>
        <p:spPr>
          <a:xfrm>
            <a:off x="2786040" y="3286080"/>
            <a:ext cx="4071960" cy="30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4" descr="1200646716_79.jpg"/>
          <p:cNvPicPr/>
          <p:nvPr/>
        </p:nvPicPr>
        <p:blipFill>
          <a:blip r:embed="rId1"/>
          <a:stretch/>
        </p:blipFill>
        <p:spPr>
          <a:xfrm>
            <a:off x="6000840" y="1357200"/>
            <a:ext cx="2585880" cy="3525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71760" y="741240"/>
            <a:ext cx="366696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…даже само слово "патриотизм" порой используется в ироническом или даже ругательном смысле. Однако для большинства россиян оно сохранило свое первоначальное  значение. Это чувство гордости своим Отечеством, его историей, свершениями. Это стремление сделать свою страну краше, богаче, крепче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.В.Пути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imes New Roman"/>
              </a:rPr>
              <a:t>             </a:t>
            </a:r>
            <a:r>
              <a:rPr b="1" lang="ru-RU" sz="4000" spc="-1" strike="noStrike">
                <a:solidFill>
                  <a:srgbClr val="1e298b"/>
                </a:solidFill>
                <a:latin typeface="Times New Roman"/>
              </a:rPr>
              <a:t>Цель проекта:</a:t>
            </a:r>
            <a:r>
              <a:rPr b="0" lang="ru-RU" sz="4000" spc="-1" strike="noStrike">
                <a:solidFill>
                  <a:srgbClr val="1e298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1714320"/>
            <a:ext cx="3557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личности гражданина и патриота с присущими ему ценностями,  взглядами, ориентациями, установками, мотивами деятельности  и пове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Рисунок 2" descr="P1030225.JPG"/>
          <p:cNvPicPr/>
          <p:nvPr/>
        </p:nvPicPr>
        <p:blipFill>
          <a:blip r:embed="rId1"/>
          <a:stretch/>
        </p:blipFill>
        <p:spPr>
          <a:xfrm>
            <a:off x="5405400" y="264312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85560" y="1142640"/>
            <a:ext cx="7405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Rectangle 1027"/>
          <p:cNvSpPr/>
          <p:nvPr/>
        </p:nvSpPr>
        <p:spPr>
          <a:xfrm>
            <a:off x="1285920" y="152640"/>
            <a:ext cx="75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1e298b"/>
                </a:solidFill>
                <a:latin typeface="Times New Roman"/>
              </a:rPr>
              <a:t>Анализ «</a:t>
            </a:r>
            <a:r>
              <a:rPr b="1" lang="ru-RU" sz="2400" spc="-1" strike="noStrike">
                <a:solidFill>
                  <a:srgbClr val="1e298b"/>
                </a:solidFill>
                <a:latin typeface="Times New Roman"/>
                <a:ea typeface="Calibri"/>
              </a:rPr>
              <a:t>Уровня развития патриотизма у учащихся  8, 9, 11 классов на начало реализации проекта»</a:t>
            </a:r>
            <a:r>
              <a:rPr b="1" lang="ru-RU" sz="2400" spc="-1" strike="noStrike">
                <a:solidFill>
                  <a:srgbClr val="1e298b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43040" y="1357200"/>
          <a:ext cx="7000920" cy="4718160"/>
        </p:xfrm>
        <a:graphic>
          <a:graphicData uri="http://schemas.openxmlformats.org/drawingml/2006/table">
            <a:tbl>
              <a:tblPr/>
              <a:tblGrid>
                <a:gridCol w="2451240"/>
                <a:gridCol w="1226880"/>
                <a:gridCol w="1225800"/>
                <a:gridCol w="1225440"/>
                <a:gridCol w="87156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триотические ка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1224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кл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1224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кл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1224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к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1224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12240">
                      <a:solidFill>
                        <a:srgbClr val="727de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читают себя патрио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1224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1224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1224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1224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1224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</a:tr>
              <a:tr h="42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читают своих родителей патрио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ожительно относятся к понятиям «Родина», «Отечеств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считают патриотизм устаревшим понят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ресуются историей Оте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тают книги патриотической направ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ительно относятся к государственным символ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,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отрят фильмы патриотической направ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хотят жить в другой стр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57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27de0"/>
                      </a:solidFill>
                    </a:lnL>
                    <a:lnR w="5760">
                      <a:solidFill>
                        <a:srgbClr val="727de0"/>
                      </a:solidFill>
                    </a:lnR>
                    <a:lnT w="5760">
                      <a:solidFill>
                        <a:srgbClr val="727de0"/>
                      </a:solidFill>
                    </a:lnT>
                    <a:lnB w="5760">
                      <a:solidFill>
                        <a:srgbClr val="727de0"/>
                      </a:solidFill>
                    </a:lnB>
                    <a:solidFill>
                      <a:srgbClr val="727de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2" name="Прямоугольник 5"/>
          <p:cNvSpPr/>
          <p:nvPr/>
        </p:nvSpPr>
        <p:spPr>
          <a:xfrm>
            <a:off x="1714680" y="6215040"/>
            <a:ext cx="69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298b"/>
                </a:solidFill>
                <a:latin typeface="Times New Roman"/>
                <a:ea typeface="Calibri"/>
              </a:rPr>
              <a:t>Уровень развития патриотизма у  8, 9, 11 классов  -  58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240" y="3143160"/>
            <a:ext cx="29862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7"/>
          <p:cNvSpPr/>
          <p:nvPr/>
        </p:nvSpPr>
        <p:spPr>
          <a:xfrm>
            <a:off x="1403280" y="217800"/>
            <a:ext cx="745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298b"/>
                </a:solidFill>
                <a:latin typeface="Times New Roman"/>
              </a:rPr>
              <a:t>Комплекс мероприятий на базе школьной библиотеки МОУ «СОШ №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13" descr="P1030738.JPG"/>
          <p:cNvPicPr/>
          <p:nvPr/>
        </p:nvPicPr>
        <p:blipFill>
          <a:blip r:embed="rId1"/>
          <a:stretch/>
        </p:blipFill>
        <p:spPr>
          <a:xfrm>
            <a:off x="6286680" y="1428840"/>
            <a:ext cx="2571480" cy="19288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F:\ФОТО\2008-2009\встреча с центром Набат 6аб 12.12.08\P1050200.JPG"/>
          <p:cNvPicPr/>
          <p:nvPr/>
        </p:nvPicPr>
        <p:blipFill>
          <a:blip r:embed="rId2"/>
          <a:stretch/>
        </p:blipFill>
        <p:spPr>
          <a:xfrm>
            <a:off x="3786120" y="4357800"/>
            <a:ext cx="2689200" cy="20127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F:\ФОТО\2008-2009\встреча с центром Набат 6аб 12.12.08\P1050185.JPG"/>
          <p:cNvPicPr/>
          <p:nvPr/>
        </p:nvPicPr>
        <p:blipFill>
          <a:blip r:embed="rId3"/>
          <a:stretch/>
        </p:blipFill>
        <p:spPr>
          <a:xfrm>
            <a:off x="1714680" y="1357200"/>
            <a:ext cx="276048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6840" y="6426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298b"/>
                </a:solidFill>
                <a:latin typeface="Times New Roman"/>
              </a:rPr>
              <a:t>Комплекс мероприятий на базе школьной библиотеки МОУ «СОШ №5»</a:t>
            </a:r>
            <a:br>
              <a:rPr sz="2800"/>
            </a:b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0" name="Рисунок 6" descr="F:\ФОТО\2008-2009\Кл часы к 23 февраля\7аб с Ерошкиной М.Ф\P1060082.JPG"/>
          <p:cNvPicPr/>
          <p:nvPr/>
        </p:nvPicPr>
        <p:blipFill>
          <a:blip r:embed="rId1"/>
          <a:stretch/>
        </p:blipFill>
        <p:spPr>
          <a:xfrm>
            <a:off x="1357200" y="1571760"/>
            <a:ext cx="2928960" cy="22143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F:\ФОТО\2008-2009\Встреча 11 а со спасателем  Пуляевым Александром Борисовичем 8.12.08\DSC01070.JPG"/>
          <p:cNvPicPr/>
          <p:nvPr/>
        </p:nvPicPr>
        <p:blipFill>
          <a:blip r:embed="rId2"/>
          <a:stretch/>
        </p:blipFill>
        <p:spPr>
          <a:xfrm>
            <a:off x="6143760" y="1643040"/>
            <a:ext cx="2790720" cy="21826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F:\ФОТО\2008-2009\Кл часы к 23 февраля\11а с Горенковым В.С\P1060090.JPG"/>
          <p:cNvPicPr/>
          <p:nvPr/>
        </p:nvPicPr>
        <p:blipFill>
          <a:blip r:embed="rId3"/>
          <a:stretch/>
        </p:blipFill>
        <p:spPr>
          <a:xfrm>
            <a:off x="3643200" y="4429080"/>
            <a:ext cx="271476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428760"/>
            <a:ext cx="7543800" cy="12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Основные идеи и принципы реализации проекта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928880" y="1785960"/>
            <a:ext cx="62150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  открыт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 субъектной  позиции учащих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  воспитания через социально значимую деятель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 гуманистической направлен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 доступ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 сотруднич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6840" y="214200"/>
            <a:ext cx="7543800" cy="12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e298b"/>
                </a:solidFill>
                <a:latin typeface="Times New Roman"/>
              </a:rPr>
              <a:t>СОТРУДНИЧЕСТВО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6" name="Рисунок 3" descr="G:\фото\фото чапаев\DSC04046.JPG"/>
          <p:cNvPicPr/>
          <p:nvPr/>
        </p:nvPicPr>
        <p:blipFill>
          <a:blip r:embed="rId1"/>
          <a:stretch/>
        </p:blipFill>
        <p:spPr>
          <a:xfrm>
            <a:off x="1571760" y="1571760"/>
            <a:ext cx="257148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2"/>
          <a:stretch/>
        </p:blipFill>
        <p:spPr>
          <a:xfrm>
            <a:off x="3643200" y="4357800"/>
            <a:ext cx="2857680" cy="1928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9" descr=""/>
          <p:cNvPicPr/>
          <p:nvPr/>
        </p:nvPicPr>
        <p:blipFill>
          <a:blip r:embed="rId3"/>
          <a:stretch/>
        </p:blipFill>
        <p:spPr>
          <a:xfrm>
            <a:off x="6143760" y="1571760"/>
            <a:ext cx="2714400" cy="207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928520" y="785880"/>
            <a:ext cx="671508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298b"/>
                </a:solidFill>
                <a:latin typeface="Times New Roman"/>
              </a:rPr>
              <a:t>Механизмы реализации проек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 плана работы по реализации проек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условий для активной деятельности учащихся (общественно-полезной, творческо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ОКИ РЕАЛИЗАЦИИ ПРО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нтябрь 2009 – сентябрь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3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3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2:07:33Z</dcterms:created>
  <dc:creator>work</dc:creator>
  <dc:description/>
  <dc:language>en-US</dc:language>
  <cp:lastModifiedBy>FuckYouBill</cp:lastModifiedBy>
  <dcterms:modified xsi:type="dcterms:W3CDTF">2012-02-06T20:27:11Z</dcterms:modified>
  <cp:revision>55</cp:revision>
  <dc:subject/>
  <dc:title>История великой Победы</dc:title>
</cp:coreProperties>
</file>