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F52EB-FF57-4833-9260-CA8333DBB1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2876E-3D92-4FEF-AAEE-6003CB4E63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C66C5-6B9E-42E3-98CC-DB0C60491C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9E6D9-886B-426A-8CDD-3296CCC6CF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363A3-982D-4599-B55A-CD0CF010B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40EA1-AD6B-4DF9-BA79-49DDA587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A6A1D-E7C2-4FE1-9FBA-8A48D050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71D8B-4995-45D0-8A84-88449576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776B2-44FD-49A4-A988-1EA5D4D0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923AB-7674-4BD8-8ADF-88286012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D667C-C8D6-44C2-9F67-AAD09676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C0566-FFB9-49FB-A107-60DD6A28FE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72931-6B49-4706-86BC-97B92F09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37C41-58D0-4B44-BBB2-E67BE0A8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10F36-017F-46C3-89B8-089CDFDF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8856B-E62D-4BB3-B7BE-A724746C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F6BC2-F9B5-4F77-B838-414732B69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D2DC3-EB41-4679-854F-0EC264AD8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8EEA0-E34B-47EF-9CC6-AD81030400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467D2-6219-42F3-9F8E-5E6B7265C2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73948-121D-407A-A650-E5740DE10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3AFDA-B237-4609-916E-F526444768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514BD-876F-45E8-8C47-0DF180F34F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8FF47-A91E-40B4-9FE7-0B19C31AF4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3240" y="463680"/>
            <a:ext cx="399960" cy="6400800"/>
          </a:xfrm>
          <a:prstGeom prst="pie">
            <a:avLst/>
          </a:pr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" name="Arc 3"/>
          <p:cNvSpPr/>
          <p:nvPr/>
        </p:nvSpPr>
        <p:spPr>
          <a:xfrm>
            <a:off x="1333440" y="463680"/>
            <a:ext cx="399960" cy="6400800"/>
          </a:xfrm>
          <a:prstGeom prst="pie">
            <a:avLst/>
          </a:pr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7C38-38A4-4D4A-AEC6-D4E391C26C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0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8" name="AutoShape 11">
            <a:hlinkClick r:id="" action="ppaction://hlinkshowjump?jump=previousslide"/>
          </p:cNvPr>
          <p:cNvSpPr/>
          <p:nvPr/>
        </p:nvSpPr>
        <p:spPr>
          <a:xfrm flipH="1" rot="16200000">
            <a:off x="4824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492960" y="147600"/>
            <a:ext cx="188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Times New Roman"/>
              </a:rPr>
              <a:t>Меню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" name="Oval 13"/>
          <p:cNvSpPr/>
          <p:nvPr/>
        </p:nvSpPr>
        <p:spPr>
          <a:xfrm>
            <a:off x="8518680" y="125280"/>
            <a:ext cx="539640" cy="53820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" name="Oval 14"/>
          <p:cNvSpPr/>
          <p:nvPr/>
        </p:nvSpPr>
        <p:spPr>
          <a:xfrm>
            <a:off x="8470800" y="58680"/>
            <a:ext cx="541440" cy="534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" name="Arc 15"/>
          <p:cNvSpPr/>
          <p:nvPr/>
        </p:nvSpPr>
        <p:spPr>
          <a:xfrm>
            <a:off x="8729640" y="63360"/>
            <a:ext cx="284040" cy="533520"/>
          </a:xfrm>
          <a:prstGeom prst="pie">
            <a:avLst/>
          </a:prstGeom>
          <a:solidFill>
            <a:srgbClr val="090a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3" name="Arc 16"/>
          <p:cNvSpPr/>
          <p:nvPr/>
        </p:nvSpPr>
        <p:spPr>
          <a:xfrm>
            <a:off x="8472600" y="63360"/>
            <a:ext cx="284040" cy="5335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" name="Oval 17">
            <a:hlinkClick r:id="" action="ppaction://hlinkshowjump?jump=firstslide"/>
          </p:cNvPr>
          <p:cNvSpPr/>
          <p:nvPr/>
        </p:nvSpPr>
        <p:spPr>
          <a:xfrm>
            <a:off x="8555040" y="142920"/>
            <a:ext cx="378000" cy="372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rc 2"/>
          <p:cNvSpPr/>
          <p:nvPr/>
        </p:nvSpPr>
        <p:spPr>
          <a:xfrm>
            <a:off x="3240" y="463680"/>
            <a:ext cx="399960" cy="6400800"/>
          </a:xfrm>
          <a:prstGeom prst="pie">
            <a:avLst/>
          </a:pr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2" name="Arc 3"/>
          <p:cNvSpPr/>
          <p:nvPr/>
        </p:nvSpPr>
        <p:spPr>
          <a:xfrm>
            <a:off x="1333440" y="463680"/>
            <a:ext cx="399960" cy="6400800"/>
          </a:xfrm>
          <a:prstGeom prst="pie">
            <a:avLst/>
          </a:pr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4" name="AutoShape 10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1905120" y="21337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BBD2-361B-4A3B-8A8B-B9A1C56BC43C}" type="datetime">
              <a:rPr b="0" lang="ru-RU" sz="3200" spc="-1" strike="noStrike">
                <a:solidFill>
                  <a:srgbClr val="336699"/>
                </a:solidFill>
                <a:latin typeface="Arial"/>
              </a:rPr>
              <a:t>30.07.26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4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16E0-581A-4B5D-85AA-F5F6F16715A2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1905120" y="2133720"/>
            <a:ext cx="2286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97" name="WordArt 6" descr="Дуб"/>
          <p:cNvPicPr/>
          <p:nvPr/>
        </p:nvPicPr>
        <p:blipFill>
          <a:blip r:embed="rId1"/>
          <a:stretch/>
        </p:blipFill>
        <p:spPr>
          <a:xfrm>
            <a:off x="1335240" y="2279520"/>
            <a:ext cx="7242120" cy="3883320"/>
          </a:xfrm>
          <a:prstGeom prst="rect">
            <a:avLst/>
          </a:prstGeom>
          <a:ln w="0">
            <a:noFill/>
          </a:ln>
        </p:spPr>
      </p:pic>
      <p:pic>
        <p:nvPicPr>
          <p:cNvPr id="98" name="WordArt 8" descr=""/>
          <p:cNvPicPr/>
          <p:nvPr/>
        </p:nvPicPr>
        <p:blipFill>
          <a:blip r:embed="rId2"/>
          <a:stretch/>
        </p:blipFill>
        <p:spPr>
          <a:xfrm>
            <a:off x="2120760" y="444600"/>
            <a:ext cx="619452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267080" y="761760"/>
            <a:ext cx="4724640" cy="60958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Основным видом                       живописи продолжала оставатьс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конопись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ыдающимся мастером был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имон Ушаков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,                             который стал придавать                 лику Христа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еловеческие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 черты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Наиболее известными его творениями были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Троица» и                                         «Спас Нерукотворный»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Times New Roman"/>
              </a:rPr>
              <a:t>5. Живопись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28" name="Picture 5" descr="1"/>
          <p:cNvPicPr/>
          <p:nvPr/>
        </p:nvPicPr>
        <p:blipFill>
          <a:blip r:embed="rId1"/>
          <a:stretch/>
        </p:blipFill>
        <p:spPr>
          <a:xfrm>
            <a:off x="404640" y="836640"/>
            <a:ext cx="3591000" cy="48639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29" name="Text Box 6"/>
          <p:cNvSpPr/>
          <p:nvPr/>
        </p:nvSpPr>
        <p:spPr>
          <a:xfrm>
            <a:off x="1297800" y="5877000"/>
            <a:ext cx="238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Симон Ушаков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«Троица»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267080" y="761760"/>
            <a:ext cx="4724640" cy="60958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90a11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начале 17 века впервые в русской живописи появляетс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жанр портрета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арсуны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 писались с царей и выдающихся деятелей в старинной манере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 досках, яичными краскам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о 2-й половине 17 века на Руси для картин используют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холст и масляные  краски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Times New Roman"/>
              </a:rPr>
              <a:t>5. Живопись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464760" y="5805360"/>
            <a:ext cx="332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Парсуна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М.В.Скопин-Шуйский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33" name="Picture 7" descr="0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24000" y="1160640"/>
            <a:ext cx="3665520" cy="44290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4360" y="533520"/>
            <a:ext cx="7240680" cy="98568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План урока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520" y="1752120"/>
            <a:ext cx="7240320" cy="4800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6699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Arial"/>
              </a:rPr>
              <a:t>1. Образование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Arial"/>
              </a:rPr>
              <a:t>2. Наука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Arial"/>
              </a:rPr>
              <a:t>3. Литература 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Arial"/>
              </a:rPr>
              <a:t>4. Архитектура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Arial"/>
              </a:rPr>
              <a:t>5. Живопись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4360" y="151920"/>
            <a:ext cx="7240680" cy="986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Задание на урок</a:t>
            </a:r>
            <a:endParaRPr b="0" lang="en-US" sz="5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4360" y="1599840"/>
            <a:ext cx="7240680" cy="4724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Какие новшества 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оявились в русской культуре в 17 веке?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8" descr="б кустодиев школа в древней руси"/>
          <p:cNvPicPr/>
          <p:nvPr/>
        </p:nvPicPr>
        <p:blipFill>
          <a:blip r:embed="rId1"/>
          <a:stretch/>
        </p:blipFill>
        <p:spPr>
          <a:xfrm>
            <a:off x="4284720" y="784080"/>
            <a:ext cx="4464000" cy="31752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01600" y="4005360"/>
            <a:ext cx="8740800" cy="28526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17 веке появилась потребность в грамотных людях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городах и в деревнях  «грамотеи»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крывали школы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Дворяне приглашали детям учителей из-за границы. На Руси стали обучать иностранным языкам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Печатный двор выпускал учебные книги, в т.ч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Буквари». 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687 г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. в Москве открылся 1-й ВУЗ-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лавяно-греко-латинская Академия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Times New Roman"/>
              </a:rPr>
              <a:t>1. Образование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14200" y="1809720"/>
            <a:ext cx="38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Б. Кустодиев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«Школа                                   в Древней Руси»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267080" y="761760"/>
            <a:ext cx="4724640" cy="60958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Наука на Руси была развита            слабо и ориентировалась в основном на практические нужды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С освоением Сибири                 появились рукописные карты. В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678 г.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 появилась                                1-я печатная история 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Синопсис»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Технические новинки                         доставлялись                             из-за границы.                      Начинается применение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дяных двигателей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.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615 г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. была изготовлен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-я нарезная пушка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Times New Roman"/>
              </a:rPr>
              <a:t>2. Развитие науки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983520" y="5559480"/>
            <a:ext cx="224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Карта Сибири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17 век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10" name="Picture 7" descr="Рисунок1"/>
          <p:cNvPicPr/>
          <p:nvPr/>
        </p:nvPicPr>
        <p:blipFill>
          <a:blip r:embed="rId1"/>
          <a:stretch/>
        </p:blipFill>
        <p:spPr>
          <a:xfrm>
            <a:off x="179280" y="1625760"/>
            <a:ext cx="3959280" cy="33159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267080" y="761760"/>
            <a:ext cx="4724640" cy="60958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17 в. появляются                              новы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жанры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                                          в русской литературе 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атирические сказки, жизнеописания,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их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Переводится                          иностранная литература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Times New Roman"/>
              </a:rPr>
              <a:t>3. Литература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3" name="Picture 5" descr="6"/>
          <p:cNvPicPr/>
          <p:nvPr/>
        </p:nvPicPr>
        <p:blipFill>
          <a:blip r:embed="rId1"/>
          <a:stretch/>
        </p:blipFill>
        <p:spPr>
          <a:xfrm>
            <a:off x="446040" y="836640"/>
            <a:ext cx="3621240" cy="51847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4" name="Text Box 7"/>
          <p:cNvSpPr/>
          <p:nvPr/>
        </p:nvSpPr>
        <p:spPr>
          <a:xfrm>
            <a:off x="1069200" y="6211800"/>
            <a:ext cx="22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Книга 17 века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143240" y="761760"/>
            <a:ext cx="4848480" cy="60958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архитектуре 17 века                       наблюдается отход от строгих церковных правил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частности, появляется т.н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шатровый стиль,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 характерный для купеческих посадов и городов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озрождаются традиции древнерусской архитектуры 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омары,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ркатурный пояс,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аменная резьба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Times New Roman"/>
              </a:rPr>
              <a:t>4. Архитектура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479160" y="5918040"/>
            <a:ext cx="34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Церковь Ильи Пророка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в Ярославле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18" name="Picture 6" descr="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98520" y="907920"/>
            <a:ext cx="3597120" cy="49006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Times New Roman"/>
              </a:rPr>
              <a:t>4. Архитектура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4419360"/>
            <a:ext cx="8763120" cy="2438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Особенно нагляд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узорочье» 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нашло отражение при создани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ремного дворца 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Грановитой палаты 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Кремле. Они были украшены изразцами, наличниками, золочёной кровлей и приобрели сказочный вид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1" name="Picture 6" descr="4"/>
          <p:cNvPicPr/>
          <p:nvPr/>
        </p:nvPicPr>
        <p:blipFill>
          <a:blip r:embed="rId1"/>
          <a:stretch/>
        </p:blipFill>
        <p:spPr>
          <a:xfrm>
            <a:off x="755640" y="839880"/>
            <a:ext cx="3743280" cy="35035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pic>
        <p:nvPicPr>
          <p:cNvPr id="122" name="Picture 7" descr="3"/>
          <p:cNvPicPr/>
          <p:nvPr/>
        </p:nvPicPr>
        <p:blipFill>
          <a:blip r:embed="rId2"/>
          <a:stretch/>
        </p:blipFill>
        <p:spPr>
          <a:xfrm>
            <a:off x="6249960" y="836640"/>
            <a:ext cx="2209680" cy="35146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28600" y="4357440"/>
            <a:ext cx="8763120" cy="25002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еревянная архитектура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 достигла своего расцвета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сел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ломенском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 был построен летний                       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еревянный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ворец Алексея Михайловича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,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а в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ижах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 возведен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ез единого гвоздя                                               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22-глава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еображенская церковь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Times New Roman"/>
              </a:rPr>
              <a:t>4. Архитектура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25" name="Picture 5" descr="2"/>
          <p:cNvPicPr/>
          <p:nvPr/>
        </p:nvPicPr>
        <p:blipFill>
          <a:blip r:embed="rId1"/>
          <a:stretch/>
        </p:blipFill>
        <p:spPr>
          <a:xfrm>
            <a:off x="468360" y="851040"/>
            <a:ext cx="8316720" cy="36432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2T15:12:29Z</dcterms:created>
  <dc:creator>Чернов Алексей</dc:creator>
  <dc:description/>
  <dc:language>en-US</dc:language>
  <cp:lastModifiedBy>Ольчик</cp:lastModifiedBy>
  <cp:lastPrinted>1997-01-19T19:09:28Z</cp:lastPrinted>
  <dcterms:modified xsi:type="dcterms:W3CDTF">2012-02-06T19:49:53Z</dcterms:modified>
  <cp:revision>189</cp:revision>
  <dc:subject/>
  <dc:title>Заголовок слайда отсутствует</dc:title>
</cp:coreProperties>
</file>