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27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5.wmf" ContentType="image/x-wmf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910-C74A-45DD-9782-328B6711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06E-0380-471A-A670-803D5736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17A-B40D-4B9C-B5C7-B55511E8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8AB-E101-453D-918D-6355A127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6CCF-F287-4A3D-9EF1-3C0EDA45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0EC7-AA91-43B8-8E30-1690EA63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3B01-29E0-43BA-BB61-89702031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A2E3-99CD-4AB1-8B3A-C75F9F68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E1AE-BAED-4015-9909-9B182CEB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E37C-CC6B-40FB-B473-FBC6CD8F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395E-77F7-4C22-8465-BD0E1640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38F-8FF3-4AB6-A384-51793657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6592-672F-496E-83C1-A0A2CE4E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1114-8A9C-47FB-93A0-9D69FDFF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9496-2406-4E44-A2DD-AEE3B387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75DC-EF86-423B-A342-76082AF0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944B-E5C7-4FC5-8B5F-FC29985C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33B-E9A2-40F3-B0BF-6AA79360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FD7-4C5E-423B-9019-2E3BFC4B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0AE-9BF1-4B66-8C27-4C5D822E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0F1-5C9A-47DF-AD41-A5E22973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8F10-7B2F-4378-B2BD-1F3CBF96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903-6E20-4153-90E1-51CABB6A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9A6-0ED1-40D2-97D0-7D89A36F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1279-962E-4598-8987-A6A0FF756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6A70-9EAE-4831-9BF0-2E5A731C7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8f8f8"/>
                </a:solidFill>
                <a:latin typeface="AriaX"/>
              </a:rPr>
              <a:t>Жидкое, а не вода,</a:t>
            </a:r>
            <a:br>
              <a:rPr sz="9600"/>
            </a:br>
            <a:r>
              <a:rPr b="1" i="1" lang="en-US" sz="9600" spc="-1" strike="noStrike">
                <a:solidFill>
                  <a:srgbClr val="f8f8f8"/>
                </a:solidFill>
                <a:latin typeface="AriaX"/>
              </a:rPr>
              <a:t>Белое, а не снег.</a:t>
            </a:r>
            <a:endParaRPr b="1" lang="en-US" sz="9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41964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X"/>
              </a:rPr>
              <a:t>Выполнила</a:t>
            </a:r>
            <a:r>
              <a:rPr b="0" i="1" lang="en-US" sz="2400" spc="-1" strike="noStrike">
                <a:solidFill>
                  <a:srgbClr val="ffffff"/>
                </a:solidFill>
                <a:latin typeface="AriaX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X"/>
              </a:rPr>
              <a:t>Никулина Галина Иван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X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X"/>
              </a:rPr>
              <a:t>МОУ «СОШ №4» г.Энгель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Редкие виды молока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348000" y="620640"/>
            <a:ext cx="33847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зье молоко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468360" y="1916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316480" y="2781360"/>
            <a:ext cx="2565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411280" y="692280"/>
            <a:ext cx="46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былье молоко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5148360" y="2060640"/>
            <a:ext cx="2736720" cy="2131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900000" y="2781360"/>
            <a:ext cx="37432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68360" y="620640"/>
            <a:ext cx="47516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синое молоко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556000" y="1700280"/>
            <a:ext cx="33192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627280" y="836640"/>
            <a:ext cx="47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вечье молоко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3456000" cy="2522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4140360" y="2924280"/>
            <a:ext cx="39924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56000" y="836640"/>
            <a:ext cx="4402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йволиное молоко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116000" y="2708280"/>
            <a:ext cx="2808360" cy="24145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319720" y="2924280"/>
            <a:ext cx="2565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       </a:t>
            </a: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Молочные продукты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лочные продукты получают при помощ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парато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84720" y="1268280"/>
            <a:ext cx="2160720" cy="24782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1800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               </a:t>
            </a: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Загадки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рная, густ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звалась........   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мет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927240" cy="2863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68360" y="4581360"/>
            <a:ext cx="849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метана так названа потому, что её сметают – в отличие от сливок, которые слив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исконно русский национальный продукт, знакомый долгое время только жителям нашей страны. За границу она проникла лишь после второй мировой войны. В некоторых странах сметану так и называют  «русскими сливкам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                 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47530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менит он на весь 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кусный, кисленький…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751360" y="404640"/>
            <a:ext cx="3392640" cy="4105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11280" y="2193840"/>
            <a:ext cx="5040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иной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ефир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читается северный склон Кавказского хребта, где у разных племен он существует под различными назван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реди кавказских народов существует много легенд о кефире, его происхождении и распространении. Кефирные грибки раньше назывались кефирными зернами. Горцы называли эти зерна «пшеном пророка» и приписывали им божественное происхожд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начала кефир распространился по всему Кавказу и Крыму, а затем проник в Россию и даже Западную Европу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392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 не сливки, не сыро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лый, вкусный…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ворож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003640" y="260280"/>
            <a:ext cx="4140360" cy="4249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24000" y="2349360"/>
            <a:ext cx="864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России творог появился оч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вно. Уже в IX-X вв. творог бы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 славян продуктом чуть ли 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вседневного пит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люда из творога долгое врем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зывались в России сырным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 и сейчас мы говорим, наприме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ырники, а не творож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нтром производства творог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России издавна бы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стовский уезд Ярославской губернии, откуда этот продукт направляли в Москву. В продаже в России был главным образом так называемый сборный творог. Его копили в течение всего великого поста, когда потребление молока в деревне почти прекращалось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Молоко и молочные продукты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280" y="333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жевой наряжен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кефир, а …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яже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хний слой моло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юбимое лакомство к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ив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0920" y="54900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репка жёл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 всех сторо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 больше дыр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 лучше 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ы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500360" cy="43196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826920" y="5084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колько лет насчитывает родословна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ыр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— три столетия, пять, а может, десять? Не будем гадать, а лучше обратимся к одной из многочисленных легенд, рассказывающих о появлении этого замечательного проду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800748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1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уть сметанки в молок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заквасилось оно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юбят Саши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юбят Даши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Есть на ужин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стокваш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56144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юди каких профессий работают на ферме и что они делают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98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920" y="404640"/>
            <a:ext cx="7478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лечит животны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теринар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048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640" y="404280"/>
            <a:ext cx="83059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доит и ухаживает за ним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яр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3888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8497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ухаживает за животным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т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977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разводит животных и ухаживает за ним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оотех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56000" y="3141720"/>
            <a:ext cx="39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6000" y="333360"/>
            <a:ext cx="6767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ейте, дети, молок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Будете здоровы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076720" y="3068640"/>
            <a:ext cx="3676680" cy="318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46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Более10 тысяч лет назад первобытные мужчины иногда приносили с охоты детёнышей убитых животных. Их можно было выкормить и приручить. Первым домашним животным стала собака. Потом люди одомашнили свиней, коз, овец и коров. Так люди стали получать молоко.</a:t>
            </a:r>
            <a:br>
              <a:rPr sz="2800"/>
            </a:b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4105080" cy="64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редние века люди употребляли в основном козье и коровье моло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ловек вскоре понял, что доить одну корову выгоднее и быстрее, чем 10 коз. С 1500 года в основном  употребляли коровье моло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88000" y="404640"/>
            <a:ext cx="435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Как получают молоко</a:t>
            </a: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38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Из чего состоит молоко</a:t>
            </a: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88920" y="4940280"/>
            <a:ext cx="136692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245280" y="1844640"/>
            <a:ext cx="172728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16560" y="5013360"/>
            <a:ext cx="144000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04920" y="141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63840" y="6093000"/>
            <a:ext cx="208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5300280"/>
            <a:ext cx="80074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348000" y="2852640"/>
            <a:ext cx="2533680" cy="1979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5884920" y="328464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56920" y="4940280"/>
            <a:ext cx="136692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813280" y="1844640"/>
            <a:ext cx="172728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84920" y="5013360"/>
            <a:ext cx="143964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3280" y="1413000"/>
            <a:ext cx="223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гле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,5-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05640" y="13399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ры 2,7-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31840" y="6093000"/>
            <a:ext cx="208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92200" y="6237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елки 3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5280" y="6093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итами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97280" y="400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24200" y="126828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кро – элементы(фосфор, кальц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32200" y="227664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96560" y="400536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8560" y="3787920"/>
            <a:ext cx="115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3-89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4560" y="2276640"/>
            <a:ext cx="122364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8f8f8"/>
                </a:solidFill>
                <a:latin typeface="Arial Black"/>
              </a:rPr>
              <a:t>Определи состав мол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ВКУСНЫЕ И ПОЛЕЗНЫЕ, ОТВЕЧАЮ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 СОСТОЯНИЕ КОЖИ, ЗРЕНИЯ, ИММУНИТ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1600200"/>
            <a:ext cx="397044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177336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1792440"/>
            <a:ext cx="45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48360" y="227664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4000" y="177336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2276640"/>
            <a:ext cx="504720" cy="5029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0" y="278136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284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378936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0" y="4292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0" y="479736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5300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69080" y="1844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8360" y="2349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8720" y="28526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33577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9080" y="386064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41440" y="4365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8690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9080" y="537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2421000"/>
            <a:ext cx="35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МАЛЕНЬКИЕ КРУГЛЫЕ ЧАСТИЧКИ, ПРИ ИЗБЫТКЕ ОТКЛАДЫВАЮТСЯ НА ТАЛ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92720" y="2276640"/>
            <a:ext cx="504720" cy="5029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2276640"/>
            <a:ext cx="504720" cy="5029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04000" y="2276640"/>
            <a:ext cx="504720" cy="5029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65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44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888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35772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ЭЛЕМЕНТ, ОТВЕЧАЮЩИЙ ЗА КРЕПОСТЬ КОСТ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92720" y="3284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0720" y="3284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04000" y="3284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08720" y="3284640"/>
            <a:ext cx="50508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12000" y="3284640"/>
            <a:ext cx="50508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17080" y="3284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9280" y="337644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25640" y="33764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29640" y="33764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33640" y="337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10000" y="33764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441640" y="33764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4076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СТРОИТЕЛЬНЫЙ МАТЕРИАЛ ОРГАНИЗМ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378936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292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479736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5300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580536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12920" y="3881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32360" y="429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12920" y="4889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13640" y="539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13280" y="589752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581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 СЛАДКИЙ И ВКУСНЫЙ – ИСТОЧНИК ЭНЕРГ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92720" y="5300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5300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80000" y="5300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300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5300640"/>
            <a:ext cx="50508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5300640"/>
            <a:ext cx="50508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93640" y="539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97280" y="539280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01640" y="5392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05640" y="539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10360" y="53928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17640" y="5392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49640" y="174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73640" y="232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44920" y="325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68560" y="383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49280" y="534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Свойства молока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им из 113 замечательных свойств молока является его способность к сквашиванию. Вроде бы испорченный продукт через некоторое время вдруг приобретает совершенно новый вкус и приятный аромат. Люди давно заметили это свойство молока и употребили его себе во благо. Русские издавна готовят простоквашу и варенец, грузины — мацони, казахи — кумыс, украинцы — ряженку, болгары — йогурт — все это кисло-молочные продукты. Их ассортимент у разных народов настолько широк, что и не перечисл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20:02:00Z</dcterms:created>
  <dc:creator>Иван</dc:creator>
  <dc:description/>
  <dc:language>en-US</dc:language>
  <cp:lastModifiedBy>Admin</cp:lastModifiedBy>
  <dcterms:modified xsi:type="dcterms:W3CDTF">2012-01-15T20:19:26Z</dcterms:modified>
  <cp:revision>11</cp:revision>
  <dc:subject/>
  <dc:title>Молоко и молочные продукты</dc:title>
</cp:coreProperties>
</file>