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5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5D5-B0D6-4124-9CF6-F136197C9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6E8-2072-405B-954E-2D5705C7D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AAA-04AD-4FBB-83CC-60DAE7FA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D8B-EA68-44FE-A278-714D73BA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63F-1CEA-4CFC-87F1-52ED7A2D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D28-087E-4C3B-9A3B-D255DE73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3C7-020B-40C0-877B-8F6978C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311-A962-4960-86C0-41BCBC38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46E-7717-4F25-9579-E89CD7DB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9FD-88EB-4AE6-A77E-FB63B41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FE9-662B-4FE2-AFBD-90205BF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1F0-BBBD-4AB0-A6A5-D0AE580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2B5-0FC4-4367-9E2C-5B8E2F6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666-2806-402C-8770-4AD0813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A39-A811-4AFA-A013-8F3497F08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7" descr=""/>
          <p:cNvPicPr/>
          <p:nvPr/>
        </p:nvPicPr>
        <p:blipFill>
          <a:blip r:embed="rId1"/>
          <a:stretch/>
        </p:blipFill>
        <p:spPr>
          <a:xfrm>
            <a:off x="2011320" y="433440"/>
            <a:ext cx="7004160" cy="262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j0254488"/>
          <p:cNvPicPr/>
          <p:nvPr/>
        </p:nvPicPr>
        <p:blipFill>
          <a:blip r:embed="rId2"/>
          <a:stretch/>
        </p:blipFill>
        <p:spPr>
          <a:xfrm>
            <a:off x="533520" y="2362320"/>
            <a:ext cx="2394000" cy="239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93240" y="5257800"/>
            <a:ext cx="36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резентацию сост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Марцин Лилия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ЗАМОРО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З 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58128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in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2860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ью-Йорке больше ирландцев, чем в Дублине, больше евреев, чем в Тель-Авиве, есть своя «Малая Италия», свой «Чайна-Таун». Чем вы объясните современную многонациональную структур СШ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228600" y="914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 Люди в этих населенных пунктах живут очень уединенно. Связь с внешним миром осуществляется преимущественно с помощью телефона и радио. О какой форме расселения идет речь? В каких странах она распростране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80880" y="2133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Влияет ли религия на тип воспроизводства? Ответ обоснуй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380880" y="25909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Древнегреческий математик и философ Пифагор, рассматривавший человеческую жизнь в аспекте времен года, предлагал различать в ней четыре сезона: весну (детство), лето (молодость), осень (зрелость), зиму (старость). Руководствуясь какими критериями можно отнести население страны к тому или иному времени г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380880" y="4419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Что такое субурбанизация? какой вид внутренних миграций характерен для этого процесса? Как связаны между собой субурбанизация и развитие агломераци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304920" y="54100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.    Чем характеризуется понятие «качество населен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380880" y="5934240"/>
            <a:ext cx="90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   В какой стране на португальском говорят в 14 раз больше людей, чем в Португали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8"/>
          <p:cNvSpPr/>
          <p:nvPr/>
        </p:nvSpPr>
        <p:spPr>
          <a:xfrm>
            <a:off x="8077320" y="6172200"/>
            <a:ext cx="685800" cy="68580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c8c93"/>
                </a:solidFill>
                <a:latin typeface="Arial"/>
              </a:rPr>
              <a:t>«ВЕРИШЬ – НЕ ВЕРИШЬ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13712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рбанизация – это слияние город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уддизм распространен в Новой Зела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сокий уровень рождаемости характерен для К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70% населения проживает на 7% суш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лотно заселены тропические пустыни, тайга, тундр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урция, Пакистан, Индия – страны иммиг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90% прироста населения приходится на Р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В начале 21 века в пятерку крупнейших агломераций будут входить агломерации таких городов как Токио, Мехико, Сан-Пау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796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Деревенская форма расселения характерна для России, З. Европ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Лучшими городами по качеству жизни признаны – Берн, Ванкувер, Вена, Цюри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 Китайцы, хиндустанцы, американцы – крупнейшие народы мир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В мире количество женщин превышает количество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    Синтоизм – мировая рели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 Более половины населения Земли сосредоточена в 5- км полосе вдоль побереж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Второй тип воспроизводства характерен для Э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  Арабское население 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ведует ис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E:\Мои  документы\Мои рисунки\69432.gif"/>
          <p:cNvPicPr/>
          <p:nvPr/>
        </p:nvPicPr>
        <p:blipFill>
          <a:blip r:embed="rId1"/>
          <a:stretch/>
        </p:blipFill>
        <p:spPr>
          <a:xfrm>
            <a:off x="7772400" y="55627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04920" y="304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ЛИЦ-ВОПРОС: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Население в циф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158720" y="114300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«ЧТО ТАКОЕ? КТО ТАКОЙ?»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58480" y="19051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АЗОВИ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514600" y="2438280"/>
            <a:ext cx="5943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Геотест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_x000b_ «В ДЕБРЯХ КОВАРНЫХ ВОПРОСОВ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80880" y="3352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ТОЛИЦЫ- АНАГРАМ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514600" y="4267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МОРОЧКИ ИЗ 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714960" y="533412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ВЕРИШЬ – НЕ ВЕРИШ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БЛИЦ-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в циф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28564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2-8 =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-5 ты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8 ч/км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7,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62160" y="2362320"/>
            <a:ext cx="5181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 млрд. ч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-20 мл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344 млрд. ч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 млрд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но 1 5"/>
          <p:cNvSpPr/>
          <p:nvPr/>
        </p:nvSpPr>
        <p:spPr>
          <a:xfrm>
            <a:off x="7924680" y="5943600"/>
            <a:ext cx="914400" cy="91440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«ЧТО ТАКОЕ? КТО ТАКОЙ?»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комментируйте содержание понят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лом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графический взры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поп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графическая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игр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галопо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к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о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б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2-конечная звезда 7"/>
          <p:cNvSpPr/>
          <p:nvPr/>
        </p:nvSpPr>
        <p:spPr>
          <a:xfrm>
            <a:off x="8153280" y="6095880"/>
            <a:ext cx="990720" cy="762120"/>
          </a:xfrm>
          <a:custGeom>
            <a:avLst/>
            <a:gdLst>
              <a:gd name="textAreaLeft" fmla="*/ 232560 w 990720"/>
              <a:gd name="textAreaRight" fmla="*/ 758160 w 990720"/>
              <a:gd name="textAreaTop" fmla="*/ 178920 h 762120"/>
              <a:gd name="textAreaBottom" fmla="*/ 583200 h 762120"/>
            </a:gdLst>
            <a:ahLst/>
            <a:rect l="textAreaLeft" t="textAreaTop" r="textAreaRight" b="textAreaBottom"/>
            <a:pathLst>
              <a:path w="990600" h="762000">
                <a:moveTo>
                  <a:pt x="0" y="381000"/>
                </a:moveTo>
                <a:lnTo>
                  <a:pt x="136483" y="307042"/>
                </a:lnTo>
                <a:lnTo>
                  <a:pt x="66358" y="190500"/>
                </a:lnTo>
                <a:lnTo>
                  <a:pt x="232628" y="178944"/>
                </a:lnTo>
                <a:lnTo>
                  <a:pt x="247650" y="51044"/>
                </a:lnTo>
                <a:lnTo>
                  <a:pt x="399155" y="104987"/>
                </a:lnTo>
                <a:lnTo>
                  <a:pt x="495300" y="0"/>
                </a:lnTo>
                <a:lnTo>
                  <a:pt x="591445" y="104987"/>
                </a:lnTo>
                <a:lnTo>
                  <a:pt x="742950" y="51044"/>
                </a:lnTo>
                <a:lnTo>
                  <a:pt x="757972" y="178944"/>
                </a:lnTo>
                <a:lnTo>
                  <a:pt x="924242" y="190500"/>
                </a:lnTo>
                <a:lnTo>
                  <a:pt x="854117" y="307042"/>
                </a:lnTo>
                <a:lnTo>
                  <a:pt x="990600" y="381000"/>
                </a:lnTo>
                <a:lnTo>
                  <a:pt x="854117" y="454958"/>
                </a:lnTo>
                <a:lnTo>
                  <a:pt x="924242" y="571500"/>
                </a:lnTo>
                <a:lnTo>
                  <a:pt x="757972" y="583056"/>
                </a:lnTo>
                <a:lnTo>
                  <a:pt x="742950" y="710956"/>
                </a:lnTo>
                <a:lnTo>
                  <a:pt x="591445" y="657013"/>
                </a:lnTo>
                <a:lnTo>
                  <a:pt x="495300" y="762000"/>
                </a:lnTo>
                <a:lnTo>
                  <a:pt x="399155" y="657013"/>
                </a:lnTo>
                <a:lnTo>
                  <a:pt x="247650" y="710956"/>
                </a:lnTo>
                <a:lnTo>
                  <a:pt x="232628" y="583056"/>
                </a:lnTo>
                <a:lnTo>
                  <a:pt x="66358" y="571500"/>
                </a:lnTo>
                <a:lnTo>
                  <a:pt x="136483" y="45495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5486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ЗОВИ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53352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– карлик по численност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– гигант по численности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ногонациональная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– город, где 100% городск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с наибольшей ожидаемой продолжительностью жизни в 21 в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– лидер по плотности населения (кроме стран-карл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национальные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, девиз дем. политики которой: «Нас двое – нам двои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, девиз дем. политики которой: «Одна семья – один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страна попала в книгу рекордов Гиннеса в номинации «Дефицит женщ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низкая доля детей (1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высокая доля детей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E:\Мои  документы\Мои рисунки\32.gif"/>
          <p:cNvPicPr/>
          <p:nvPr/>
        </p:nvPicPr>
        <p:blipFill>
          <a:blip r:embed="rId1"/>
          <a:stretch/>
        </p:blipFill>
        <p:spPr>
          <a:xfrm>
            <a:off x="7394400" y="-55440"/>
            <a:ext cx="1852920" cy="1847880"/>
          </a:xfrm>
          <a:prstGeom prst="rect">
            <a:avLst/>
          </a:prstGeom>
          <a:ln w="0">
            <a:noFill/>
          </a:ln>
        </p:spPr>
      </p:pic>
      <p:sp>
        <p:nvSpPr>
          <p:cNvPr id="69" name="32-конечная звезда 6"/>
          <p:cNvSpPr/>
          <p:nvPr/>
        </p:nvSpPr>
        <p:spPr>
          <a:xfrm>
            <a:off x="7848720" y="6095880"/>
            <a:ext cx="990360" cy="762120"/>
          </a:xfrm>
          <a:custGeom>
            <a:avLst/>
            <a:gdLst>
              <a:gd name="textAreaLeft" fmla="*/ 226080 w 990360"/>
              <a:gd name="textAreaRight" fmla="*/ 764280 w 9903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Геотес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 ДЕБРЯХ КОВАРНЫХ ВОПРОСОВ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533160"/>
            <a:ext cx="9601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   Какое из перечисленных государств возглавляет королева Великобрита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Ямайка               б) Коста-Рика             в) Гана               г) Шри-Ланка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Кто является главой государства Н.Зеланд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президент США            б) король Испании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император Японии        г) королева Великобритани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   Исторически первым городом – «миллионером» бы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Токио             б) Рим               в) Рио-де-Жанейро               г) Лондон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  Какого статуса домов сумели добиться от властей англич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цитадель       б) крепость        в) бункер            г) блиндаж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   В какой стране национальная  одежда  кимо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Китай           б) Корея               в) Япония           г) Индия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   Когда национальные границы  совпадают с политическими, образуются государ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многонациональные             б) двунациональны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однонациональные               г) самостоятельные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   Женщины какой страны носят сари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Япония          б) Греция            в) Индия             г) Монго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   Как почтительно обращаются к мужчинам в Польш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сье           б) пан          в) сэр             г) дон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)    И житель Сеула, и житель Пхеньяна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ореец               б) китаец                   в) вьетнамец                г) монгол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)   Какая из этих достопримечательностей находится в Ин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Фудзияма             б) Колизей                в) Тадж -Махал               г) Тауэр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)   Какой город удостоен титула «вечный город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иев            б) Каир            в) Стамбул            г) Рим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)   Какому из этих слов «дал жизнь» немецкий город Кельн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улон        б) одеколон            в) колье               г) колония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)   Перемещение иностранных ученых, инженеров, врачей, спортсменов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х специалистов высокой квалифик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«утечка мускулов»                   б) «утечка денег»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«утечка знаний»                       г) «утечка мозгов»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)  Какой город является центром трех мировых религ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ерусалим            б) Москва             в) Рим                 г) Стамб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2-конечная звезда 3"/>
          <p:cNvSpPr/>
          <p:nvPr/>
        </p:nvSpPr>
        <p:spPr>
          <a:xfrm>
            <a:off x="7772400" y="5943600"/>
            <a:ext cx="1143000" cy="68580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ТОЛИЦЫ- АНАГРАММ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подсказок отгадайте исходное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переставляйте в нем буквы так, чтобы получилась столица государ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вам тоже помогут под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243080" y="4138560"/>
            <a:ext cx="183492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5410080" y="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С помощью подсказок отгадайте исходное сл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Далее переставляйте в нем буквы так, чтобы получилась столица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В этом вам тоже помогут подск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0" y="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c8c93"/>
                </a:solidFill>
                <a:uFillTx/>
                <a:latin typeface="Arial"/>
              </a:rPr>
              <a:t>СТОЛИЦЫ- АНАГРАММ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5"/>
          <p:cNvSpPr/>
          <p:nvPr/>
        </p:nvSpPr>
        <p:spPr>
          <a:xfrm>
            <a:off x="8077320" y="6248520"/>
            <a:ext cx="838080" cy="609480"/>
          </a:xfrm>
          <a:custGeom>
            <a:avLst/>
            <a:gdLst>
              <a:gd name="textAreaLeft" fmla="*/ 196560 w 838080"/>
              <a:gd name="textAreaRight" fmla="*/ 641520 w 838080"/>
              <a:gd name="textAreaTop" fmla="*/ 142920 h 609480"/>
              <a:gd name="textAreaBottom" fmla="*/ 466560 h 609480"/>
            </a:gdLst>
            <a:ahLst/>
            <a:rect l="textAreaLeft" t="textAreaTop" r="textAreaRight" b="textAreaBottom"/>
            <a:pathLst>
              <a:path w="838200" h="609600">
                <a:moveTo>
                  <a:pt x="0" y="304800"/>
                </a:moveTo>
                <a:lnTo>
                  <a:pt x="115485" y="245634"/>
                </a:lnTo>
                <a:lnTo>
                  <a:pt x="56149" y="152400"/>
                </a:lnTo>
                <a:lnTo>
                  <a:pt x="196839" y="143155"/>
                </a:lnTo>
                <a:lnTo>
                  <a:pt x="209550" y="40835"/>
                </a:lnTo>
                <a:lnTo>
                  <a:pt x="337747" y="83989"/>
                </a:lnTo>
                <a:lnTo>
                  <a:pt x="419100" y="0"/>
                </a:lnTo>
                <a:lnTo>
                  <a:pt x="500453" y="83989"/>
                </a:lnTo>
                <a:lnTo>
                  <a:pt x="628650" y="40835"/>
                </a:lnTo>
                <a:lnTo>
                  <a:pt x="641361" y="143155"/>
                </a:lnTo>
                <a:lnTo>
                  <a:pt x="782051" y="152400"/>
                </a:lnTo>
                <a:lnTo>
                  <a:pt x="722715" y="245634"/>
                </a:lnTo>
                <a:lnTo>
                  <a:pt x="838200" y="304800"/>
                </a:lnTo>
                <a:lnTo>
                  <a:pt x="722715" y="363966"/>
                </a:lnTo>
                <a:lnTo>
                  <a:pt x="782051" y="457200"/>
                </a:lnTo>
                <a:lnTo>
                  <a:pt x="641361" y="466445"/>
                </a:lnTo>
                <a:lnTo>
                  <a:pt x="628650" y="568765"/>
                </a:lnTo>
                <a:lnTo>
                  <a:pt x="500453" y="525611"/>
                </a:lnTo>
                <a:lnTo>
                  <a:pt x="419100" y="609600"/>
                </a:lnTo>
                <a:lnTo>
                  <a:pt x="337747" y="525611"/>
                </a:lnTo>
                <a:lnTo>
                  <a:pt x="209550" y="568765"/>
                </a:lnTo>
                <a:lnTo>
                  <a:pt x="196839" y="466445"/>
                </a:lnTo>
                <a:lnTo>
                  <a:pt x="56149" y="457200"/>
                </a:lnTo>
                <a:lnTo>
                  <a:pt x="115485" y="3639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-658080"/>
            <a:ext cx="9144000" cy="76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нтоним ссоры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еке Тибр, «вечный город»)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итерская водная артерия -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 на Дунае, «столица вальсов»)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ешеходная улица Москвы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в Африке, «апельсиновая столицы»)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ахарный остров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в Закавказье, на Каспийском море)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ланета – богиня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еке Раздан, в Закавказье)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едвежья ягод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в Ю-В Азии, на о-ве Лусон) 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ое занятие детей и актеров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еке Даугава, в Прибалтике)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чень приличная леди на английский манер -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. Джамма, в Азии)  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лазные шторки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. Днепр, в Вост. Европе)    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ывает красная, черная, кабачковая, баклажанная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на р. Нил, С-В Африки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12-02-02T15:05:3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