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media/image1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notesMasterIdLst>
    <p:notesMasterId r:id="rId52"/>
  </p:notesMasterIdLst>
  <p:sldIdLst>
    <p:sldId id="256" r:id="rId53"/>
    <p:sldId id="257" r:id="rId54"/>
    <p:sldId id="258" r:id="rId55"/>
    <p:sldId id="259" r:id="rId56"/>
    <p:sldId id="260" r:id="rId57"/>
    <p:sldId id="261" r:id="rId58"/>
    <p:sldId id="262" r:id="rId59"/>
    <p:sldId id="263" r:id="rId60"/>
    <p:sldId id="264" r:id="rId61"/>
    <p:sldId id="265" r:id="rId62"/>
    <p:sldId id="266" r:id="rId63"/>
    <p:sldId id="267" r:id="rId64"/>
    <p:sldId id="268" r:id="rId65"/>
    <p:sldId id="269" r:id="rId66"/>
    <p:sldId id="27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notesMaster" Target="notesMasters/notesMaster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slide" Target="slides/slide5.xml"/><Relationship Id="rId58" Type="http://schemas.openxmlformats.org/officeDocument/2006/relationships/slide" Target="slides/slide6.xml"/><Relationship Id="rId59" Type="http://schemas.openxmlformats.org/officeDocument/2006/relationships/slide" Target="slides/slide7.xml"/><Relationship Id="rId60" Type="http://schemas.openxmlformats.org/officeDocument/2006/relationships/slide" Target="slides/slide8.xml"/><Relationship Id="rId61" Type="http://schemas.openxmlformats.org/officeDocument/2006/relationships/slide" Target="slides/slide9.xml"/><Relationship Id="rId62" Type="http://schemas.openxmlformats.org/officeDocument/2006/relationships/slide" Target="slides/slide10.xml"/><Relationship Id="rId63" Type="http://schemas.openxmlformats.org/officeDocument/2006/relationships/slide" Target="slides/slide11.xml"/><Relationship Id="rId64" Type="http://schemas.openxmlformats.org/officeDocument/2006/relationships/slide" Target="slides/slide12.xml"/><Relationship Id="rId65" Type="http://schemas.openxmlformats.org/officeDocument/2006/relationships/slide" Target="slides/slide13.xml"/><Relationship Id="rId66" Type="http://schemas.openxmlformats.org/officeDocument/2006/relationships/slide" Target="slides/slide14.xml"/><Relationship Id="rId67" Type="http://schemas.openxmlformats.org/officeDocument/2006/relationships/slide" Target="slides/slide15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dt" idx="14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 type="ftr" idx="14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6"/>
          <p:cNvSpPr>
            <a:spLocks noGrp="1"/>
          </p:cNvSpPr>
          <p:nvPr>
            <p:ph type="sldNum" idx="15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AF15-3461-490E-A9DA-25F8B19153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54FC-7A03-4B23-837A-CE3C05C43D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9526-DC0A-4F74-BCF4-AE44436376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A7E1-55A7-4424-9D9F-174E1E3E3C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FE4-C9CD-47BA-ABB1-B9C66AA3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70F-EDE6-449B-ABF4-900D83B8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2DEAE-3842-4855-AD7A-4B3EC2FA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A5CE1-937C-43D9-A835-4BA1575A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58D93-F5C3-4181-87CE-1E0E3142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3213A-D301-4F77-AF0C-6A9E677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18F68-08F6-4911-AA77-6AD3775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D12BB-B551-42E6-A20C-B838B0E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56BE0-4FE7-4FCF-98B5-725AFB24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DD18F-EB44-4182-9C92-A74FE4BF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3F1EC-8BE2-4E68-836D-3FFD7AD0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CD0A3-C7C6-4EAF-8796-C79D0651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2AB-DC3F-454A-A7D6-8553ED4C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59D3A-9258-4A42-A130-BA07DE9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0337F-F031-44C7-B336-B51FFBF8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5EE13-E788-43AF-9214-27B5E23C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00FFA-07F0-4CA2-9253-24846148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D99C2-6B77-48DE-B2F1-16E7D3FD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15DF8-6867-4EEB-B0E3-4DD48E66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EA849-50B1-449D-A5BB-6537B74E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AAD28-CD9A-4225-8A0F-8E2BD54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FE42B-CDFD-48E3-927E-5F91F2F1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0FFC3-1928-4734-A1D1-811D9E96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F55-2BB8-4FAA-A366-2A85FB96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F9D2D-625E-432D-A824-3FD028F6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F2D5D-AE47-4BC2-B417-5959E9E6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22041-BC0B-4391-8814-B5D12981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4CEA5-3762-4754-8A13-009E79B0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AA64A-F187-4F14-8FAB-41F9B823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19A3E-543A-4AF5-A1E9-3C14D45B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25469-A995-4440-BA80-874FABF0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DC9E9-ECEE-4254-A670-E846AE48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1DA04-7653-494B-B207-3FF8304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B4095-5448-4E2B-A637-D990A1C5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9859-B411-41D4-AEEE-79E21154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793C7-AF40-4F0E-9B92-90DE4C44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BAEAE-97AF-4B5E-8262-DA1217C8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D9A4C-CC10-4098-B546-96D0778D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37314-78CF-4081-A0CC-D1DB81BA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DE400-0E20-41CB-8537-D76DB8FD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CC6CC-1898-48E3-B424-EC6586FB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61DFD-A1E6-41AD-916A-18D37E2C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64836-3626-4C26-AA3F-43289F4E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865E9-9171-4A13-BCAB-AB962555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650C9-EAFC-408C-B371-407E76C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327B-F1FA-49F8-9C1A-FA527B44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EB218-5C3E-4B5E-9FD6-4A605FFD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A05DC-5569-4F94-9138-7EA7FD55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8E378-D01A-4992-AD15-CD5036B1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6E9E4-2505-408A-80EA-A8C266F1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FF023-B015-4F21-980E-5B246D75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7F9BB-7991-4404-81BC-D2C495FF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EA3CB-61E4-4C62-ADC2-A94716EA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96397-05E3-44AB-916D-ED110953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D600F-95B3-4A71-BD86-66C5478D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9F84E-F9A2-4586-9FDA-AF990077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7806-AFA0-41C5-93A8-6F0F0F9B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E29B4-93DD-46CB-8095-BBF95A92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E9BA2-6F0E-405A-9933-4B8AC8DF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19C08-9562-4CC0-AA8D-D3AC3D23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C8195-5B83-4B1C-AB8B-E9AA88F0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15756-69B8-4C21-BE4D-D8046191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B22A3-A3FD-4C3D-B2D9-0FC2F2FC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5EE07-ECE0-4773-9CB8-DE2019AE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E0F60-60E7-40BA-B711-D0B32975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923E8-EB3F-4FCE-B9A4-0E07997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23B27-4344-48A2-88DE-6B113599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A62F-A9EF-43E4-A18D-F6A25CF6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68A6E-0586-4D9C-AABB-54DA7A0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5E663-A09E-49AA-8A47-3C3FA062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F829E-F16F-48F0-8832-7AE1035F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4B299-7EFD-46F7-8779-3FDF0CDD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0642E-EE6B-44AF-9AF0-C8E2EF61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6ADBC-0069-4543-991C-1EF9ABA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CEC4F-8B0B-4E5D-9653-6437DA7F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448AB-AAD0-4F49-B576-6641F8FB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DB395-5146-455C-8B18-D27BF66E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9E835-F282-4D42-87E2-9DBEB09A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2944-43EB-40B4-8C3A-FFE67748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95CA4-AE0D-4100-8937-CB3865A1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81BE2-1CA0-4475-949C-792BED38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3086F-876C-47AB-B1DA-F5A95265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0D456-31DB-42DF-BBF6-70CC5FFD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D5B81-DAAD-4CA9-9E9D-197959A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3782B-BA25-432E-8ADA-573ECB4E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24093-89E3-46A7-B92A-B0226295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13B687-C2DF-4161-8DA5-C3961A4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00AC4-19C6-49F1-A6BE-C94D34BA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960D8-54FE-4BEA-BA0D-F471B4B4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5054-F5D5-4229-A983-C9B19369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F9A69-288E-47AD-B377-AE7EB59C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D0039-A43C-434A-964A-870DB85E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0B8F8-3170-4B01-A637-E63FE314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8D87A-F290-4CAC-A6B7-5C07CAEB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6CD73-7524-43CD-9654-954226A8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39015-7B0E-41C8-9BA0-1B3724EE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60CB8-496E-4539-8BE9-96AACD1A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4FA69-3A77-4CDD-A027-278F66FA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F5CCD-E99E-44EF-9683-7522F48D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FBD93-C783-4377-97F2-68A9BF5E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C81D-0E0B-4BB5-919E-E5ECA0F0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853DC-054F-4A76-AE9B-118E8CD9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BA6A0-F636-4DB6-A772-8A1DFC27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A1195-C99B-4BE2-80F5-59D73C2C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FC48B-7FB2-492C-925B-B43BA67F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322AA-4CF4-478D-99AC-CB010660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6AFD9-BE0B-4FD4-BBEA-68148B20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33E5C-3EF0-427C-8C02-71F6A7F3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3BE81-4AF9-4CD3-B3F6-3C1C3119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F5A25-B8D6-4D8D-8FE6-60133D56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F7728-C1FE-48AC-A20C-777F1339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4AB-6117-4E98-BF13-1702DB15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EBEC-A004-46B6-B69F-54147F29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61F6D-8E45-4266-A14B-52BE5FF7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F9EA8-9337-4AA6-B0C9-02026DE4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1E2B9-B000-4E43-AE8C-B4FE19C3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F66DC-148B-47B6-8145-F00B299E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7CBA1-43C6-424A-9D5F-E6BF532F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EDEFA-8AF7-4676-AE06-68B80C80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CE50CB-D7F2-40E4-9A5D-75D9A655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8F2A9-D4A8-4C0D-8C43-72F0B6F8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A002E-96E7-4E42-972D-85C7ED81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9CB37-7249-4645-8DAC-35EB4951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60CE-889B-41C4-8030-2B920888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0D9333-7465-4FC8-AFC4-527A6ED4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406939-668E-4A00-BBDC-F575B9E1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B1775-573C-4DF6-BB70-AEF934FD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3BD5D1-4E45-4FA4-8C4A-0BAD5A7C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9CD77-4373-41EA-8012-61BEE67A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2B9EF-5CE9-42BB-B463-DD5D30B6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0C46D-B17A-4868-BBC7-A3F82BE2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F0EE1-BDB5-4956-8A68-F2122806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94255-793B-48DC-965A-2C34D886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DFF28-0B0C-4E2A-B95A-41B96956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1902-A84D-4109-8A10-0AFDDD5B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BEFFE-09AF-4803-9877-B1A1F4CA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7374D-C39D-4492-AAA5-B8DAA773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61C92-080F-4449-A13B-AA09D983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BF59E-F687-4A6F-A423-85C58FD7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FD4410-EB12-476D-8F58-D929D3F6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BE342-AFF1-40A2-AEAE-8ADFAD0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0D46A-AB8D-414C-BDD4-D62574E4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0E2F2-5C97-4DAA-BB99-548D94C9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D6E81-A985-42E5-B2F2-C0322F7A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999526-4895-47DA-8711-7C445809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5116-3924-487C-9A9E-B2C2AFE7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89C9B-A85E-4B11-A54E-57147DD5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4CA12-4063-47A4-AA12-C3FF0F6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03CA8-EB24-4355-98C8-1442A421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DEC66B-74CA-4E88-8E1B-95FF0057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AF211-5E5E-4CEE-B3EB-44259ABC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98B74-64D1-4B15-909C-5C771D9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6760E3-CA4C-4BB9-B30D-DC469052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4D037-D5F5-4549-977E-5B8F8C4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52CE33-F9BA-473A-AF40-2A05E8C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35C954-F99A-4E91-8F46-7BC39004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B614-3CB2-4266-BA3E-F9A6CD03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F8BA5-FAF1-4B32-9053-08B31DDA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52ECDE-24B6-438A-8D84-BD2E7C01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F93C5-FBA9-4683-AC3E-27B7798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E4453B-4CF8-4675-92E2-8601705D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48166A-EF67-4B89-B58D-A6DE7EE0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60D1A4-01CA-4B04-8341-7394855B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AA2ED-9D6F-4321-8F26-B39B4242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75854-7DAD-4B38-8B87-7D4A9AF6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B62DAE-A032-40D0-B833-2E9ABE84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B3838-6682-4DA9-B6C1-37C513F9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7D38-4C60-4185-B11E-3780D42A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1241C7-81D7-4D67-BBAE-093D42D3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FBDE0C-916E-48F1-B157-B168F303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BB87B-E6EA-4B46-B564-5E8A0E2E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FFD318-1615-41F3-A54A-BC93E1C3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A4CED0-2A55-4DA4-A27A-A0E72D38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74556-F625-4CBF-AB21-B1AD008B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4F5DB-1F93-46A9-A8A9-9A3F6EA9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38ECE9-4FA9-491D-8C83-A3A84C82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87D063-243C-4D11-8237-E112AA9A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317CE4-446F-4308-9C57-BD2EA49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CCF2-F743-46BB-8DDA-BCC38CAF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D19294-9533-4A3D-92E4-69E7C2F4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E33EAC-FF85-433B-8D41-73A2FB5E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4AC4B-DFC7-424E-9A84-5D07E0B4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BA5BE-1069-4CFB-B7C4-A5B63F3E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961417-33D3-40C8-80B2-394E1C99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DDC508-3BC2-446A-91B2-4ACCA0F3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D92C62-9CA9-4408-AE83-8B4D4250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E4E16A-9315-4F48-9FB1-28929579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2EFB2-1432-45C5-BE06-A81F8EA3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B20DFB-2F85-4BCB-8472-BD5BB5B8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8755-195C-4AD0-B7E7-0812D595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AC690E-C713-40A5-8C53-D46D27B3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F648D6-5CC7-4104-8EDE-7C58C99A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7E8F1-C048-4951-BF30-1C8D35E4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A4D718-9270-474F-B484-8AC0E2B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1422C-AEF3-4BBE-B343-5AE83510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8340D6-BDF0-4499-B012-75E6119E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DFE6F-C5BB-4DB3-A309-1B88198C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61D65E-B4B6-4CFA-A2A1-8FFCBE8C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D521CC-BE46-4971-A449-D0E88FFD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7F27CF-2379-4D7D-AFE5-CFFDD004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24B9-0F4D-4B3C-AD9B-11C507A5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FF8701-7E02-4C2F-9B05-D7B3F255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C3227-C661-45F5-AD45-7378FF09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3B9951-4071-42F1-B4D3-FEA546A4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694791-DE44-4660-BF33-02EA32B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2BCE96-3C78-4378-BC71-FF487EC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90E8E3-3734-4E82-AD77-8753198A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5150AA-A313-46A8-84BA-1F669028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2A29A1-5C5F-4886-965F-C64F65CF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D76F6B-2815-48BB-860E-6595C786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E5CDF2-F4E4-4A82-9DB0-EEDF3109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51B8-CE73-4053-8EDC-39C9724B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98F9E4-C931-467B-AB3D-7F2AC6C1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F91D31-881A-4011-AC74-7D6C84A0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92B554-530C-4C29-9B41-12115CBC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E2E249-6F79-4DBE-BEFE-74D2D210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438877-60C8-4B84-8421-1D285D74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A44390-EC85-4618-BC21-760179D8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34043F-0614-49E6-B355-13188563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640397-084F-4F62-8B88-BF8C9186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E7B19-1E0E-406D-98F6-B5FE9B53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BB120B-3784-4AB3-B8F1-2B1EC680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4E9-2EEF-469E-A518-6F3DCC11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41DD-DD0F-48C7-BE0E-17863BD4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4D408E-15D8-4518-85BA-4807F2AB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C5ABE5-F9BF-4A39-97C3-9D846727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DF6B8E-4A1D-412F-A71A-7985173F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0559D3-539B-4B5E-9EE7-794A72F6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11F014-3CD7-4FF3-9D31-03FC01CA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86186C-0078-4DF4-8145-1DA1F28D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F09678-3CC8-4701-A985-3C492EF6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FA6BF0-8635-4ED0-9B97-F8E09F3C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C3B74B-5FAE-436E-BE2E-2321235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D63CD9-0366-4A8D-AABB-0C222B66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20EC-F8FD-4DCC-91FE-DFB0C6D7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D70ADE-E646-49E1-986D-62D8B16C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6F45A8-3B38-460C-B4D7-68F7EC9E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E448EC-3344-4F7B-8FF1-BF8053CE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9E515D-642D-4BB3-907C-A6C514AA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AEBEA8-7126-465D-B265-99664DA1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416013-3A0E-45D4-9D1C-757FB6C7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E6801F-F60B-48EE-8452-211AD2C4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A0D333-56E0-4AB0-9BD7-1CE7B5AA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3C8A51-5A7B-4CBB-B5C0-EED8DC8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AE7C31-56BE-4A14-9094-FE90A08C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A48C-6C58-4AF8-A6DD-DA54159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5A9561-7086-4676-87CA-DA57B3F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BE6146-E38C-4A32-A2D1-B64053D3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03C830-9B2F-4FB5-B6B1-A6CD9188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71A701-4E80-43B4-B8C6-F9ACAB8C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EFF974-ED68-4700-99B2-16C9969D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F9E5D6-B564-42C2-AA1C-5BBAC3B5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2C05DE-9B6C-4E4F-8CD6-6E204BD0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1017C9-585C-429A-AFB5-ACDD57F7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E0B9C5-3397-4CED-87C0-31D32AF4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0DF1CC-1C4D-47C2-8085-57F2FF94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9727-1411-41C9-BFE1-F388CB71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81AB5C-2D0B-4119-BDA7-BFF0F4D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2E59BB-5A5E-4D65-9D95-F9B364E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E2101A-70B5-4B4D-A2BD-16D6BE93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496CCA-6080-454A-A725-2A2E9D6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3C1FBC-3509-442D-8B97-A41B0055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36025C-E835-4698-8B96-A4162765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8101FC-4F64-4969-A182-C355639B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0CAC94-0D51-4D58-8653-998B72B2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5DE008-70C1-4529-A05B-3A4D8BF7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06486D-7706-4621-AE46-1B33F1DD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95C5-F7A9-4757-9823-C8654D1F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BBF896-BA83-4824-9E5D-EF01D149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3DC54D-9FD0-4058-B846-8DD5CF3A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9CE8EB-B196-44F6-9988-5D9E0EA0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623CCD-0AF4-4BEC-8DDE-9D65CFD3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DC9928-3EBF-4576-A09E-C9B600C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418E05-F701-4FC4-AB50-58477DB2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3B4876-0262-4D8C-ADEA-3AE7B9AA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8E66B3-530B-4F1D-95E6-EB6CEE77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7E70D9-4605-48DE-B362-4D062727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75A2D4-80A6-467D-BB75-400FA654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5BB0-1C0E-405B-B15F-F7B77ADD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19115C-5FA1-4B19-8587-A0733CD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A3E27F-C009-4C20-BA92-1F02E8A7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0F3F3E-4966-4430-A25A-184DFDAC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3D0805-22E3-4175-8185-0C03A391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338D32-1B52-47A8-B09D-FEDE9A3F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EB3C85-5C5A-4A49-A161-A7CE7C5C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6B2BA0-8A70-4F05-8915-CF9BE33A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B4EB31-8699-4B68-9E8E-E724745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FFA5C3-ACA3-4769-810B-081E61DC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7231FB-63D0-4D3F-8A3B-D4EFF830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40E1-0D2B-4910-AEE2-4E664E4B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EB8D4B-4951-4286-A247-17B4C70F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9A846D-CD5B-4A2A-B606-381225B7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DC74F3-B6EC-4C4D-B709-14F784A5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420A8E-A6B4-414C-9A58-5CDE4E3B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AB5398-2590-4C6E-BAFC-E6480B33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8459F6-7765-4F80-9C80-507E79BD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491BED-D511-4966-AFBB-C7CE54A3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D3C0E5-9C73-44D0-BC3E-01904CA7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62F542-20AD-45D8-9824-F6747F7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CAE4B0-C9B7-4C86-B261-AA1C1FF2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F90DE-DE99-4FC1-BF42-B981E121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BFAAE7-18EC-4CC3-A4CE-B249B10C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060E66-7228-41E8-8A30-13EA15E8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DDCD6B-5A36-49B2-9356-E406A610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2AF6EC-24FB-4FEF-B320-005E04B7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FA1032-1307-499B-90C0-F8F48E75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0BD3DF-CCEA-4F4E-875F-FFBDC940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508E11-41E2-4691-8544-571CCB41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73C996-995A-4E0F-AFEA-1208FAE7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D9B116-DF46-425B-BDEC-FEF8952C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7FABE3-5445-4EEC-8948-304D117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F2A6-63CC-4F50-B800-365F461A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62C403-01F6-4C20-8F97-BA6FC53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89CFDF-F9EA-49A2-AC41-035B13D8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BFB3CE-C618-4AE2-9C81-A0507F5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96750C-34D0-417D-A45D-8BFC6E72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C4265B-CB41-419E-BCED-AEF609F4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4A7D37-AC39-4AED-94F6-8F96D18B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41FCB3-B868-45A9-8E56-50C743E6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C0C9D0-881C-4058-8241-C0E267B8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28410D-6F65-4F7E-91E3-0651DAB2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9F9AAF-25C0-4531-8309-D3A38128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64E2-29DB-4855-8D55-2BB3CA22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10650B-A6A5-4CF5-B611-54509E9D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620CF4-45DE-4697-B926-305A80B3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D5116E-408B-4E9F-9276-37EEC473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9C10A3-7D94-4576-9FD8-3CC9A58D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B6F39A-A55A-4A70-B3CD-1C907AB9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A87E32-7098-4BF1-B23D-88355C21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9461A4-BAF6-4456-88DC-0A66D187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2EEB16-1987-4B3F-8441-A48026A0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9AC4DD-1EE8-4708-B05C-367F6AAD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727340-2B04-49C7-B4E8-566DF792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448-6803-4315-A4A1-842B6359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30DEE-7A49-4AB4-8BBE-370ADA4C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482DEC-01EF-49EE-A301-A9941A24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B39FD1-614F-4276-8C46-BB8FBF9B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BCD552-AB3F-4EB6-9A8F-D3BC006A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7E91A8-1F24-43BE-BE88-B496BDA4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97A8C1-AAA6-444B-AD43-B32D922C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0B077F-BE5B-4D44-931D-60C868FB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9B9702-EEAC-4F5D-9B4C-1CB84450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502C34-7A8A-410F-A532-E2A328F3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48BB41-B4A4-44FF-9099-9A1C8539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F2D8F5-F4B6-4485-978B-3C278D46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FC69D-0C6C-4831-84BE-EFF11B3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96A2D0-E4E0-4A88-A0CC-927AEB90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BE4A81-EE13-4DFC-832D-1938C349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2E1B2A-BC1C-48B7-8D82-5EB811DD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9EE9B6-5FE0-43A9-A334-2E3C8CAE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AA5EBE-CC78-4BDD-89E3-291A57A5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49587D-4E2E-4116-83BA-DFB75DA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FAA4A1-C553-4CAD-899B-DBCDE1C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425ECB-5D38-46BD-9D18-D384893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EA3920-DBBF-4E74-A329-EE1CC3DB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502E13-F16F-4231-AC5C-8E36D1C7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CC8F-7F73-46CF-86B8-AAA5813B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309C9B-96C2-4EEB-BD13-5D608BBE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308FF2-29B1-4802-928D-DFE0BC98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34DBCD-E313-4A30-89CA-4948051E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A86DB1-80E9-4F1D-B9F6-3087DD4F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B9566E-0D57-41CA-89F2-B49C24E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7B0518-55FE-49BA-B0F9-B39A7008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C8D80D-1C3E-45F0-B790-05FCE978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CEEDBA-9988-4C6D-A18F-B4801ACB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7677EE-D0FB-4005-BBA3-349A1CCD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4FDC90-6D66-4A65-9CDF-2FBC3C0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2724-D9E7-47C1-960B-E0E6784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3D4FD2-1543-4995-A88D-ACC8980C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9A671B-2840-4247-86AB-27FD700C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AE66F5-D9C9-44FE-9FBE-45B59761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AF53-BB7C-4D18-8CC0-F9C2477F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E546C3-2D21-4B92-9E9B-1B060FA4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150233-99D1-4E59-BA19-4248F1DE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955A64-6B78-44CB-A1B4-1B87BAB6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3D8165-B47D-4198-BD6E-8B7A87EB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F45556-14B7-4850-A4E2-1E38F34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44637-D536-4CC5-9042-E6F4660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16D41A-6DD9-4E76-89DB-38E7666D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DEE420-8F1D-461A-825A-E5E41DB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3F0ADF-62B8-48E6-BF63-0F260F6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00F5E6-5A61-41A4-97AD-551B726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30E2CA-B689-420E-9BA8-67F402B3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433D7D-16F8-4CC0-8E02-884119FD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80B181-33F5-42BC-9949-06E0FA4C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BAA061-D128-4292-B595-7D6D44DC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77E7CC-3766-459A-829A-69BB8D15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7DABC6-CDF8-4A0E-B139-52B5BCED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6CEB-93E7-4EB4-9844-B3BCF325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14BB91-7C72-481D-94CB-6D073A9F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BAE47F-BFB1-452B-BD37-CAD425FE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0A062B-FDF6-4D9B-9992-79B7D909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2E0966-130B-4594-819E-E64988F4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383C3C-141E-4278-BFB4-89813D54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27E940-BFC7-4EBC-9A0F-BE9D70A2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624533-5095-4F6D-BA7C-A47BEE8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8D9E84-21D0-435D-9E24-F82FEEE6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B1D158-D47F-4D6A-B7B7-B705E089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8F093B-8384-4E4E-BB45-A762144F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404D-E744-46B0-9025-74AAD3E0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01CB379-D14C-44D8-AE46-1ACB65C8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B920A1-1FE0-49AA-81AE-62731450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62C30B-BFCF-49C3-9A03-488BAC6D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383F69-FA1D-4338-B96A-84E7CB27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56B6D9C-E174-4490-ACC6-7A1B59C2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D79CA2-0272-4113-834D-0AB6293F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D5BE5F-267C-4D82-9B1E-DA103665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538AC9-17F0-4B9F-A552-3E4AF4C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61BF30-98E2-4E9D-8E9B-F491B49D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064F4B-7559-4C65-9ABE-BC03D78C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4C61-55C3-44F0-828A-41BD0320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2257D9-B565-43DF-8C1E-2B925AF4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1A7F12-636E-449B-990B-A4854007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7AF5E04-01D7-49C4-B537-89AA091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84D7CD-50B0-478F-A20A-B75CE405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18C06B-0096-4E0F-8975-5B77CC6A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FB6234-6635-4710-95CA-D33DE471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20A3E9-454D-4C83-8C78-EF53929C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5F0A4C-1A34-4139-A1B4-A013F51E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D67E38-0EFF-40F7-AA60-34EA3B8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DCE426-C3ED-4974-B003-687925E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3BBBA-3CED-4A08-A6FB-FB5F0D20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6CC8370-8D2D-411B-8DC3-6D189A14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406DF7-B8C4-4DA7-983E-B531CD71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DF6735-211E-462B-9FB8-2A4F3017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D72807-9ACC-45D6-9EEF-D8905454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BF4A7F-7E10-4E11-92C4-B432A843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33E5A7-7ECE-4154-9CCC-C38B7D7D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ACEB6F-46E7-409D-9C1E-A9C3F02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2A0713-8186-45AE-A5BA-39245D39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B47E99-9EFB-4F0C-B8A9-D4EE24AB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C52B2C-5458-440E-84E9-F6507971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F9E-8996-446B-96C7-10D09780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F5C7-0A34-4E73-9D5D-4FAC66A2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53132B-E073-4A2E-9A81-5036820E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69DDB0C-0B13-4ECD-8451-0A846C8B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34B7F8E-DA08-459D-9EF9-440AFBD3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1114016-66FD-4C7B-8256-000B63D7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0EFE98-09D9-4305-8B06-5C965A83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8A38A6-7399-4F46-8280-7BE88CA0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7FF14A-3134-4B33-8FC3-4F381BDA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D7C013-192B-4246-992C-E7A47830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CF8EA4-2A45-44AF-82E1-61B7E982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37E978-E225-4C53-A960-28EB69B3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91DE9-FB47-45E0-A275-CA915880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8C9B89F-7FB3-48DC-895F-A7F71F2F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632C08-0D57-49BE-BAEF-BE783B9B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841AB7-8429-4EEE-90B4-F63C06E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9369F4-1F77-4767-9292-D63769D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357FAB-94D9-498B-A1F6-CEB9227C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419DCA-7FCE-4CA5-A2A5-ECEABF1B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DB8584-C750-4327-AABA-56F678E5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423C83C-5E50-4D35-8DA4-A03BE679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34626C-D19A-4CA4-AFE9-9B8A5BBA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2E45E65-8B88-446E-9351-E8E42161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CC37A-7EB0-4F9D-B832-4283B02A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033036-01C2-46CB-B770-1B48F26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93F37AD-97DA-4FFC-84FE-0447CE5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903BD3-9399-4EE5-B055-6D50F81D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C4BB5E6-18AE-434E-9AB2-9AC8A0D0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3D36417-BC53-4D79-8CB3-0B6C188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F1B392-AF48-434A-B932-3EA28CCD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87FDEB-321A-4BDF-AB98-4626DBF2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E84C9A-1609-4623-9555-D05E94B4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352F5DF-6B96-4F98-AAA9-D44043A9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2A9745-D43A-452D-B98B-9C4947CD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DC41B-1105-4A16-B833-D6B99542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9B8DE9-DBEA-4468-B02C-0F84176A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9252194-668A-4FA9-B566-94256E9D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370519-5642-4740-A159-94422860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429AD7-0D82-43F2-BBDA-07B58195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B8C030F-B06A-4A12-84CF-18C740F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3714AD1-EE8A-420B-9CFB-DDD2274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EA25CC8-99FB-446C-8109-699950B2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EFE7E5B-916E-4FAE-B2FE-521DDE17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1FAFE8-5BC1-4FA1-B58A-F7C3ED3B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05DD81-7195-4367-B944-351A4698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6701-D662-4BBA-8552-FC50E0B3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E6DFBB-FF17-430B-8558-87234A4D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BA84F3-49A0-4AB7-8D5D-551505EB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846C73-F227-4F30-950B-2E0CA01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00BED9-D28E-4C68-AC5E-ECA735FB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CB539C-AEE7-45CF-97B4-30D3ACD5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3126CF-71D8-4788-945A-36C3666C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8A1CFF0-5F2A-4EC9-AB63-75E7A6F0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BC5D6B4-B00E-4766-A9EC-EF543E72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83578E-848D-4577-90B7-B510AB22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987A60B-DE2F-47FE-90DC-62E341F8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D29C-5507-469B-AFAF-F1E70D2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284F9C-3136-412A-B72A-DD3512AA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EC6C43B-F45D-4581-9529-B0A2419B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0393DC8-8EC9-4818-B8DC-A0D2A951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5C990E-9A64-4818-ADB6-AB624D3F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0EB4EB-EAC2-4C71-902D-8B45CBC8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5E5DCF-D665-4C6E-8893-062D124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EC84A6-F85B-4B6C-92D8-439796DC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8F89DC-3E46-41D7-AC6E-CEC0A6D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21F764-D742-4B7D-8E49-441E977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925933D-0232-4B10-9BD3-000CA90C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2A2A6-3C9C-4D9E-8DFC-DB5D88B5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AA4405-6D92-45EF-B75D-47C88B0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DB89AF-489C-4ABC-AAC2-FE07D6F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552D52C-4BFA-4991-BFBF-008E3A31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B5FFBBD-A2B2-4F83-88A8-8D3C716C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421B0C-2B47-42BD-B748-AD9F0C02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EDF12EC-3A09-415B-AEB3-54A3DBBA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16C013-3955-4AFF-BD93-38D9F189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9559B1-B045-4148-91AF-7C7F760C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238C1BB-424A-4552-B386-BE33F125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41CE71-6606-43E1-B2AD-7C41876B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1093A-8AF4-44CF-93CD-73404DAB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A570C36-6134-4C4F-A03A-0278E24C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B2424C-EF13-46DF-AA26-BE2D0D8F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E17670-470C-4C62-8AAD-56FE6865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93F3592-AC05-46DD-A484-F29DA02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92FA84-B6FB-4E17-A643-DB7A8340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142EC3-9049-4863-AD97-2D17E117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2CDD8C-D8B0-496C-B5C7-C03DDCB4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2BE57B-7012-4ADB-A14C-3D3AFFD3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BC89BD-27C3-4041-9D2C-AF9F351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C89CC68-46A0-45A9-A2B4-9F236806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ACBC1-3763-4EFE-89A0-7C8131C2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196A0D-E668-4B83-855B-C86AA979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A140B8-36C5-4D35-B69B-1AE66D60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141389-44A4-445A-855C-1C70A214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E7555F-9B27-4072-B481-C089812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D891FA-5B8D-4E29-91F6-4317E40F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0E6C07-F5FA-4EE5-AE64-1FF7B15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F4BA29-FABE-4598-9669-2EEB227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91FB6E-7379-4DAA-8B2D-A23975DC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07AD91-7B68-456C-B43F-2D55BA68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4F3BDEE-A6F8-4C82-B915-F81877C0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22DA1-12D2-40A4-B1F0-30DF479D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3D5045-46B3-4DB6-8A12-05906DD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BBEBFB4-A017-4BE5-BAC9-1C607BF9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6DD7F71-5007-40DD-8536-81B0707E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607205-A6A5-458B-9AF8-9DA6E1E3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73CC09D-4271-4EED-BEAA-9C50FCF9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A16EDF-C832-4070-B065-CD33BB2A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018C1A-FA15-41DC-82C8-82F4AEAE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D51867-064F-437E-9A40-1614F469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2F34ACB-89FD-4280-B0DA-3BBF6B20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1F1A9D-BB2F-46CA-922E-5DE4BB63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547-79B9-41A6-B9B5-5DE39BD7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9735-07B3-44D6-A448-B70D34FC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17196C-B463-45D4-83DE-D7505C4F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4DECA-C696-4047-AC95-8B06BBB2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D01F-6940-40FB-A12F-1920303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930D9-8D05-40C3-A2B5-ABFE75BB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0488-2613-4118-90EB-ACD4A063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CEE3C-9721-4896-A511-DA5CFF2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83C0B-0010-45D9-BE86-1ACB9DE5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CE827-76E5-4F52-9F22-482A7B29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243C-7481-4465-8881-A3C1AC27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6969F-D469-42E9-A386-3E505AF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7A6-DAEC-4E16-9F33-10344B52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2E1ED-7F95-4794-B330-52D5FB44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43C89-84BE-450F-A0AC-3D23C834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08F4B-188D-4E18-99FC-41D85164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B5E5F-39F8-4941-8AA0-691CF62E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262F-663B-4A8B-97A2-B40C949D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4EB5D-E8E9-431D-831A-F1D085E1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E6C00-1E52-445A-8288-F686716B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1BD2A-EB8E-49F9-942B-79AC4948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3B2B5-4B04-43BA-9C32-A5FCDCE6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85E72-BFB1-4772-BD9B-2392C87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717-E2E6-4B23-8EFC-0330EB4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5534-18B0-4514-A2EE-94979ED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D9AF-5D02-4BB7-8715-DDB58F28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F6C3-4A85-4020-A5B9-DCE0A175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57A24-C871-4DD3-87B7-A7148B98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2D779-F0C2-4140-8E26-6A91549C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526B9-B399-4E1B-82E6-37F27C22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53F40-062B-4792-9597-3BCE11DF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1971E-7A8F-4EA3-8E48-0AD1105D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AA711-2758-4D34-93D7-C22B402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339E7-0A89-4763-AE37-693F5264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E17-2497-4B8E-BA74-C05F0599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9B54D-EA96-41D4-8EED-45727D30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1252-FCD4-423D-BF3D-59A9E7CE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12825-547F-4DEB-9172-C89B5DCC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C5604-76EB-4F64-9CFA-393177AC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40A5-5142-4D24-9125-0B724333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2FDC1-8102-4A9E-A231-B3EF6BE6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37DD7-115F-4C3F-AD83-8248709F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A14FA-97AD-436D-8938-0256BCF7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E929C-EDF6-42F3-BCDF-24C80B63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56114-BD3E-4741-A3EB-711B65E9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75D4-48BC-46CA-BA24-7EC45C1FFD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460-4EB7-48FC-B7E7-FCEDCC95DC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D84E-6132-432C-BE63-8AF5DDF152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490F-8D4D-417D-A8DC-0459403DA6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9242-6250-4948-AD9B-6D1B0F010D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AECD-24AF-4D84-A485-0CC4D5148C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F5D-EDD7-4011-82D4-D2D7D6C15E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9576-8981-4A99-A9FF-6AACD34060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5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BAF6-9AE0-482E-B31B-8FA401D75A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52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3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4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830C-E42F-4F78-AD0B-CA93111B1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5"/>
          </p:nvPr>
        </p:nvSpPr>
        <p:spPr>
          <a:xfrm>
            <a:off x="76320" y="662940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6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7"/>
          </p:nvPr>
        </p:nvSpPr>
        <p:spPr>
          <a:xfrm>
            <a:off x="6934320" y="662940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B8DE-D50F-413A-A1C0-1C215CDDF26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9A8B-E72F-4FB7-AE71-E05C6BB0C6C7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8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9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60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92D4-503F-41A4-BDCF-0179C33BDE4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61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62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63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A88F-4333-4418-8B6F-182FA0AA9C6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64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65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6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93A8-D2BE-4A3C-B368-45C8C0FEC48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67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68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9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644F-51AF-480A-BE24-1EB1A6CF21E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70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71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72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A9E7-2BFE-40E8-AA59-C8753478254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73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74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75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20B4-6336-480A-B415-7ABDADFF4C1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C47F-C96C-4B78-A8F5-A07F4B1D9C2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79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80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81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6149-44B7-4B0B-AA4D-BE8F78D29B0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82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83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84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C6C1-4DDB-4936-A76B-F6820CBCDB6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85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86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87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F1FD-5404-4AC0-B37E-0C2D6F413EA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FC1D-E018-47F5-98A4-91F1B4B464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88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89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90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CCB2-DEE5-40B1-ABC2-E398ACD1F7A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dt" idx="91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ftr" idx="92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sldNum" idx="93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414F-3372-43B8-97C2-EEB9FADE9FB9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9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9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9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C9A7-3ABD-465A-B75F-3B07D94C20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 type="dt" idx="9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 type="ftr" idx="9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 type="sldNum" idx="9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67F3-1046-47CC-A638-24B2B61980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10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10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10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F620-8B96-44DE-944F-ECCD91829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dt" idx="10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 type="ftr" idx="10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 type="sldNum" idx="10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4FFD-C298-4998-9E26-E252F68047B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10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10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10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E6E7-6BD8-4CB0-BF55-149D9EB817B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Picture 20" descr="j0382574"/>
          <p:cNvPicPr/>
          <p:nvPr/>
        </p:nvPicPr>
        <p:blipFill>
          <a:blip r:embed="rId2"/>
          <a:stretch/>
        </p:blipFill>
        <p:spPr>
          <a:xfrm>
            <a:off x="1752480" y="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Picture 17" descr="j0382574"/>
          <p:cNvPicPr/>
          <p:nvPr/>
        </p:nvPicPr>
        <p:blipFill>
          <a:blip r:embed="rId2"/>
          <a:stretch/>
        </p:blipFill>
        <p:spPr>
          <a:xfrm>
            <a:off x="4724280" y="24382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9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1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11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C6B3-F8D7-4881-B9B0-02E2DB4984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8EBA-ABF0-46D2-876D-590B7D0EE5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j0382574"/>
          <p:cNvPicPr/>
          <p:nvPr/>
        </p:nvPicPr>
        <p:blipFill>
          <a:blip r:embed="rId2"/>
          <a:stretch/>
        </p:blipFill>
        <p:spPr>
          <a:xfrm>
            <a:off x="4724280" y="24382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97F6-015E-42EE-B366-509B5AD11CF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CEA0-5083-4484-84CD-75C8A11886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E5E8-0173-491F-988F-C7ABFE690A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6CF5-6DC5-49DD-B6EA-C369EE18FC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7DB1-B65D-477D-895B-2CD7A8668E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DBAC-49C8-4ECC-80B4-55373898BC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C805-B226-4158-8C50-D8A11847DD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54FC-208D-4BDA-B878-1FD3269C15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69C0-F57D-4955-A8D2-6C7218EEF3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27D4-1628-4699-9F3F-9344798B6D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FB79-E644-4645-9199-B23D332D5A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C089-6EE0-4C75-9974-3E1CCBA05C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 type="dt" idx="145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 type="ftr" idx="146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 type="sldNum" idx="147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2877-1B46-4C76-B7BA-14DF9511AC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8951-0EB6-40D1-B683-6A968B0BB2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216E-30DB-4632-B4F6-6DCE53D243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C452-AD1C-4D72-96EC-B01AE18C8E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2d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9c2d1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b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9c2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9c2d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9c2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B89C-8E4C-4968-8EB3-EA17E0FCA8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сновные составляющие компетентности учителя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гурцова Анна Львовн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м. директора по УВР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БОУ «Центр «Динамика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4" name="Picture 6" descr="question_pop_up_from_box_rotate_hg_clr"/>
          <p:cNvPicPr/>
          <p:nvPr/>
        </p:nvPicPr>
        <p:blipFill>
          <a:blip r:embed="rId1"/>
          <a:stretch/>
        </p:blipFill>
        <p:spPr>
          <a:xfrm>
            <a:off x="214200" y="4938840"/>
            <a:ext cx="1357560" cy="166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 txBox="1"/>
          <p:nvPr/>
        </p:nvSpPr>
        <p:spPr>
          <a:xfrm>
            <a:off x="867600" y="866880"/>
            <a:ext cx="7765920" cy="7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едагогическое мастерство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ubTitle"/>
          </p:nvPr>
        </p:nvSpPr>
        <p:spPr>
          <a:xfrm>
            <a:off x="357120" y="2214720"/>
            <a:ext cx="84297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веденная до высокой степени совершенства     обучающая и воспитательная умелост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тшлифованность методов психолого-педагогической теории на практик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сокая эффективность учебно-воспитательного процесс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Авторская методическая систем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5" name="AutoShape 5"/>
          <p:cNvSpPr/>
          <p:nvPr/>
        </p:nvSpPr>
        <p:spPr>
          <a:xfrm>
            <a:off x="6858000" y="385776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AutoShape 6"/>
          <p:cNvSpPr/>
          <p:nvPr/>
        </p:nvSpPr>
        <p:spPr>
          <a:xfrm>
            <a:off x="4714920" y="385776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AutoShape 7"/>
          <p:cNvSpPr/>
          <p:nvPr/>
        </p:nvSpPr>
        <p:spPr>
          <a:xfrm>
            <a:off x="2643120" y="385776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AutoShape 8"/>
          <p:cNvSpPr/>
          <p:nvPr/>
        </p:nvSpPr>
        <p:spPr>
          <a:xfrm>
            <a:off x="500040" y="385776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9" name="Group 9"/>
          <p:cNvGrpSpPr/>
          <p:nvPr/>
        </p:nvGrpSpPr>
        <p:grpSpPr>
          <a:xfrm>
            <a:off x="45720" y="1168200"/>
            <a:ext cx="8915040" cy="2653560"/>
            <a:chOff x="45720" y="1168200"/>
            <a:chExt cx="8915040" cy="2653560"/>
          </a:xfrm>
        </p:grpSpPr>
        <p:sp>
          <p:nvSpPr>
            <p:cNvPr id="2130" name="Rectangle 10"/>
            <p:cNvSpPr/>
            <p:nvPr/>
          </p:nvSpPr>
          <p:spPr>
            <a:xfrm rot="2338800">
              <a:off x="357120" y="1607760"/>
              <a:ext cx="1999440" cy="1697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6"/>
                </a:gs>
              </a:gsLst>
              <a:lin ang="306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 инновация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1" name="Group 11"/>
            <p:cNvGrpSpPr/>
            <p:nvPr/>
          </p:nvGrpSpPr>
          <p:grpSpPr>
            <a:xfrm>
              <a:off x="1945800" y="1428840"/>
              <a:ext cx="1094760" cy="409680"/>
              <a:chOff x="1945800" y="1428840"/>
              <a:chExt cx="1094760" cy="409680"/>
            </a:xfrm>
          </p:grpSpPr>
          <p:sp>
            <p:nvSpPr>
              <p:cNvPr id="2132" name="Oval 12"/>
              <p:cNvSpPr/>
              <p:nvPr/>
            </p:nvSpPr>
            <p:spPr>
              <a:xfrm>
                <a:off x="1945800" y="1428840"/>
                <a:ext cx="184680" cy="406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3"/>
              <p:cNvSpPr/>
              <p:nvPr/>
            </p:nvSpPr>
            <p:spPr>
              <a:xfrm>
                <a:off x="2050920" y="1432080"/>
                <a:ext cx="908280" cy="406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Oval 14"/>
              <p:cNvSpPr/>
              <p:nvPr/>
            </p:nvSpPr>
            <p:spPr>
              <a:xfrm>
                <a:off x="2874600" y="1435680"/>
                <a:ext cx="165960" cy="3960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Oval 15"/>
              <p:cNvSpPr/>
              <p:nvPr/>
            </p:nvSpPr>
            <p:spPr>
              <a:xfrm>
                <a:off x="2963880" y="1563120"/>
                <a:ext cx="46440" cy="115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6" name="Rectangle 16"/>
            <p:cNvSpPr/>
            <p:nvPr/>
          </p:nvSpPr>
          <p:spPr>
            <a:xfrm rot="2384400">
              <a:off x="2450880" y="1634040"/>
              <a:ext cx="1999440" cy="169704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592524"/>
                </a:gs>
              </a:gsLst>
              <a:lin ang="301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 нововведения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7" name="Group 17"/>
            <p:cNvGrpSpPr/>
            <p:nvPr/>
          </p:nvGrpSpPr>
          <p:grpSpPr>
            <a:xfrm>
              <a:off x="3967920" y="1428840"/>
              <a:ext cx="1094760" cy="409680"/>
              <a:chOff x="3967920" y="1428840"/>
              <a:chExt cx="1094760" cy="409680"/>
            </a:xfrm>
          </p:grpSpPr>
          <p:sp>
            <p:nvSpPr>
              <p:cNvPr id="2138" name="Oval 18"/>
              <p:cNvSpPr/>
              <p:nvPr/>
            </p:nvSpPr>
            <p:spPr>
              <a:xfrm>
                <a:off x="3967920" y="1428840"/>
                <a:ext cx="184680" cy="406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9"/>
              <p:cNvSpPr/>
              <p:nvPr/>
            </p:nvSpPr>
            <p:spPr>
              <a:xfrm>
                <a:off x="4073040" y="1432080"/>
                <a:ext cx="908280" cy="406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Oval 20"/>
              <p:cNvSpPr/>
              <p:nvPr/>
            </p:nvSpPr>
            <p:spPr>
              <a:xfrm>
                <a:off x="4896720" y="1435680"/>
                <a:ext cx="165960" cy="3960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Oval 21"/>
              <p:cNvSpPr/>
              <p:nvPr/>
            </p:nvSpPr>
            <p:spPr>
              <a:xfrm>
                <a:off x="4986000" y="1563120"/>
                <a:ext cx="46440" cy="115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2" name="Rectangle 22"/>
            <p:cNvSpPr/>
            <p:nvPr/>
          </p:nvSpPr>
          <p:spPr>
            <a:xfrm rot="2515800">
              <a:off x="4586040" y="1650240"/>
              <a:ext cx="1999440" cy="1697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6"/>
                </a:gs>
              </a:gsLst>
              <a:lin ang="28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озд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вторско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ехнолог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3" name="Group 23"/>
            <p:cNvGrpSpPr/>
            <p:nvPr/>
          </p:nvGrpSpPr>
          <p:grpSpPr>
            <a:xfrm>
              <a:off x="5990400" y="1428840"/>
              <a:ext cx="1431360" cy="409680"/>
              <a:chOff x="5990400" y="1428840"/>
              <a:chExt cx="1431360" cy="409680"/>
            </a:xfrm>
          </p:grpSpPr>
          <p:sp>
            <p:nvSpPr>
              <p:cNvPr id="2144" name="Oval 24"/>
              <p:cNvSpPr/>
              <p:nvPr/>
            </p:nvSpPr>
            <p:spPr>
              <a:xfrm>
                <a:off x="5990400" y="1428840"/>
                <a:ext cx="241200" cy="406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25"/>
              <p:cNvSpPr/>
              <p:nvPr/>
            </p:nvSpPr>
            <p:spPr>
              <a:xfrm>
                <a:off x="6127560" y="1432080"/>
                <a:ext cx="1187280" cy="406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Oval 26"/>
              <p:cNvSpPr/>
              <p:nvPr/>
            </p:nvSpPr>
            <p:spPr>
              <a:xfrm>
                <a:off x="7204680" y="1435680"/>
                <a:ext cx="2170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Oval 27"/>
              <p:cNvSpPr/>
              <p:nvPr/>
            </p:nvSpPr>
            <p:spPr>
              <a:xfrm>
                <a:off x="7321320" y="1563120"/>
                <a:ext cx="60840" cy="115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8" name="Rectangle 28"/>
            <p:cNvSpPr/>
            <p:nvPr/>
          </p:nvSpPr>
          <p:spPr>
            <a:xfrm rot="2632800">
              <a:off x="6652080" y="1667880"/>
              <a:ext cx="1999440" cy="169776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592524"/>
                </a:gs>
              </a:gsLst>
              <a:lin ang="276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вторско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образовательн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ограм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9" name="Rectangle 30"/>
          <p:cNvSpPr/>
          <p:nvPr/>
        </p:nvSpPr>
        <p:spPr>
          <a:xfrm>
            <a:off x="1073160" y="207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Rectangle 34"/>
          <p:cNvSpPr/>
          <p:nvPr/>
        </p:nvSpPr>
        <p:spPr>
          <a:xfrm>
            <a:off x="571680" y="4000680"/>
            <a:ext cx="1571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ивно-действенное состояние лич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строй на деятельность в будущ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Rectangle 35"/>
          <p:cNvSpPr/>
          <p:nvPr/>
        </p:nvSpPr>
        <p:spPr>
          <a:xfrm>
            <a:off x="2643120" y="4000680"/>
            <a:ext cx="15717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явление творческого стиля деятельности в сочетании с необходимым набором знаний и ум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Rectangle 36"/>
          <p:cNvSpPr/>
          <p:nvPr/>
        </p:nvSpPr>
        <p:spPr>
          <a:xfrm>
            <a:off x="4643280" y="4000680"/>
            <a:ext cx="1857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гласованность методических приемов, оригинальность их сочетания в целостной системе, соответствующей единому замысл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Rectangle 37"/>
          <p:cNvSpPr/>
          <p:nvPr/>
        </p:nvSpPr>
        <p:spPr>
          <a:xfrm>
            <a:off x="6858000" y="3929040"/>
            <a:ext cx="1785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ичие проекта  деятельности, сценариев занятий с методическими комментариями, комплекса проверочных зада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2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2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2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2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2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Авторская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тельная программ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ояснительная записка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Цели и задачи курса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Содержание образования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ебования к уровню освоения и предъявления знаний и умений учащимися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ематическое планирование систем учебных занятий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Комплекс контрольных и диагностических материалов, ориентированных на образовательный стандарт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Авторская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 методическая систем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428760" y="17859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вокупность индивидуальных </a:t>
            </a: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приемов</a:t>
            </a: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средств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а также оптимальных для учителя, его индивидуального стиля деятельности </a:t>
            </a: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форм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тодов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характеризующихся целостностью, оригинальностью и результативностью их примене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Авторская педагогическая систем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59" name="Схема 4" descr=""/>
          <p:cNvPicPr/>
          <p:nvPr/>
        </p:nvPicPr>
        <p:blipFill>
          <a:blip r:embed="rId1"/>
          <a:stretch/>
        </p:blipFill>
        <p:spPr>
          <a:xfrm>
            <a:off x="853920" y="1146240"/>
            <a:ext cx="75837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30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76320" y="533520"/>
            <a:ext cx="906768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Calibri"/>
              </a:rPr>
              <a:t>Желаю удачи!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5" name="Picture 2" descr="C:\Documents and Settings\Пользователь\Мои документы\Мои рисунки\Коллекция картинок (Microsoft)\j0437633.png"/>
          <p:cNvPicPr/>
          <p:nvPr/>
        </p:nvPicPr>
        <p:blipFill>
          <a:blip r:embed="rId1"/>
          <a:stretch/>
        </p:blipFill>
        <p:spPr>
          <a:xfrm>
            <a:off x="-714240" y="0"/>
            <a:ext cx="3214440" cy="3657600"/>
          </a:xfrm>
          <a:prstGeom prst="rect">
            <a:avLst/>
          </a:prstGeom>
          <a:ln w="0">
            <a:noFill/>
          </a:ln>
        </p:spPr>
      </p:pic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Компетентность –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скональное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нание своего дела,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сущности выполняемой работы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сложных связей явлений и процессов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возможных способов и средств достижения намеченных цел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ризнаки компетентност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меет деятельностный характер обобщенных умений в сочетании с предметными умениями и знаниями в конкретных областя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является в умении осуществлять выбор, исходя из адекватной оценки себя в конкретной ситуац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543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Составляющие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8481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офессиональная компетент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Информационная компетент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Коммуникативная компетент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ая компетент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8472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Профессиональная компетентность - 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совокупность ключевых, базовых, специальных компетенций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457200" y="2285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Компетенция –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Bookman Old Style"/>
              </a:rPr>
              <a:t>круг вопросов, в которых кто-нибудь хорошо осведомлен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Компетентный –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Bookman Old Style"/>
              </a:rPr>
              <a:t>знающий, осведомленный, авторитетный в  какой-нибудь области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ьо  оо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5" name="AutoShape 7"/>
          <p:cNvSpPr/>
          <p:nvPr/>
        </p:nvSpPr>
        <p:spPr>
          <a:xfrm>
            <a:off x="857160" y="2877120"/>
            <a:ext cx="2971800" cy="1554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554480"/>
              <a:gd name="textAreaBottom" fmla="*/ 1554840 h 155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7" y="0"/>
                </a:lnTo>
                <a:lnTo>
                  <a:pt x="21600" y="10800"/>
                </a:lnTo>
                <a:lnTo>
                  <a:pt x="18607" y="21600"/>
                </a:lnTo>
                <a:lnTo>
                  <a:pt x="0" y="21600"/>
                </a:lnTo>
                <a:lnTo>
                  <a:pt x="2993" y="10800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обходимы для любой профессионально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язаны с успехом личности в динамично развивающемся ми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AutoShape 8"/>
          <p:cNvSpPr/>
          <p:nvPr/>
        </p:nvSpPr>
        <p:spPr>
          <a:xfrm>
            <a:off x="1000080" y="357120"/>
            <a:ext cx="2057400" cy="97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ючев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AutoShape 9"/>
          <p:cNvSpPr/>
          <p:nvPr/>
        </p:nvSpPr>
        <p:spPr>
          <a:xfrm>
            <a:off x="3357720" y="357120"/>
            <a:ext cx="2057400" cy="97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зов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AutoShape 10"/>
          <p:cNvSpPr/>
          <p:nvPr/>
        </p:nvSpPr>
        <p:spPr>
          <a:xfrm>
            <a:off x="5715000" y="357120"/>
            <a:ext cx="2057400" cy="97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ециа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AutoShape 6"/>
          <p:cNvSpPr/>
          <p:nvPr/>
        </p:nvSpPr>
        <p:spPr>
          <a:xfrm>
            <a:off x="3143160" y="2633760"/>
            <a:ext cx="2971800" cy="2041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041200"/>
              <a:gd name="textAreaBottom" fmla="*/ 2041560 h 20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7" y="0"/>
                </a:lnTo>
                <a:lnTo>
                  <a:pt x="21600" y="10800"/>
                </a:lnTo>
                <a:lnTo>
                  <a:pt x="18607" y="21600"/>
                </a:lnTo>
                <a:lnTo>
                  <a:pt x="0" y="21600"/>
                </a:lnTo>
                <a:lnTo>
                  <a:pt x="2993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ражают специфику определенной профессиональной деятельности (педагогической, медицинской, юридической и т.д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AutoShape 5"/>
          <p:cNvSpPr/>
          <p:nvPr/>
        </p:nvSpPr>
        <p:spPr>
          <a:xfrm>
            <a:off x="5500800" y="2877120"/>
            <a:ext cx="2819160" cy="1554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554480"/>
              <a:gd name="textAreaBottom" fmla="*/ 1554840 h 155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8" y="0"/>
                </a:lnTo>
                <a:lnTo>
                  <a:pt x="21600" y="10800"/>
                </a:lnTo>
                <a:lnTo>
                  <a:pt x="18688" y="21600"/>
                </a:lnTo>
                <a:lnTo>
                  <a:pt x="0" y="21600"/>
                </a:lnTo>
                <a:lnTo>
                  <a:pt x="2912" y="108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ражают специфику конкретной предметной или надпредметной сферы профессиональн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1" name="Пятиугольник 9"/>
          <p:cNvGrpSpPr/>
          <p:nvPr/>
        </p:nvGrpSpPr>
        <p:grpSpPr>
          <a:xfrm>
            <a:off x="1841400" y="1627200"/>
            <a:ext cx="322200" cy="677880"/>
            <a:chOff x="1841400" y="1627200"/>
            <a:chExt cx="322200" cy="677880"/>
          </a:xfrm>
        </p:grpSpPr>
        <p:pic>
          <p:nvPicPr>
            <p:cNvPr id="2102" name="Пятиугольник 9" descr=""/>
            <p:cNvPicPr/>
            <p:nvPr/>
          </p:nvPicPr>
          <p:blipFill>
            <a:blip r:embed="rId1"/>
            <a:stretch/>
          </p:blipFill>
          <p:spPr>
            <a:xfrm>
              <a:off x="1841400" y="1627200"/>
              <a:ext cx="3222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3" name=""/>
            <p:cNvSpPr/>
            <p:nvPr/>
          </p:nvSpPr>
          <p:spPr>
            <a:xfrm rot="5400000">
              <a:off x="1714320" y="1785960"/>
              <a:ext cx="5716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4" name="Пятиугольник 12"/>
          <p:cNvGrpSpPr/>
          <p:nvPr/>
        </p:nvGrpSpPr>
        <p:grpSpPr>
          <a:xfrm>
            <a:off x="4267080" y="1627200"/>
            <a:ext cx="324000" cy="677880"/>
            <a:chOff x="4267080" y="1627200"/>
            <a:chExt cx="324000" cy="677880"/>
          </a:xfrm>
        </p:grpSpPr>
        <p:pic>
          <p:nvPicPr>
            <p:cNvPr id="2105" name="Пятиугольник 12" descr=""/>
            <p:cNvPicPr/>
            <p:nvPr/>
          </p:nvPicPr>
          <p:blipFill>
            <a:blip r:embed="rId2"/>
            <a:stretch/>
          </p:blipFill>
          <p:spPr>
            <a:xfrm>
              <a:off x="4267080" y="1627200"/>
              <a:ext cx="3240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6" name=""/>
            <p:cNvSpPr/>
            <p:nvPr/>
          </p:nvSpPr>
          <p:spPr>
            <a:xfrm rot="5400000">
              <a:off x="4143240" y="1785960"/>
              <a:ext cx="5716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7" name="Пятиугольник 13"/>
          <p:cNvGrpSpPr/>
          <p:nvPr/>
        </p:nvGrpSpPr>
        <p:grpSpPr>
          <a:xfrm>
            <a:off x="6626160" y="1627200"/>
            <a:ext cx="324000" cy="677880"/>
            <a:chOff x="6626160" y="1627200"/>
            <a:chExt cx="324000" cy="677880"/>
          </a:xfrm>
        </p:grpSpPr>
        <p:pic>
          <p:nvPicPr>
            <p:cNvPr id="2108" name="Пятиугольник 13" descr=""/>
            <p:cNvPicPr/>
            <p:nvPr/>
          </p:nvPicPr>
          <p:blipFill>
            <a:blip r:embed="rId3"/>
            <a:stretch/>
          </p:blipFill>
          <p:spPr>
            <a:xfrm>
              <a:off x="6626160" y="1627200"/>
              <a:ext cx="3240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"/>
            <p:cNvSpPr/>
            <p:nvPr/>
          </p:nvSpPr>
          <p:spPr>
            <a:xfrm rot="5400000">
              <a:off x="6500160" y="1785960"/>
              <a:ext cx="5716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0" name="TextBox 15"/>
          <p:cNvSpPr/>
          <p:nvPr/>
        </p:nvSpPr>
        <p:spPr>
          <a:xfrm>
            <a:off x="1071720" y="5286240"/>
            <a:ext cx="321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арактеризуют способность к мобильности, коммуникации и актуализации личности в обще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Box 16"/>
          <p:cNvSpPr/>
          <p:nvPr/>
        </p:nvSpPr>
        <p:spPr>
          <a:xfrm>
            <a:off x="5162400" y="5357880"/>
            <a:ext cx="355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арактеризуют сформирован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ктических умений специалис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ределенной професс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Стрелка вниз 19"/>
          <p:cNvSpPr/>
          <p:nvPr/>
        </p:nvSpPr>
        <p:spPr>
          <a:xfrm>
            <a:off x="2071800" y="5000760"/>
            <a:ext cx="28548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Стрелка вниз 20"/>
          <p:cNvSpPr/>
          <p:nvPr/>
        </p:nvSpPr>
        <p:spPr>
          <a:xfrm>
            <a:off x="3571920" y="5000760"/>
            <a:ext cx="2858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00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Стрелка вниз 21"/>
          <p:cNvSpPr/>
          <p:nvPr/>
        </p:nvSpPr>
        <p:spPr>
          <a:xfrm>
            <a:off x="6572160" y="5000760"/>
            <a:ext cx="2858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Уровни профессионального развития учител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6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Педагогическая умелость -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304560" y="1428840"/>
            <a:ext cx="84582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азовая характеристика деятельности учителя, предусматривающая такой уровень владения системой обучающих и воспитательных умений и навыков, которые в совокупности позволяют учителю осуществлять учебно-воспитательную деятельность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на грамотном профессиональном уровн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472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едагогическая техни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мение управлять своим поведением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владение своим организмо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социально-перцептивные способ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техника речи и др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мение воздействовать на личность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дидакт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организатор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коммуникатив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диагностико-аналит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другие ум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21" name="Picture 3" descr="C:\Documents and Settings\Пользователь\Мои документы\Мои рисунки\Коллекция картинок (Microsoft)\j0437636.png"/>
          <p:cNvPicPr/>
          <p:nvPr/>
        </p:nvPicPr>
        <p:blipFill>
          <a:blip r:embed="rId1"/>
          <a:stretch/>
        </p:blipFill>
        <p:spPr>
          <a:xfrm>
            <a:off x="5857920" y="3643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5:46:35Z</dcterms:created>
  <dc:creator>Огурцова</dc:creator>
  <dc:description/>
  <cp:keywords/>
  <dc:language>en-US</dc:language>
  <cp:lastModifiedBy>Oгурцова</cp:lastModifiedBy>
  <dcterms:modified xsi:type="dcterms:W3CDTF">2012-02-07T09:40:24Z</dcterms:modified>
  <cp:revision>68</cp:revision>
  <dc:subject/>
  <dc:title>Основные составляющие компетентности учите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49</vt:lpwstr>
  </property>
</Properties>
</file>