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FA66-A35F-4860-B0CD-569BDEE79D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93C-BCB4-4A04-98B9-34A8EE807F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BEB-7721-4FD4-BC81-817380C162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278E-7901-43A1-ABDB-1ED183532D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51E-CB99-436F-8B2E-B638F8C0C8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F97-63A3-4910-9146-7AA52544C4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3D69-9141-4D2D-ADBF-2171FB9E2F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884-9706-44AF-9D01-20D524E6EB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C49-237D-46CF-99A1-C8249666FD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B32-E257-4012-B459-3CBCC098D1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6DE-9D06-4863-BE3B-65D4D789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F60-60A1-4FA7-95EC-4C3785FA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C19-3239-4B1F-9055-A8CADAF1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C0C-DD94-41C2-9B58-170A40BD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1236-1E69-4876-BC0B-5DA8B220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028A-C702-4FEC-8359-1E1C238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52DD0-4DEA-4494-8BE2-6E9E9CDA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3E98-C2AF-47BE-BC83-6EC9642D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DDB50-D218-47C7-AF5C-D2BF819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37146-E985-49A7-9F21-56ECFAA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C0F16-7BBA-4229-BDB5-C4BA841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A44-651D-4623-A8C5-0824CF5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259A7-7730-4D2D-A96D-7608A70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6799C-25A4-46A2-A543-094B640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E48EC-DC77-481A-8A0D-B2BD3F8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59964-198F-462C-B34C-61140ED1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F15A1-E5E5-4AB1-8D6C-A2834A12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5E3-0D1E-41D0-9F92-514F2BD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324-F2D0-42C2-B1D9-B23B0202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371-A362-4D5A-9527-558F5FA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867-F59A-4199-9617-C049212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9C3-1C58-493B-BF77-921643E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0C8-0282-472F-8380-427FEB8D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A45-B977-4D7F-8F26-01C857B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E5A0-8272-4555-B275-84AF27330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A96-13BD-4BB3-A99D-CC3C7CE8BE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Вода – удивительное вещество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слова Г.В. учитель биологии и химии, Королева О.В.учитель географ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У Осинская СОШ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90720" y="990720"/>
            <a:ext cx="73152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, истинное чудо земной приро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служивает, быть может, вели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эмы – так велика ее роль в наш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так драматична и слож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ьба этого жидкого минера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 Чивилих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14400" y="152280"/>
            <a:ext cx="70866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динить знания о 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ть целостное представление о воде, основываясь на ее свойств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динить разрозненные знания о данном веществе, полученные во время учебных заня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ть убеждение в необходимости бережного отношения к 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3880" y="1905120"/>
          <a:ext cx="6096240" cy="4038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6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пературы кипения веществ (градусы, С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язи между атомами водорода одной молекулы и атомами кислорода другой молекулы называются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одородным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ebebe"/>
              </a:gs>
              <a:gs pos="50000">
                <a:srgbClr val="dddddd"/>
              </a:gs>
              <a:gs pos="100000">
                <a:srgbClr val="bebeb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84000" y="533556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вращения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79280" y="765000"/>
            <a:ext cx="1368360" cy="331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597600" y="1035720"/>
            <a:ext cx="556560" cy="560520"/>
            <a:chOff x="597600" y="1035720"/>
            <a:chExt cx="556560" cy="560520"/>
          </a:xfrm>
        </p:grpSpPr>
        <p:sp>
          <p:nvSpPr>
            <p:cNvPr id="100" name="Oval 6"/>
            <p:cNvSpPr/>
            <p:nvPr/>
          </p:nvSpPr>
          <p:spPr>
            <a:xfrm rot="18978600">
              <a:off x="669960" y="1164960"/>
              <a:ext cx="361800" cy="35532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 rot="18978600">
              <a:off x="980640" y="1325160"/>
              <a:ext cx="1447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 rot="18978600">
              <a:off x="830160" y="1066320"/>
              <a:ext cx="1447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" name="Group 9"/>
          <p:cNvGrpSpPr/>
          <p:nvPr/>
        </p:nvGrpSpPr>
        <p:grpSpPr>
          <a:xfrm>
            <a:off x="1029240" y="1393200"/>
            <a:ext cx="466200" cy="463320"/>
            <a:chOff x="1029240" y="1393200"/>
            <a:chExt cx="466200" cy="463320"/>
          </a:xfrm>
        </p:grpSpPr>
        <p:sp>
          <p:nvSpPr>
            <p:cNvPr id="104" name="Oval 10"/>
            <p:cNvSpPr/>
            <p:nvPr/>
          </p:nvSpPr>
          <p:spPr>
            <a:xfrm rot="327600">
              <a:off x="1045800" y="1409400"/>
              <a:ext cx="360360" cy="36972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 rot="327600">
              <a:off x="1239840" y="1703520"/>
              <a:ext cx="14436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Oval 12"/>
            <p:cNvSpPr/>
            <p:nvPr/>
          </p:nvSpPr>
          <p:spPr>
            <a:xfrm rot="327600">
              <a:off x="1344240" y="1427400"/>
              <a:ext cx="1443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13"/>
          <p:cNvGrpSpPr/>
          <p:nvPr/>
        </p:nvGrpSpPr>
        <p:grpSpPr>
          <a:xfrm>
            <a:off x="250920" y="1413000"/>
            <a:ext cx="433080" cy="431640"/>
            <a:chOff x="250920" y="1413000"/>
            <a:chExt cx="433080" cy="431640"/>
          </a:xfrm>
        </p:grpSpPr>
        <p:sp>
          <p:nvSpPr>
            <p:cNvPr id="108" name="Oval 14"/>
            <p:cNvSpPr/>
            <p:nvPr/>
          </p:nvSpPr>
          <p:spPr>
            <a:xfrm>
              <a:off x="250920" y="14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468360" y="1701720"/>
              <a:ext cx="1443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539640" y="1413000"/>
              <a:ext cx="1443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1008360" y="1810440"/>
            <a:ext cx="525240" cy="522360"/>
            <a:chOff x="1008360" y="1810440"/>
            <a:chExt cx="525240" cy="522360"/>
          </a:xfrm>
        </p:grpSpPr>
        <p:sp>
          <p:nvSpPr>
            <p:cNvPr id="112" name="Oval 18"/>
            <p:cNvSpPr/>
            <p:nvPr/>
          </p:nvSpPr>
          <p:spPr>
            <a:xfrm rot="6539400">
              <a:off x="1125360" y="1859760"/>
              <a:ext cx="360360" cy="35784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 rot="6539400">
              <a:off x="1026360" y="2010240"/>
              <a:ext cx="14472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 rot="6539400">
              <a:off x="1266840" y="2170440"/>
              <a:ext cx="14436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206640" y="1801440"/>
            <a:ext cx="560520" cy="560520"/>
            <a:chOff x="206640" y="1801440"/>
            <a:chExt cx="560520" cy="560520"/>
          </a:xfrm>
        </p:grpSpPr>
        <p:sp>
          <p:nvSpPr>
            <p:cNvPr id="116" name="Oval 22"/>
            <p:cNvSpPr/>
            <p:nvPr/>
          </p:nvSpPr>
          <p:spPr>
            <a:xfrm rot="7478400">
              <a:off x="336600" y="1872000"/>
              <a:ext cx="360360" cy="35892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 rot="7478400">
              <a:off x="233640" y="1967760"/>
              <a:ext cx="14436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 rot="7478400">
              <a:off x="431280" y="2190960"/>
              <a:ext cx="14436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25"/>
          <p:cNvGrpSpPr/>
          <p:nvPr/>
        </p:nvGrpSpPr>
        <p:grpSpPr>
          <a:xfrm>
            <a:off x="676800" y="2058120"/>
            <a:ext cx="510120" cy="504720"/>
            <a:chOff x="676800" y="2058120"/>
            <a:chExt cx="510120" cy="504720"/>
          </a:xfrm>
        </p:grpSpPr>
        <p:sp>
          <p:nvSpPr>
            <p:cNvPr id="120" name="Oval 26"/>
            <p:cNvSpPr/>
            <p:nvPr/>
          </p:nvSpPr>
          <p:spPr>
            <a:xfrm rot="9302400">
              <a:off x="767880" y="2117160"/>
              <a:ext cx="360360" cy="35784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27"/>
            <p:cNvSpPr/>
            <p:nvPr/>
          </p:nvSpPr>
          <p:spPr>
            <a:xfrm rot="9302400">
              <a:off x="699840" y="2106720"/>
              <a:ext cx="14436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 rot="9302400">
              <a:off x="756360" y="2397240"/>
              <a:ext cx="14436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29"/>
          <p:cNvGrpSpPr/>
          <p:nvPr/>
        </p:nvGrpSpPr>
        <p:grpSpPr>
          <a:xfrm>
            <a:off x="1001880" y="2692800"/>
            <a:ext cx="560880" cy="561240"/>
            <a:chOff x="1001880" y="2692800"/>
            <a:chExt cx="560880" cy="561240"/>
          </a:xfrm>
        </p:grpSpPr>
        <p:sp>
          <p:nvSpPr>
            <p:cNvPr id="124" name="Oval 30"/>
            <p:cNvSpPr/>
            <p:nvPr/>
          </p:nvSpPr>
          <p:spPr>
            <a:xfrm rot="2638800">
              <a:off x="1076040" y="2768040"/>
              <a:ext cx="36288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31"/>
            <p:cNvSpPr/>
            <p:nvPr/>
          </p:nvSpPr>
          <p:spPr>
            <a:xfrm rot="2638800">
              <a:off x="1136880" y="308052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32"/>
            <p:cNvSpPr/>
            <p:nvPr/>
          </p:nvSpPr>
          <p:spPr>
            <a:xfrm rot="2638800">
              <a:off x="1387800" y="2923560"/>
              <a:ext cx="14580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Group 33"/>
          <p:cNvGrpSpPr/>
          <p:nvPr/>
        </p:nvGrpSpPr>
        <p:grpSpPr>
          <a:xfrm>
            <a:off x="637200" y="2481480"/>
            <a:ext cx="561960" cy="555480"/>
            <a:chOff x="637200" y="2481480"/>
            <a:chExt cx="561960" cy="555480"/>
          </a:xfrm>
        </p:grpSpPr>
        <p:sp>
          <p:nvSpPr>
            <p:cNvPr id="128" name="Oval 34"/>
            <p:cNvSpPr/>
            <p:nvPr/>
          </p:nvSpPr>
          <p:spPr>
            <a:xfrm rot="2015400">
              <a:off x="707400" y="2550600"/>
              <a:ext cx="360360" cy="36324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 rot="2015400">
              <a:off x="801360" y="2864880"/>
              <a:ext cx="144360" cy="14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 rot="2015400">
              <a:off x="1027080" y="2669040"/>
              <a:ext cx="14436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292680" y="2668680"/>
            <a:ext cx="509040" cy="503640"/>
            <a:chOff x="292680" y="2668680"/>
            <a:chExt cx="509040" cy="503640"/>
          </a:xfrm>
        </p:grpSpPr>
        <p:sp>
          <p:nvSpPr>
            <p:cNvPr id="132" name="Oval 38"/>
            <p:cNvSpPr/>
            <p:nvPr/>
          </p:nvSpPr>
          <p:spPr>
            <a:xfrm rot="858600">
              <a:off x="330840" y="2708280"/>
              <a:ext cx="367200" cy="3564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 rot="858600">
              <a:off x="505080" y="3015000"/>
              <a:ext cx="1468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 rot="858600">
              <a:off x="639720" y="2749320"/>
              <a:ext cx="1468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41"/>
          <p:cNvGrpSpPr/>
          <p:nvPr/>
        </p:nvGrpSpPr>
        <p:grpSpPr>
          <a:xfrm>
            <a:off x="302040" y="3122280"/>
            <a:ext cx="484560" cy="483840"/>
            <a:chOff x="302040" y="3122280"/>
            <a:chExt cx="484560" cy="483840"/>
          </a:xfrm>
        </p:grpSpPr>
        <p:sp>
          <p:nvSpPr>
            <p:cNvPr id="136" name="Oval 42"/>
            <p:cNvSpPr/>
            <p:nvPr/>
          </p:nvSpPr>
          <p:spPr>
            <a:xfrm rot="5959200">
              <a:off x="400680" y="3153960"/>
              <a:ext cx="364320" cy="3528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43"/>
            <p:cNvSpPr/>
            <p:nvPr/>
          </p:nvSpPr>
          <p:spPr>
            <a:xfrm rot="5959200">
              <a:off x="309600" y="3335040"/>
              <a:ext cx="14616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44"/>
            <p:cNvSpPr/>
            <p:nvPr/>
          </p:nvSpPr>
          <p:spPr>
            <a:xfrm rot="5959200">
              <a:off x="580680" y="3452760"/>
              <a:ext cx="14580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" name="Group 45"/>
          <p:cNvGrpSpPr/>
          <p:nvPr/>
        </p:nvGrpSpPr>
        <p:grpSpPr>
          <a:xfrm>
            <a:off x="612720" y="3396960"/>
            <a:ext cx="459720" cy="450360"/>
            <a:chOff x="612720" y="3396960"/>
            <a:chExt cx="459720" cy="450360"/>
          </a:xfrm>
        </p:grpSpPr>
        <p:sp>
          <p:nvSpPr>
            <p:cNvPr id="140" name="Oval 46"/>
            <p:cNvSpPr/>
            <p:nvPr/>
          </p:nvSpPr>
          <p:spPr>
            <a:xfrm rot="4840800">
              <a:off x="677880" y="3425400"/>
              <a:ext cx="360360" cy="3564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47"/>
            <p:cNvSpPr/>
            <p:nvPr/>
          </p:nvSpPr>
          <p:spPr>
            <a:xfrm rot="4840800">
              <a:off x="621720" y="3662640"/>
              <a:ext cx="1443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48"/>
            <p:cNvSpPr/>
            <p:nvPr/>
          </p:nvSpPr>
          <p:spPr>
            <a:xfrm rot="4840800">
              <a:off x="918720" y="3693960"/>
              <a:ext cx="1443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" name="Group 49"/>
          <p:cNvGrpSpPr/>
          <p:nvPr/>
        </p:nvGrpSpPr>
        <p:grpSpPr>
          <a:xfrm>
            <a:off x="1042920" y="3204360"/>
            <a:ext cx="437760" cy="438840"/>
            <a:chOff x="1042920" y="3204360"/>
            <a:chExt cx="437760" cy="438840"/>
          </a:xfrm>
        </p:grpSpPr>
        <p:sp>
          <p:nvSpPr>
            <p:cNvPr id="144" name="Oval 50"/>
            <p:cNvSpPr/>
            <p:nvPr/>
          </p:nvSpPr>
          <p:spPr>
            <a:xfrm rot="5256600">
              <a:off x="1117080" y="3215880"/>
              <a:ext cx="360360" cy="351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51"/>
            <p:cNvSpPr/>
            <p:nvPr/>
          </p:nvSpPr>
          <p:spPr>
            <a:xfrm rot="5256600">
              <a:off x="1043280" y="3427560"/>
              <a:ext cx="14436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52"/>
            <p:cNvSpPr/>
            <p:nvPr/>
          </p:nvSpPr>
          <p:spPr>
            <a:xfrm rot="5256600">
              <a:off x="1328400" y="3498120"/>
              <a:ext cx="14436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Rectangle 53"/>
          <p:cNvSpPr/>
          <p:nvPr/>
        </p:nvSpPr>
        <p:spPr>
          <a:xfrm>
            <a:off x="2124000" y="765000"/>
            <a:ext cx="1368360" cy="331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54"/>
          <p:cNvGrpSpPr/>
          <p:nvPr/>
        </p:nvGrpSpPr>
        <p:grpSpPr>
          <a:xfrm>
            <a:off x="2658240" y="919800"/>
            <a:ext cx="560160" cy="558000"/>
            <a:chOff x="2658240" y="919800"/>
            <a:chExt cx="560160" cy="558000"/>
          </a:xfrm>
        </p:grpSpPr>
        <p:sp>
          <p:nvSpPr>
            <p:cNvPr id="149" name="Oval 55"/>
            <p:cNvSpPr/>
            <p:nvPr/>
          </p:nvSpPr>
          <p:spPr>
            <a:xfrm rot="2692200">
              <a:off x="2732400" y="995040"/>
              <a:ext cx="36288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Oval 56"/>
            <p:cNvSpPr/>
            <p:nvPr/>
          </p:nvSpPr>
          <p:spPr>
            <a:xfrm rot="2692200">
              <a:off x="2787480" y="130428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Oval 57"/>
            <p:cNvSpPr/>
            <p:nvPr/>
          </p:nvSpPr>
          <p:spPr>
            <a:xfrm rot="2692200">
              <a:off x="3043080" y="1154160"/>
              <a:ext cx="14580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Group 58"/>
          <p:cNvGrpSpPr/>
          <p:nvPr/>
        </p:nvGrpSpPr>
        <p:grpSpPr>
          <a:xfrm>
            <a:off x="2193840" y="1533600"/>
            <a:ext cx="482400" cy="467280"/>
            <a:chOff x="2193840" y="1533600"/>
            <a:chExt cx="482400" cy="467280"/>
          </a:xfrm>
        </p:grpSpPr>
        <p:sp>
          <p:nvSpPr>
            <p:cNvPr id="153" name="Oval 59"/>
            <p:cNvSpPr/>
            <p:nvPr/>
          </p:nvSpPr>
          <p:spPr>
            <a:xfrm rot="9700200">
              <a:off x="2271600" y="1584720"/>
              <a:ext cx="357840" cy="35352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60"/>
            <p:cNvSpPr/>
            <p:nvPr/>
          </p:nvSpPr>
          <p:spPr>
            <a:xfrm rot="9700200">
              <a:off x="2211840" y="1552320"/>
              <a:ext cx="14364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Oval 61"/>
            <p:cNvSpPr/>
            <p:nvPr/>
          </p:nvSpPr>
          <p:spPr>
            <a:xfrm rot="9700200">
              <a:off x="2236320" y="1841760"/>
              <a:ext cx="1432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62"/>
          <p:cNvGrpSpPr/>
          <p:nvPr/>
        </p:nvGrpSpPr>
        <p:grpSpPr>
          <a:xfrm>
            <a:off x="2561760" y="1382400"/>
            <a:ext cx="528480" cy="524520"/>
            <a:chOff x="2561760" y="1382400"/>
            <a:chExt cx="528480" cy="524520"/>
          </a:xfrm>
        </p:grpSpPr>
        <p:sp>
          <p:nvSpPr>
            <p:cNvPr id="157" name="Oval 63"/>
            <p:cNvSpPr/>
            <p:nvPr/>
          </p:nvSpPr>
          <p:spPr>
            <a:xfrm rot="6603000">
              <a:off x="2682000" y="1436760"/>
              <a:ext cx="361800" cy="351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Oval 64"/>
            <p:cNvSpPr/>
            <p:nvPr/>
          </p:nvSpPr>
          <p:spPr>
            <a:xfrm rot="6603000">
              <a:off x="2579400" y="1578960"/>
              <a:ext cx="14472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Oval 65"/>
            <p:cNvSpPr/>
            <p:nvPr/>
          </p:nvSpPr>
          <p:spPr>
            <a:xfrm rot="6603000">
              <a:off x="2820240" y="1744920"/>
              <a:ext cx="14472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0" name="Group 66"/>
          <p:cNvGrpSpPr/>
          <p:nvPr/>
        </p:nvGrpSpPr>
        <p:grpSpPr>
          <a:xfrm>
            <a:off x="3030480" y="2362680"/>
            <a:ext cx="442080" cy="454680"/>
            <a:chOff x="3030480" y="2362680"/>
            <a:chExt cx="442080" cy="454680"/>
          </a:xfrm>
        </p:grpSpPr>
        <p:sp>
          <p:nvSpPr>
            <p:cNvPr id="161" name="Oval 67"/>
            <p:cNvSpPr/>
            <p:nvPr/>
          </p:nvSpPr>
          <p:spPr>
            <a:xfrm rot="16409400">
              <a:off x="3042000" y="2447280"/>
              <a:ext cx="35784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68"/>
            <p:cNvSpPr/>
            <p:nvPr/>
          </p:nvSpPr>
          <p:spPr>
            <a:xfrm rot="16409400">
              <a:off x="3324600" y="2455200"/>
              <a:ext cx="1436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69"/>
            <p:cNvSpPr/>
            <p:nvPr/>
          </p:nvSpPr>
          <p:spPr>
            <a:xfrm rot="16409400">
              <a:off x="3040920" y="2366640"/>
              <a:ext cx="14328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70"/>
          <p:cNvGrpSpPr/>
          <p:nvPr/>
        </p:nvGrpSpPr>
        <p:grpSpPr>
          <a:xfrm>
            <a:off x="3015360" y="1956960"/>
            <a:ext cx="432000" cy="435960"/>
            <a:chOff x="3015360" y="1956960"/>
            <a:chExt cx="432000" cy="435960"/>
          </a:xfrm>
        </p:grpSpPr>
        <p:sp>
          <p:nvSpPr>
            <p:cNvPr id="165" name="Oval 71"/>
            <p:cNvSpPr/>
            <p:nvPr/>
          </p:nvSpPr>
          <p:spPr>
            <a:xfrm rot="16228200">
              <a:off x="3020400" y="2035440"/>
              <a:ext cx="360360" cy="351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2"/>
            <p:cNvSpPr/>
            <p:nvPr/>
          </p:nvSpPr>
          <p:spPr>
            <a:xfrm rot="16228200">
              <a:off x="3304800" y="2022480"/>
              <a:ext cx="14436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Oval 73"/>
            <p:cNvSpPr/>
            <p:nvPr/>
          </p:nvSpPr>
          <p:spPr>
            <a:xfrm rot="16228200">
              <a:off x="3013200" y="1959840"/>
              <a:ext cx="14436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Group 74"/>
          <p:cNvGrpSpPr/>
          <p:nvPr/>
        </p:nvGrpSpPr>
        <p:grpSpPr>
          <a:xfrm>
            <a:off x="2277720" y="3021120"/>
            <a:ext cx="533880" cy="533880"/>
            <a:chOff x="2277720" y="3021120"/>
            <a:chExt cx="533880" cy="533880"/>
          </a:xfrm>
        </p:grpSpPr>
        <p:sp>
          <p:nvSpPr>
            <p:cNvPr id="169" name="Oval 75"/>
            <p:cNvSpPr/>
            <p:nvPr/>
          </p:nvSpPr>
          <p:spPr>
            <a:xfrm rot="12118200">
              <a:off x="2403000" y="3141360"/>
              <a:ext cx="35388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76"/>
            <p:cNvSpPr/>
            <p:nvPr/>
          </p:nvSpPr>
          <p:spPr>
            <a:xfrm rot="12118200">
              <a:off x="2475360" y="3042360"/>
              <a:ext cx="1418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77"/>
            <p:cNvSpPr/>
            <p:nvPr/>
          </p:nvSpPr>
          <p:spPr>
            <a:xfrm rot="12118200">
              <a:off x="2298960" y="3275640"/>
              <a:ext cx="1418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2" name="Group 78"/>
          <p:cNvGrpSpPr/>
          <p:nvPr/>
        </p:nvGrpSpPr>
        <p:grpSpPr>
          <a:xfrm>
            <a:off x="2548800" y="2755440"/>
            <a:ext cx="554040" cy="552600"/>
            <a:chOff x="2548800" y="2755440"/>
            <a:chExt cx="554040" cy="552600"/>
          </a:xfrm>
        </p:grpSpPr>
        <p:sp>
          <p:nvSpPr>
            <p:cNvPr id="173" name="Oval 79"/>
            <p:cNvSpPr/>
            <p:nvPr/>
          </p:nvSpPr>
          <p:spPr>
            <a:xfrm rot="3015600">
              <a:off x="2621880" y="2829240"/>
              <a:ext cx="36180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Oval 80"/>
            <p:cNvSpPr/>
            <p:nvPr/>
          </p:nvSpPr>
          <p:spPr>
            <a:xfrm rot="3015600">
              <a:off x="2660040" y="3134880"/>
              <a:ext cx="14472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Oval 81"/>
            <p:cNvSpPr/>
            <p:nvPr/>
          </p:nvSpPr>
          <p:spPr>
            <a:xfrm rot="3015600">
              <a:off x="2929320" y="3007080"/>
              <a:ext cx="14472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6" name="Group 82"/>
          <p:cNvGrpSpPr/>
          <p:nvPr/>
        </p:nvGrpSpPr>
        <p:grpSpPr>
          <a:xfrm>
            <a:off x="2620080" y="3439800"/>
            <a:ext cx="465840" cy="451800"/>
            <a:chOff x="2620080" y="3439800"/>
            <a:chExt cx="465840" cy="451800"/>
          </a:xfrm>
        </p:grpSpPr>
        <p:sp>
          <p:nvSpPr>
            <p:cNvPr id="177" name="Oval 83"/>
            <p:cNvSpPr/>
            <p:nvPr/>
          </p:nvSpPr>
          <p:spPr>
            <a:xfrm rot="15472800">
              <a:off x="2678760" y="3502080"/>
              <a:ext cx="352440" cy="3585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84"/>
            <p:cNvSpPr/>
            <p:nvPr/>
          </p:nvSpPr>
          <p:spPr>
            <a:xfrm rot="15472800">
              <a:off x="2930760" y="3460320"/>
              <a:ext cx="141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85"/>
            <p:cNvSpPr/>
            <p:nvPr/>
          </p:nvSpPr>
          <p:spPr>
            <a:xfrm rot="15472800">
              <a:off x="2633400" y="3452400"/>
              <a:ext cx="141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Rectangle 86"/>
          <p:cNvSpPr/>
          <p:nvPr/>
        </p:nvSpPr>
        <p:spPr>
          <a:xfrm>
            <a:off x="4284720" y="765000"/>
            <a:ext cx="1368360" cy="331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1" name="Group 87"/>
          <p:cNvGrpSpPr/>
          <p:nvPr/>
        </p:nvGrpSpPr>
        <p:grpSpPr>
          <a:xfrm>
            <a:off x="4923720" y="972000"/>
            <a:ext cx="531720" cy="536040"/>
            <a:chOff x="4923720" y="972000"/>
            <a:chExt cx="531720" cy="536040"/>
          </a:xfrm>
        </p:grpSpPr>
        <p:sp>
          <p:nvSpPr>
            <p:cNvPr id="182" name="Oval 88"/>
            <p:cNvSpPr/>
            <p:nvPr/>
          </p:nvSpPr>
          <p:spPr>
            <a:xfrm rot="19750200">
              <a:off x="4991760" y="1075680"/>
              <a:ext cx="360360" cy="3657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89"/>
            <p:cNvSpPr/>
            <p:nvPr/>
          </p:nvSpPr>
          <p:spPr>
            <a:xfrm rot="19750200">
              <a:off x="5283720" y="1280880"/>
              <a:ext cx="144360" cy="14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90"/>
            <p:cNvSpPr/>
            <p:nvPr/>
          </p:nvSpPr>
          <p:spPr>
            <a:xfrm rot="19750200">
              <a:off x="5198400" y="99864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91"/>
          <p:cNvGrpSpPr/>
          <p:nvPr/>
        </p:nvGrpSpPr>
        <p:grpSpPr>
          <a:xfrm>
            <a:off x="5070240" y="2411280"/>
            <a:ext cx="531360" cy="533520"/>
            <a:chOff x="5070240" y="2411280"/>
            <a:chExt cx="531360" cy="533520"/>
          </a:xfrm>
        </p:grpSpPr>
        <p:sp>
          <p:nvSpPr>
            <p:cNvPr id="186" name="Oval 92"/>
            <p:cNvSpPr/>
            <p:nvPr/>
          </p:nvSpPr>
          <p:spPr>
            <a:xfrm rot="19732800">
              <a:off x="5136120" y="2520360"/>
              <a:ext cx="361800" cy="3564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Oval 93"/>
            <p:cNvSpPr/>
            <p:nvPr/>
          </p:nvSpPr>
          <p:spPr>
            <a:xfrm rot="19732800">
              <a:off x="5430600" y="2723400"/>
              <a:ext cx="1447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Oval 94"/>
            <p:cNvSpPr/>
            <p:nvPr/>
          </p:nvSpPr>
          <p:spPr>
            <a:xfrm rot="19732800">
              <a:off x="5340600" y="2438280"/>
              <a:ext cx="1447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95"/>
          <p:cNvGrpSpPr/>
          <p:nvPr/>
        </p:nvGrpSpPr>
        <p:grpSpPr>
          <a:xfrm>
            <a:off x="4392720" y="1523520"/>
            <a:ext cx="556920" cy="547560"/>
            <a:chOff x="4392720" y="1523520"/>
            <a:chExt cx="556920" cy="547560"/>
          </a:xfrm>
        </p:grpSpPr>
        <p:sp>
          <p:nvSpPr>
            <p:cNvPr id="190" name="Oval 96"/>
            <p:cNvSpPr/>
            <p:nvPr/>
          </p:nvSpPr>
          <p:spPr>
            <a:xfrm rot="8296200">
              <a:off x="4516200" y="1598040"/>
              <a:ext cx="360360" cy="3564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Oval 97"/>
            <p:cNvSpPr/>
            <p:nvPr/>
          </p:nvSpPr>
          <p:spPr>
            <a:xfrm rot="8296200">
              <a:off x="4421160" y="1642680"/>
              <a:ext cx="1443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98"/>
            <p:cNvSpPr/>
            <p:nvPr/>
          </p:nvSpPr>
          <p:spPr>
            <a:xfrm rot="8296200">
              <a:off x="4555080" y="1899720"/>
              <a:ext cx="1443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3" name="Group 99"/>
          <p:cNvGrpSpPr/>
          <p:nvPr/>
        </p:nvGrpSpPr>
        <p:grpSpPr>
          <a:xfrm>
            <a:off x="4394520" y="2246040"/>
            <a:ext cx="518400" cy="514440"/>
            <a:chOff x="4394520" y="2246040"/>
            <a:chExt cx="518400" cy="514440"/>
          </a:xfrm>
        </p:grpSpPr>
        <p:sp>
          <p:nvSpPr>
            <p:cNvPr id="194" name="Oval 100"/>
            <p:cNvSpPr/>
            <p:nvPr/>
          </p:nvSpPr>
          <p:spPr>
            <a:xfrm rot="6424200">
              <a:off x="4507920" y="2295720"/>
              <a:ext cx="365400" cy="35244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Oval 101"/>
            <p:cNvSpPr/>
            <p:nvPr/>
          </p:nvSpPr>
          <p:spPr>
            <a:xfrm rot="6424200">
              <a:off x="4408920" y="2449440"/>
              <a:ext cx="146520" cy="13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Oval 102"/>
            <p:cNvSpPr/>
            <p:nvPr/>
          </p:nvSpPr>
          <p:spPr>
            <a:xfrm rot="6424200">
              <a:off x="4658760" y="2599920"/>
              <a:ext cx="14652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Group 103"/>
          <p:cNvGrpSpPr/>
          <p:nvPr/>
        </p:nvGrpSpPr>
        <p:grpSpPr>
          <a:xfrm>
            <a:off x="5103360" y="3004200"/>
            <a:ext cx="546120" cy="537840"/>
            <a:chOff x="5103360" y="3004200"/>
            <a:chExt cx="546120" cy="537840"/>
          </a:xfrm>
        </p:grpSpPr>
        <p:sp>
          <p:nvSpPr>
            <p:cNvPr id="198" name="Oval 104"/>
            <p:cNvSpPr/>
            <p:nvPr/>
          </p:nvSpPr>
          <p:spPr>
            <a:xfrm rot="1470000">
              <a:off x="5161680" y="3063600"/>
              <a:ext cx="365760" cy="36180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Oval 105"/>
            <p:cNvSpPr/>
            <p:nvPr/>
          </p:nvSpPr>
          <p:spPr>
            <a:xfrm rot="1470000">
              <a:off x="5294160" y="3374640"/>
              <a:ext cx="14652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Oval 106"/>
            <p:cNvSpPr/>
            <p:nvPr/>
          </p:nvSpPr>
          <p:spPr>
            <a:xfrm rot="1470000">
              <a:off x="5479560" y="3142080"/>
              <a:ext cx="1468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107"/>
          <p:cNvGrpSpPr/>
          <p:nvPr/>
        </p:nvGrpSpPr>
        <p:grpSpPr>
          <a:xfrm>
            <a:off x="4385160" y="3382200"/>
            <a:ext cx="502920" cy="511200"/>
            <a:chOff x="4385160" y="3382200"/>
            <a:chExt cx="502920" cy="511200"/>
          </a:xfrm>
        </p:grpSpPr>
        <p:sp>
          <p:nvSpPr>
            <p:cNvPr id="202" name="Oval 108"/>
            <p:cNvSpPr/>
            <p:nvPr/>
          </p:nvSpPr>
          <p:spPr>
            <a:xfrm rot="17073000">
              <a:off x="4425840" y="3494160"/>
              <a:ext cx="357840" cy="36144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109"/>
            <p:cNvSpPr/>
            <p:nvPr/>
          </p:nvSpPr>
          <p:spPr>
            <a:xfrm rot="17073000">
              <a:off x="4728960" y="3540600"/>
              <a:ext cx="1432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Oval 110"/>
            <p:cNvSpPr/>
            <p:nvPr/>
          </p:nvSpPr>
          <p:spPr>
            <a:xfrm rot="17073000">
              <a:off x="4468320" y="3397680"/>
              <a:ext cx="1432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5" name="Group 111"/>
          <p:cNvGrpSpPr/>
          <p:nvPr/>
        </p:nvGrpSpPr>
        <p:grpSpPr>
          <a:xfrm>
            <a:off x="4888440" y="1840320"/>
            <a:ext cx="555120" cy="550440"/>
            <a:chOff x="4888440" y="1840320"/>
            <a:chExt cx="555120" cy="550440"/>
          </a:xfrm>
        </p:grpSpPr>
        <p:sp>
          <p:nvSpPr>
            <p:cNvPr id="206" name="Oval 112"/>
            <p:cNvSpPr/>
            <p:nvPr/>
          </p:nvSpPr>
          <p:spPr>
            <a:xfrm rot="1758600">
              <a:off x="4952520" y="1906920"/>
              <a:ext cx="367200" cy="3585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Oval 113"/>
            <p:cNvSpPr/>
            <p:nvPr/>
          </p:nvSpPr>
          <p:spPr>
            <a:xfrm rot="1758600">
              <a:off x="5067360" y="2221560"/>
              <a:ext cx="1468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Oval 114"/>
            <p:cNvSpPr/>
            <p:nvPr/>
          </p:nvSpPr>
          <p:spPr>
            <a:xfrm rot="1758600">
              <a:off x="5271120" y="2004480"/>
              <a:ext cx="14688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9" name="Group 115"/>
          <p:cNvGrpSpPr/>
          <p:nvPr/>
        </p:nvGrpSpPr>
        <p:grpSpPr>
          <a:xfrm>
            <a:off x="4367520" y="801000"/>
            <a:ext cx="530640" cy="529560"/>
            <a:chOff x="4367520" y="801000"/>
            <a:chExt cx="530640" cy="529560"/>
          </a:xfrm>
        </p:grpSpPr>
        <p:sp>
          <p:nvSpPr>
            <p:cNvPr id="210" name="Oval 116"/>
            <p:cNvSpPr/>
            <p:nvPr/>
          </p:nvSpPr>
          <p:spPr>
            <a:xfrm rot="12044400">
              <a:off x="4492080" y="919080"/>
              <a:ext cx="35388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17"/>
            <p:cNvSpPr/>
            <p:nvPr/>
          </p:nvSpPr>
          <p:spPr>
            <a:xfrm rot="12044400">
              <a:off x="4561200" y="821520"/>
              <a:ext cx="1418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118"/>
            <p:cNvSpPr/>
            <p:nvPr/>
          </p:nvSpPr>
          <p:spPr>
            <a:xfrm rot="12044400">
              <a:off x="4388040" y="1059840"/>
              <a:ext cx="1418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Group 119"/>
          <p:cNvGrpSpPr/>
          <p:nvPr/>
        </p:nvGrpSpPr>
        <p:grpSpPr>
          <a:xfrm>
            <a:off x="4646880" y="2900160"/>
            <a:ext cx="448920" cy="447480"/>
            <a:chOff x="4646880" y="2900160"/>
            <a:chExt cx="448920" cy="447480"/>
          </a:xfrm>
        </p:grpSpPr>
        <p:sp>
          <p:nvSpPr>
            <p:cNvPr id="214" name="Oval 120"/>
            <p:cNvSpPr/>
            <p:nvPr/>
          </p:nvSpPr>
          <p:spPr>
            <a:xfrm rot="4991400">
              <a:off x="4707000" y="2924640"/>
              <a:ext cx="36972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121"/>
            <p:cNvSpPr/>
            <p:nvPr/>
          </p:nvSpPr>
          <p:spPr>
            <a:xfrm rot="4991400">
              <a:off x="4652280" y="3166200"/>
              <a:ext cx="1479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122"/>
            <p:cNvSpPr/>
            <p:nvPr/>
          </p:nvSpPr>
          <p:spPr>
            <a:xfrm rot="4991400">
              <a:off x="4941720" y="3193920"/>
              <a:ext cx="14832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7" name="Rectangle 123"/>
          <p:cNvSpPr/>
          <p:nvPr/>
        </p:nvSpPr>
        <p:spPr>
          <a:xfrm>
            <a:off x="7667640" y="836640"/>
            <a:ext cx="125892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8" name="Group 124"/>
          <p:cNvGrpSpPr/>
          <p:nvPr/>
        </p:nvGrpSpPr>
        <p:grpSpPr>
          <a:xfrm>
            <a:off x="7793280" y="959400"/>
            <a:ext cx="471960" cy="545040"/>
            <a:chOff x="7793280" y="959400"/>
            <a:chExt cx="471960" cy="545040"/>
          </a:xfrm>
        </p:grpSpPr>
        <p:sp>
          <p:nvSpPr>
            <p:cNvPr id="219" name="Oval 125"/>
            <p:cNvSpPr/>
            <p:nvPr/>
          </p:nvSpPr>
          <p:spPr>
            <a:xfrm rot="4991400">
              <a:off x="7884360" y="1123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Oval 126"/>
            <p:cNvSpPr/>
            <p:nvPr/>
          </p:nvSpPr>
          <p:spPr>
            <a:xfrm rot="4991400">
              <a:off x="7813080" y="97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1" name="Group 127"/>
          <p:cNvGrpSpPr/>
          <p:nvPr/>
        </p:nvGrpSpPr>
        <p:grpSpPr>
          <a:xfrm>
            <a:off x="7720200" y="1535760"/>
            <a:ext cx="473760" cy="618120"/>
            <a:chOff x="7720200" y="1535760"/>
            <a:chExt cx="473760" cy="618120"/>
          </a:xfrm>
        </p:grpSpPr>
        <p:sp>
          <p:nvSpPr>
            <p:cNvPr id="222" name="Oval 128"/>
            <p:cNvSpPr/>
            <p:nvPr/>
          </p:nvSpPr>
          <p:spPr>
            <a:xfrm rot="4991400">
              <a:off x="7813080" y="155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29"/>
            <p:cNvSpPr/>
            <p:nvPr/>
          </p:nvSpPr>
          <p:spPr>
            <a:xfrm rot="4991400">
              <a:off x="7740000" y="177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Group 130"/>
          <p:cNvGrpSpPr/>
          <p:nvPr/>
        </p:nvGrpSpPr>
        <p:grpSpPr>
          <a:xfrm>
            <a:off x="8223480" y="1680120"/>
            <a:ext cx="618120" cy="545040"/>
            <a:chOff x="8223480" y="1680120"/>
            <a:chExt cx="618120" cy="545040"/>
          </a:xfrm>
        </p:grpSpPr>
        <p:sp>
          <p:nvSpPr>
            <p:cNvPr id="225" name="Oval 131"/>
            <p:cNvSpPr/>
            <p:nvPr/>
          </p:nvSpPr>
          <p:spPr>
            <a:xfrm rot="4991400">
              <a:off x="8243280" y="1844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132"/>
            <p:cNvSpPr/>
            <p:nvPr/>
          </p:nvSpPr>
          <p:spPr>
            <a:xfrm rot="4991400">
              <a:off x="8460720" y="1699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Group 133"/>
          <p:cNvGrpSpPr/>
          <p:nvPr/>
        </p:nvGrpSpPr>
        <p:grpSpPr>
          <a:xfrm>
            <a:off x="8440920" y="960840"/>
            <a:ext cx="471960" cy="616680"/>
            <a:chOff x="8440920" y="960840"/>
            <a:chExt cx="471960" cy="616680"/>
          </a:xfrm>
        </p:grpSpPr>
        <p:sp>
          <p:nvSpPr>
            <p:cNvPr id="228" name="Oval 134"/>
            <p:cNvSpPr/>
            <p:nvPr/>
          </p:nvSpPr>
          <p:spPr>
            <a:xfrm rot="4991400">
              <a:off x="8460720" y="1196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35"/>
            <p:cNvSpPr/>
            <p:nvPr/>
          </p:nvSpPr>
          <p:spPr>
            <a:xfrm rot="4991400">
              <a:off x="8532000" y="98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9dc9d3"/>
                </a:gs>
                <a:gs pos="100000">
                  <a:srgbClr val="779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Rectangle 136"/>
          <p:cNvSpPr/>
          <p:nvPr/>
        </p:nvSpPr>
        <p:spPr>
          <a:xfrm>
            <a:off x="6227640" y="836640"/>
            <a:ext cx="1225800" cy="1511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137"/>
          <p:cNvSpPr/>
          <p:nvPr/>
        </p:nvSpPr>
        <p:spPr>
          <a:xfrm>
            <a:off x="6227640" y="2637000"/>
            <a:ext cx="1225800" cy="1439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Oval 138"/>
          <p:cNvSpPr/>
          <p:nvPr/>
        </p:nvSpPr>
        <p:spPr>
          <a:xfrm rot="4991400">
            <a:off x="6300000" y="979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9dc9d3"/>
              </a:gs>
              <a:gs pos="100000">
                <a:srgbClr val="77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Oval 139"/>
          <p:cNvSpPr/>
          <p:nvPr/>
        </p:nvSpPr>
        <p:spPr>
          <a:xfrm rot="4991400">
            <a:off x="6875640" y="2853360"/>
            <a:ext cx="1447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Oval 140"/>
          <p:cNvSpPr/>
          <p:nvPr/>
        </p:nvSpPr>
        <p:spPr>
          <a:xfrm rot="4991400">
            <a:off x="6442200" y="2853360"/>
            <a:ext cx="1447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141"/>
          <p:cNvSpPr/>
          <p:nvPr/>
        </p:nvSpPr>
        <p:spPr>
          <a:xfrm rot="4991400">
            <a:off x="6876360" y="1052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9dc9d3"/>
              </a:gs>
              <a:gs pos="100000">
                <a:srgbClr val="77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142"/>
          <p:cNvSpPr/>
          <p:nvPr/>
        </p:nvSpPr>
        <p:spPr>
          <a:xfrm rot="4991400">
            <a:off x="6587280" y="1915920"/>
            <a:ext cx="360360" cy="360360"/>
          </a:xfrm>
          <a:prstGeom prst="ellipse">
            <a:avLst/>
          </a:prstGeom>
          <a:gradFill rotWithShape="0">
            <a:gsLst>
              <a:gs pos="0">
                <a:srgbClr val="9dc9d3"/>
              </a:gs>
              <a:gs pos="100000">
                <a:srgbClr val="77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143"/>
          <p:cNvSpPr/>
          <p:nvPr/>
        </p:nvSpPr>
        <p:spPr>
          <a:xfrm rot="4991400">
            <a:off x="7019280" y="1483920"/>
            <a:ext cx="360360" cy="360360"/>
          </a:xfrm>
          <a:prstGeom prst="ellipse">
            <a:avLst/>
          </a:prstGeom>
          <a:gradFill rotWithShape="0">
            <a:gsLst>
              <a:gs pos="0">
                <a:srgbClr val="9dc9d3"/>
              </a:gs>
              <a:gs pos="100000">
                <a:srgbClr val="77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Oval 144"/>
          <p:cNvSpPr/>
          <p:nvPr/>
        </p:nvSpPr>
        <p:spPr>
          <a:xfrm rot="4991400">
            <a:off x="6371640" y="1412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9dc9d3"/>
              </a:gs>
              <a:gs pos="100000">
                <a:srgbClr val="7799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val 145"/>
          <p:cNvSpPr/>
          <p:nvPr/>
        </p:nvSpPr>
        <p:spPr>
          <a:xfrm rot="4991400">
            <a:off x="6515280" y="3213720"/>
            <a:ext cx="1447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val 146"/>
          <p:cNvSpPr/>
          <p:nvPr/>
        </p:nvSpPr>
        <p:spPr>
          <a:xfrm rot="4991400">
            <a:off x="6586920" y="3572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Oval 147"/>
          <p:cNvSpPr/>
          <p:nvPr/>
        </p:nvSpPr>
        <p:spPr>
          <a:xfrm rot="4991400">
            <a:off x="6876000" y="3356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Oval 148"/>
          <p:cNvSpPr/>
          <p:nvPr/>
        </p:nvSpPr>
        <p:spPr>
          <a:xfrm rot="4991400">
            <a:off x="7092000" y="3069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Oval 149"/>
          <p:cNvSpPr/>
          <p:nvPr/>
        </p:nvSpPr>
        <p:spPr>
          <a:xfrm rot="4991400">
            <a:off x="7018920" y="3788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7667640" y="2637000"/>
            <a:ext cx="1258920" cy="1439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5" name="Group 151"/>
          <p:cNvGrpSpPr/>
          <p:nvPr/>
        </p:nvGrpSpPr>
        <p:grpSpPr>
          <a:xfrm>
            <a:off x="7946640" y="2845080"/>
            <a:ext cx="230040" cy="231480"/>
            <a:chOff x="7946640" y="2845080"/>
            <a:chExt cx="230040" cy="231480"/>
          </a:xfrm>
        </p:grpSpPr>
        <p:sp>
          <p:nvSpPr>
            <p:cNvPr id="246" name="Oval 152"/>
            <p:cNvSpPr/>
            <p:nvPr/>
          </p:nvSpPr>
          <p:spPr>
            <a:xfrm rot="4991400">
              <a:off x="7951680" y="2927160"/>
              <a:ext cx="14436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153"/>
            <p:cNvSpPr/>
            <p:nvPr/>
          </p:nvSpPr>
          <p:spPr>
            <a:xfrm rot="4991400">
              <a:off x="8026560" y="2855520"/>
              <a:ext cx="14472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Group 154"/>
          <p:cNvGrpSpPr/>
          <p:nvPr/>
        </p:nvGrpSpPr>
        <p:grpSpPr>
          <a:xfrm>
            <a:off x="7875360" y="3276720"/>
            <a:ext cx="230760" cy="160200"/>
            <a:chOff x="7875360" y="3276720"/>
            <a:chExt cx="230760" cy="160200"/>
          </a:xfrm>
        </p:grpSpPr>
        <p:sp>
          <p:nvSpPr>
            <p:cNvPr id="249" name="Oval 155"/>
            <p:cNvSpPr/>
            <p:nvPr/>
          </p:nvSpPr>
          <p:spPr>
            <a:xfrm rot="4991400">
              <a:off x="7954200" y="3285360"/>
              <a:ext cx="1443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156"/>
            <p:cNvSpPr/>
            <p:nvPr/>
          </p:nvSpPr>
          <p:spPr>
            <a:xfrm rot="4991400">
              <a:off x="7882560" y="3285360"/>
              <a:ext cx="1443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Group 157"/>
          <p:cNvGrpSpPr/>
          <p:nvPr/>
        </p:nvGrpSpPr>
        <p:grpSpPr>
          <a:xfrm>
            <a:off x="8449920" y="2916360"/>
            <a:ext cx="231840" cy="231120"/>
            <a:chOff x="8449920" y="2916360"/>
            <a:chExt cx="231840" cy="231120"/>
          </a:xfrm>
        </p:grpSpPr>
        <p:sp>
          <p:nvSpPr>
            <p:cNvPr id="252" name="Oval 158"/>
            <p:cNvSpPr/>
            <p:nvPr/>
          </p:nvSpPr>
          <p:spPr>
            <a:xfrm rot="4991400">
              <a:off x="8530560" y="2996280"/>
              <a:ext cx="14508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159"/>
            <p:cNvSpPr/>
            <p:nvPr/>
          </p:nvSpPr>
          <p:spPr>
            <a:xfrm rot="4991400">
              <a:off x="8455680" y="2926080"/>
              <a:ext cx="14508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Group 160"/>
          <p:cNvGrpSpPr/>
          <p:nvPr/>
        </p:nvGrpSpPr>
        <p:grpSpPr>
          <a:xfrm>
            <a:off x="8594280" y="3637080"/>
            <a:ext cx="160920" cy="230760"/>
            <a:chOff x="8594280" y="3637080"/>
            <a:chExt cx="160920" cy="230760"/>
          </a:xfrm>
        </p:grpSpPr>
        <p:sp>
          <p:nvSpPr>
            <p:cNvPr id="255" name="Oval 161"/>
            <p:cNvSpPr/>
            <p:nvPr/>
          </p:nvSpPr>
          <p:spPr>
            <a:xfrm rot="4991400">
              <a:off x="8604360" y="3717720"/>
              <a:ext cx="1450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62"/>
            <p:cNvSpPr/>
            <p:nvPr/>
          </p:nvSpPr>
          <p:spPr>
            <a:xfrm rot="4991400">
              <a:off x="8599680" y="3647160"/>
              <a:ext cx="1450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Group 163"/>
          <p:cNvGrpSpPr/>
          <p:nvPr/>
        </p:nvGrpSpPr>
        <p:grpSpPr>
          <a:xfrm>
            <a:off x="8307000" y="3421080"/>
            <a:ext cx="230040" cy="231480"/>
            <a:chOff x="8307000" y="3421080"/>
            <a:chExt cx="230040" cy="231480"/>
          </a:xfrm>
        </p:grpSpPr>
        <p:sp>
          <p:nvSpPr>
            <p:cNvPr id="258" name="Oval 164"/>
            <p:cNvSpPr/>
            <p:nvPr/>
          </p:nvSpPr>
          <p:spPr>
            <a:xfrm rot="4991400">
              <a:off x="8385120" y="3501000"/>
              <a:ext cx="14544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165"/>
            <p:cNvSpPr/>
            <p:nvPr/>
          </p:nvSpPr>
          <p:spPr>
            <a:xfrm rot="4991400">
              <a:off x="8312760" y="3430800"/>
              <a:ext cx="14544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0" name="Group 166"/>
          <p:cNvGrpSpPr/>
          <p:nvPr/>
        </p:nvGrpSpPr>
        <p:grpSpPr>
          <a:xfrm>
            <a:off x="8091000" y="3637080"/>
            <a:ext cx="230400" cy="231480"/>
            <a:chOff x="8091000" y="3637080"/>
            <a:chExt cx="230400" cy="231480"/>
          </a:xfrm>
        </p:grpSpPr>
        <p:sp>
          <p:nvSpPr>
            <p:cNvPr id="261" name="Oval 167"/>
            <p:cNvSpPr/>
            <p:nvPr/>
          </p:nvSpPr>
          <p:spPr>
            <a:xfrm rot="4991400">
              <a:off x="8098920" y="3715200"/>
              <a:ext cx="145080" cy="14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68"/>
            <p:cNvSpPr/>
            <p:nvPr/>
          </p:nvSpPr>
          <p:spPr>
            <a:xfrm rot="4991400">
              <a:off x="8168040" y="3645000"/>
              <a:ext cx="145080" cy="14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3" name="Line 169"/>
          <p:cNvSpPr/>
          <p:nvPr/>
        </p:nvSpPr>
        <p:spPr>
          <a:xfrm>
            <a:off x="1547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170"/>
          <p:cNvSpPr/>
          <p:nvPr/>
        </p:nvSpPr>
        <p:spPr>
          <a:xfrm>
            <a:off x="3492360" y="2421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171"/>
          <p:cNvSpPr/>
          <p:nvPr/>
        </p:nvSpPr>
        <p:spPr>
          <a:xfrm>
            <a:off x="5651640" y="162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5651640" y="321300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173"/>
          <p:cNvSpPr/>
          <p:nvPr/>
        </p:nvSpPr>
        <p:spPr>
          <a:xfrm>
            <a:off x="7451640" y="1557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Line 174"/>
          <p:cNvSpPr/>
          <p:nvPr/>
        </p:nvSpPr>
        <p:spPr>
          <a:xfrm>
            <a:off x="7451640" y="3213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175"/>
          <p:cNvSpPr/>
          <p:nvPr/>
        </p:nvSpPr>
        <p:spPr>
          <a:xfrm>
            <a:off x="179280" y="436572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ё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176"/>
          <p:cNvSpPr/>
          <p:nvPr/>
        </p:nvSpPr>
        <p:spPr>
          <a:xfrm>
            <a:off x="4356000" y="436572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177"/>
          <p:cNvSpPr/>
          <p:nvPr/>
        </p:nvSpPr>
        <p:spPr>
          <a:xfrm>
            <a:off x="2124000" y="4365720"/>
            <a:ext cx="1295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178"/>
          <p:cNvSpPr/>
          <p:nvPr/>
        </p:nvSpPr>
        <p:spPr>
          <a:xfrm>
            <a:off x="6084720" y="4365720"/>
            <a:ext cx="15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розне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о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3" name="Group 179"/>
          <p:cNvGrpSpPr/>
          <p:nvPr/>
        </p:nvGrpSpPr>
        <p:grpSpPr>
          <a:xfrm>
            <a:off x="1332000" y="1700280"/>
            <a:ext cx="1008000" cy="608040"/>
            <a:chOff x="1332000" y="1700280"/>
            <a:chExt cx="1008000" cy="608040"/>
          </a:xfrm>
        </p:grpSpPr>
        <p:sp>
          <p:nvSpPr>
            <p:cNvPr id="274" name="Rectangle 180"/>
            <p:cNvSpPr/>
            <p:nvPr/>
          </p:nvSpPr>
          <p:spPr>
            <a:xfrm>
              <a:off x="1332000" y="1916280"/>
              <a:ext cx="1008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0   С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81"/>
            <p:cNvSpPr/>
            <p:nvPr/>
          </p:nvSpPr>
          <p:spPr>
            <a:xfrm>
              <a:off x="1619280" y="1700280"/>
              <a:ext cx="3603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о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182"/>
          <p:cNvGrpSpPr/>
          <p:nvPr/>
        </p:nvGrpSpPr>
        <p:grpSpPr>
          <a:xfrm>
            <a:off x="3419640" y="1773360"/>
            <a:ext cx="1008000" cy="536400"/>
            <a:chOff x="3419640" y="1773360"/>
            <a:chExt cx="1008000" cy="536400"/>
          </a:xfrm>
        </p:grpSpPr>
        <p:sp>
          <p:nvSpPr>
            <p:cNvPr id="277" name="Rectangle 183"/>
            <p:cNvSpPr/>
            <p:nvPr/>
          </p:nvSpPr>
          <p:spPr>
            <a:xfrm>
              <a:off x="3419640" y="1917720"/>
              <a:ext cx="1008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100  С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84"/>
            <p:cNvSpPr/>
            <p:nvPr/>
          </p:nvSpPr>
          <p:spPr>
            <a:xfrm>
              <a:off x="3851280" y="1773360"/>
              <a:ext cx="36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о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9" name="Group 185"/>
          <p:cNvGrpSpPr/>
          <p:nvPr/>
        </p:nvGrpSpPr>
        <p:grpSpPr>
          <a:xfrm>
            <a:off x="5508720" y="2205000"/>
            <a:ext cx="1008000" cy="463680"/>
            <a:chOff x="5508720" y="2205000"/>
            <a:chExt cx="1008000" cy="463680"/>
          </a:xfrm>
        </p:grpSpPr>
        <p:sp>
          <p:nvSpPr>
            <p:cNvPr id="280" name="Rectangle 186"/>
            <p:cNvSpPr/>
            <p:nvPr/>
          </p:nvSpPr>
          <p:spPr>
            <a:xfrm>
              <a:off x="5508720" y="2276640"/>
              <a:ext cx="1008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2000  С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87"/>
            <p:cNvSpPr/>
            <p:nvPr/>
          </p:nvSpPr>
          <p:spPr>
            <a:xfrm>
              <a:off x="6011640" y="2205000"/>
              <a:ext cx="36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о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2" name="Rectangle 188"/>
          <p:cNvSpPr/>
          <p:nvPr/>
        </p:nvSpPr>
        <p:spPr>
          <a:xfrm>
            <a:off x="250920" y="6308640"/>
            <a:ext cx="86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урокам«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Состав и строение вещества. Молекулы» «Сложные веществ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воритель поляр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средой для протекания реа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ет высокой теплоемк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источником кислорода и водорода (в процессе фотосинтез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воритель газов (кислорода и водо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дает объе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т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 Земли из космос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Содержимое 3" descr="Земля из космоса.bmp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– это исчерпаемый ресурс, но возобновимый, поэтому необходимо бережно относиться к воде и экономно ее использ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30T17:55:0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