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3FE-7F71-4915-BD8B-F44B7281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1CF-DA95-489A-80F5-7C34159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BFD-619E-4EE8-9964-32CEEA2A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EA9-DBB4-4399-AA40-640ECBE1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B54-FFAA-4D75-819C-F850F49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017-F76A-4B33-A203-9D1B3DC1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48A-BE98-49B7-84E0-6A203B6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E47-DEB0-42CD-B6BB-780789D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B7D-9C1E-40F4-A7E1-09E57AA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030-9165-4B73-817D-0BE8608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540-972E-45DC-AA08-AB2DE4E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38D-B71A-449B-8A54-9FE0D39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DE56-1620-44C4-866A-9024330181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Мои работы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042920" y="1300320"/>
            <a:ext cx="72010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аздел 1:</a:t>
            </a: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Наш портрет»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85852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Анкетные данны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мя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- в класс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ата рождения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1 сентября 2011 г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сто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ГБОУ СОШ № 1062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ождения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г. Москв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ость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многонациональн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ражданство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российско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дрес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. Москва, ул. Дубравная,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дом 41 корпус 4</a:t>
            </a:r>
            <a:br>
              <a:rPr sz="40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накомьтесь! Это мы!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824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ни рождения в нашем классе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Сентябрь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– Двукраевы Ольга и Анастас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7 – Жуков Ег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ктябр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5 – Хорина Дар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– Павлов Гле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787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Ноябр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4 – Апакин Серг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9 – Кемаев Серг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9 – Расходчикова К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7 – Журавлева По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Декабр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9 – Калинкин Дании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7 – Дарбинян Светла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4 – Сумин Ив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31 – Суржин Ник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98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Январ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 – Имамвердиев Саб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7 – Короткова Улья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6 – Мельников Ар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0 – Петухов Владисл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Мар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7 – Карачевцев Иго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4 – Ванин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Апр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 – Бойко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 – Пискунов Ник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5543640" y="836640"/>
            <a:ext cx="3352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а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7 – Соболь Пав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30 – Козлов Дмитр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Июл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9 – Кубанцева Александ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7 – Тарасов Дмитр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4 – Матвеева Юлия Алексе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9 – Котова Юл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Авгус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5 – Павликова Я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299880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ежим дня первоклассника: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7.30 – Подъё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7.30-8.00 – Водные процедуры, легкий завт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8.10-8.15 – Приход в школу,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8.20-8.30 – Зарядка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8.30-12.30 – Занятия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0.20 – Завт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2.30-13.15 – Прогул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3.20 – Об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4.00-15.00 – Выполнение заданий (чтение, тренировка, написания букв, сл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4.30 – Полд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5.00-17.00 – Занятия в кружках , секциях, прогу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8.00-19.00 – У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9.00-20.30 – Спокойные игры дома, семейное чтение, беседы с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1.00-22.00 – Подготовка ко сну, ночной с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РТФОЛИ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-в класса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ГБОУ СОШ  «Школа здоровья»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№ 1062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г. Москвы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лассный руководитель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твеева Юлия Алексеевн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7386480" y="115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Нас : 27 человек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Девочек – 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Мальчиков - 1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179280" y="4705200"/>
            <a:ext cx="3456000" cy="1943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3"/>
          <a:stretch/>
        </p:blipFill>
        <p:spPr>
          <a:xfrm>
            <a:off x="6300720" y="4735440"/>
            <a:ext cx="2770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Гордость нашего класс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7" name="Объект 1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5329440" cy="4176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547640" y="55166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рбинян Светлана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Двукраева Оль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893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сходчикова Кс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2951280" cy="475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5243400" y="26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5532480" y="5543640"/>
            <a:ext cx="31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ойкова  Анастаси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убанцева Александр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529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неурочная занятость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1285920"/>
          <a:ext cx="8715600" cy="5516640"/>
        </p:xfrm>
        <a:graphic>
          <a:graphicData uri="http://schemas.openxmlformats.org/drawingml/2006/table">
            <a:tbl>
              <a:tblPr/>
              <a:tblGrid>
                <a:gridCol w="3500640"/>
                <a:gridCol w="1571400"/>
                <a:gridCol w="1071720"/>
                <a:gridCol w="1500120"/>
                <a:gridCol w="1071720"/>
              </a:tblGrid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1-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2-20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реждение дополнительного образования, спортивная секц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 уче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 уче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нцевальная студ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удожественная шко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рсы иностранных язы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ортивные се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руппа продленного д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г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ртивные секции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лавани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йков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утбол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пакин Серг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укопашный бой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анина Анаста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рачевцев Иго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Жуков Ег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удожественная гимнастика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банцева Алекса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2465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Наши спортсмены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3280" y="1699920"/>
            <a:ext cx="414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арбинян Светлана увлекается спортивными танцам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_AntiqueGr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468360" y="102888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ибол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арактерно-значимые черты, выделяемые учащимися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1-в класса: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3212640"/>
            <a:ext cx="892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асположенность к другим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увство юмор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оброжелательность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ность к сопереживани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Раздел 2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Портфолио документов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GPresquire"/>
              </a:rPr>
              <a:t>»</a:t>
            </a:r>
            <a:r>
              <a:rPr b="1" lang="ru-RU" sz="7200" spc="-1" strike="noStrike">
                <a:solidFill>
                  <a:srgbClr val="000000"/>
                </a:solidFill>
                <a:latin typeface="AGPresquire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440240" cy="628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5364000" y="1484280"/>
            <a:ext cx="3600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ервая грамота !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о только начало</a:t>
            </a:r>
            <a:r>
              <a:rPr b="0" lang="ru-RU" sz="4400" spc="-1" strike="noStrike">
                <a:solidFill>
                  <a:srgbClr val="000000"/>
                </a:solidFill>
                <a:latin typeface="Arbat-Bold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аздел 3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ортфолио работ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Presquire"/>
              </a:rPr>
              <a:t>1-в клас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GPresquire"/>
              </a:rPr>
              <a:t>2011-2012 учебный год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268280"/>
          <a:ext cx="8785440" cy="5294520"/>
        </p:xfrm>
        <a:graphic>
          <a:graphicData uri="http://schemas.openxmlformats.org/drawingml/2006/table">
            <a:tbl>
              <a:tblPr/>
              <a:tblGrid>
                <a:gridCol w="623880"/>
                <a:gridCol w="3916440"/>
                <a:gridCol w="1535040"/>
                <a:gridCol w="1341720"/>
                <a:gridCol w="1368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GPresquire"/>
                        </a:rPr>
                        <a:t>Мероприя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GPresquire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GPresquire"/>
                        </a:rPr>
                        <a:t>Кол-во уч-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GPresquire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курс  «Осенний букет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бедитель Котова Ю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курс чтец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бедитель Павлов Глеб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курс на лучшую тетрадь по русскому язы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бедитель Дарбинян 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курс «Юный математи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бедител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вукраева 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банцева 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bat-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Раздел 4: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«Наш досуг! Отдыхаем весело!»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181440" y="18604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395280" y="1170000"/>
            <a:ext cx="828036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 сентября – День знаний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468680" cy="3384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2"/>
          <a:stretch/>
        </p:blipFill>
        <p:spPr>
          <a:xfrm>
            <a:off x="4788000" y="3807000"/>
            <a:ext cx="3684600" cy="2763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3"/>
          <a:stretch/>
        </p:blipFill>
        <p:spPr>
          <a:xfrm>
            <a:off x="6443640" y="3240"/>
            <a:ext cx="2595600" cy="2516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4"/>
          <a:stretch/>
        </p:blipFill>
        <p:spPr>
          <a:xfrm>
            <a:off x="395280" y="3652920"/>
            <a:ext cx="4094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пуск шаров в День города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4" name="Объект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ень летнего именинника!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6" name="Объект 1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38400" cy="5251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406440" y="1386000"/>
            <a:ext cx="39495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нь открытых дверей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9" name="Объект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529080" cy="48974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01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Экскурсия в усадьбу Коломенское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твеева Юлия Алексеевна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755640" y="1341360"/>
            <a:ext cx="77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спеха в деле можно добиться, только если искренне любить то, чем ты занимаешься ежедневно. Только когда любишь, отдаешь больше, чем принимаешь, вселенная отвечает тебе взаимностью.»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азднование Нового год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724560" cy="2792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"/>
          <p:cNvPicPr/>
          <p:nvPr/>
        </p:nvPicPr>
        <p:blipFill>
          <a:blip r:embed="rId3"/>
          <a:stretch/>
        </p:blipFill>
        <p:spPr>
          <a:xfrm>
            <a:off x="320760" y="4892760"/>
            <a:ext cx="1861920" cy="1861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4"/>
          <a:stretch/>
        </p:blipFill>
        <p:spPr>
          <a:xfrm>
            <a:off x="6443640" y="1157400"/>
            <a:ext cx="22845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662040" y="458640"/>
            <a:ext cx="2201760" cy="2935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"/>
          <p:cNvPicPr/>
          <p:nvPr/>
        </p:nvPicPr>
        <p:blipFill>
          <a:blip r:embed="rId2"/>
          <a:stretch/>
        </p:blipFill>
        <p:spPr>
          <a:xfrm>
            <a:off x="3419640" y="203040"/>
            <a:ext cx="2501640" cy="33372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"/>
          <p:cNvPicPr/>
          <p:nvPr/>
        </p:nvPicPr>
        <p:blipFill>
          <a:blip r:embed="rId3"/>
          <a:stretch/>
        </p:blipFill>
        <p:spPr>
          <a:xfrm>
            <a:off x="6443640" y="349200"/>
            <a:ext cx="2284560" cy="30448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"/>
          <p:cNvPicPr/>
          <p:nvPr/>
        </p:nvPicPr>
        <p:blipFill>
          <a:blip r:embed="rId4"/>
          <a:stretch/>
        </p:blipFill>
        <p:spPr>
          <a:xfrm>
            <a:off x="1762200" y="3670200"/>
            <a:ext cx="2376360" cy="31672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"/>
          <p:cNvPicPr/>
          <p:nvPr/>
        </p:nvPicPr>
        <p:blipFill>
          <a:blip r:embed="rId5"/>
          <a:stretch/>
        </p:blipFill>
        <p:spPr>
          <a:xfrm>
            <a:off x="5651640" y="3629160"/>
            <a:ext cx="24066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2"/>
          <a:stretch/>
        </p:blipFill>
        <p:spPr>
          <a:xfrm>
            <a:off x="4788000" y="357192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"/>
          <p:cNvPicPr/>
          <p:nvPr/>
        </p:nvPicPr>
        <p:blipFill>
          <a:blip r:embed="rId3"/>
          <a:stretch/>
        </p:blipFill>
        <p:spPr>
          <a:xfrm>
            <a:off x="971640" y="3416400"/>
            <a:ext cx="2520720" cy="3360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"/>
          <p:cNvPicPr/>
          <p:nvPr/>
        </p:nvPicPr>
        <p:blipFill>
          <a:blip r:embed="rId4"/>
          <a:stretch/>
        </p:blipFill>
        <p:spPr>
          <a:xfrm>
            <a:off x="5614920" y="115920"/>
            <a:ext cx="24145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Новогодние Калядки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971640" y="1216080"/>
            <a:ext cx="7416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есь наш досуг не обходится без помощи наших дорогих родителей! Спасибо вам!!!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329080" cy="4046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1979640" y="5616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едседатель родительского комитета: Расходчикова Марина Николаевна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Раздел 5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Наши любимые питомцы»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97000"/>
            <a:ext cx="824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266760" y="907920"/>
            <a:ext cx="4233960" cy="3179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39640" y="428292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шка Ксюша и золотая рыбка Феликсия у Бойковой Насти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159" name="Рисунок 5" descr=""/>
          <p:cNvPicPr/>
          <p:nvPr/>
        </p:nvPicPr>
        <p:blipFill>
          <a:blip r:embed="rId2"/>
          <a:stretch/>
        </p:blipFill>
        <p:spPr>
          <a:xfrm>
            <a:off x="4748040" y="907920"/>
            <a:ext cx="4226040" cy="31687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5003640" y="472428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оберман Нафта и хозяин Павлов Глеб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11164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755640" y="5300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има Козлов со своим другом</a:t>
            </a: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164" name="Рисунок 5" descr=""/>
          <p:cNvPicPr/>
          <p:nvPr/>
        </p:nvPicPr>
        <p:blipFill>
          <a:blip r:embed="rId2"/>
          <a:stretch/>
        </p:blipFill>
        <p:spPr>
          <a:xfrm>
            <a:off x="5610240" y="4149720"/>
            <a:ext cx="3389400" cy="25416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5610240" y="2421000"/>
            <a:ext cx="338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 это друг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икиты Пискунова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Раздел 6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«Мы все умеем делать сам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воими собственными руками!»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6080" cy="1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9" name="Объект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91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979640" y="59515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«Веселые каштаны» 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бота выполнена Павловым Глебом</a:t>
            </a:r>
            <a:r>
              <a:rPr b="0" lang="ru-RU" sz="1800" spc="-1" strike="noStrike">
                <a:solidFill>
                  <a:srgbClr val="ffffff"/>
                </a:solidFill>
                <a:latin typeface="Arbat-Bol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атвеева Юлия Алексеев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ассный руководитель 1-в класс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БОУ СОШ  «Школа здоровья» № 1062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стаж работы – 10 лет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едагогический стаж – 8 лет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; 1 квалификационная категория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бедитель конкурса «Лучшие педагоги Митино-2010»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282920" cy="3084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111560" cy="30844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4"/>
          <a:stretch/>
        </p:blipFill>
        <p:spPr>
          <a:xfrm>
            <a:off x="6788160" y="3549600"/>
            <a:ext cx="2112840" cy="2819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4284720" y="422100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боты Дарбинян Светланы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78" name="Объект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25760" cy="3313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5300640" y="260280"/>
            <a:ext cx="3402000" cy="4248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2286000" cy="2852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3419640" y="5589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боты Дмитрия Козлова</a:t>
            </a: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83" name="Объект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4" descr=""/>
          <p:cNvPicPr/>
          <p:nvPr/>
        </p:nvPicPr>
        <p:blipFill>
          <a:blip r:embed="rId2"/>
          <a:stretch/>
        </p:blipFill>
        <p:spPr>
          <a:xfrm>
            <a:off x="5580000" y="105264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611280" y="458136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боты Никиты Пискунова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Все хорошее когда-то заканчивается…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Жаль, что надо уходить домой!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6840" y="907920"/>
            <a:ext cx="82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онкурс: «Лучшие педагоги Митино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8144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24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ои увлечения: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лава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зучение исторического центра г. Москвы, происхождение названий улиц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утешествия по России и другим странам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тографи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исова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чинение рассказ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На Кипре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8163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 белокаменных палатах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2556000" y="1177920"/>
            <a:ext cx="4248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05:30Z</dcterms:created>
  <dc:creator>Customer</dc:creator>
  <dc:description/>
  <dc:language>en-US</dc:language>
  <cp:lastModifiedBy>Матвеев</cp:lastModifiedBy>
  <dcterms:modified xsi:type="dcterms:W3CDTF">2012-02-07T08:06:33Z</dcterms:modified>
  <cp:revision>80</cp:revision>
  <dc:subject/>
  <dc:title>Слайд 1</dc:title>
</cp:coreProperties>
</file>