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778-D7FE-44EC-B212-44B85746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141-8DED-406E-B29A-E3EDFE26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43C-2866-4961-A639-C9ED7ED7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6CE-E11F-4885-ABE1-9898A001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917-911C-4CCD-A51B-A7D00DEF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737-9203-4698-840A-4C0D3D6C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C93-5E78-44D3-A124-67E864EF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DCD-63FF-40B4-8B87-8EE81110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556-D968-4405-A534-E59509E8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396-44FC-4C94-AB7A-CF50C23E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6E0-8610-4556-BDBD-6597481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88A-1801-40B9-8C53-C9E3B15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9416-B9C4-425F-BD84-2A673B92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344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чинение по картин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16360" y="1341360"/>
            <a:ext cx="2705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3933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ервый снег» А. Пла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8720" y="4941720"/>
            <a:ext cx="577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: Третьякова И.И.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ШИ «Гимназия-интернат №34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Нижнека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16000" y="33300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могут слова и словосочетания со значением мес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0720" y="1844640"/>
            <a:ext cx="4643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слева от … виднее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6600cc"/>
                </a:solidFill>
                <a:latin typeface="Arial"/>
              </a:rPr>
              <a:t>на переднем плане художник пишет …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- прямо перед нами изображены …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вдалеке  виднеется…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4586400" cy="6669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3280" y="1125360"/>
            <a:ext cx="450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вет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тёп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озова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лил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бледно-голуб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еровато-розовый                             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0" r="0" b="4861"/>
          <a:stretch/>
        </p:blipFill>
        <p:spPr>
          <a:xfrm>
            <a:off x="0" y="0"/>
            <a:ext cx="4586400" cy="6669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Тона картин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ff"/>
                </a:solidFill>
                <a:latin typeface="Arial"/>
              </a:rPr>
              <a:t>План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Arial"/>
              </a:rPr>
              <a:t>Первый снег глазами худож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Arial"/>
              </a:rPr>
              <a:t>2. Первый день зи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Arial"/>
              </a:rPr>
              <a:t>3. Радость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Arial"/>
              </a:rPr>
              <a:t>4. Цвет и настроение карт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Arial"/>
              </a:rPr>
              <a:t>5. Моё отношение к карти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197000"/>
            <a:ext cx="3600360" cy="43164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тупитель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133720"/>
            <a:ext cx="2808360" cy="358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нов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4292640"/>
            <a:ext cx="3600360" cy="3603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лючитель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6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34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98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19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Arial"/>
              </a:rPr>
              <a:t>Закончить свой рассказ по этой картине мож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У меня возникает ощущение радости, счастья, праздника, когда я смотрю на эту карти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Я благодарен художнику, что еще раз могу пережить чувство радости при виде первого сне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Трудно оставаться равнодушным, когда видишь первый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р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Худож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Изобраз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46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произведение живописи, пол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автор картины, живописец, Аркадий Пла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показал, запечатлел, пере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Помните!</a:t>
            </a: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Главное - передать своё отношение к картине, найти свои слова: яркие, эмоциональные, помогающие зрительно представить то, что изобразил худо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4960" y="40428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лан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1. Первый снег глазами художника.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2.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Первый день зимы.</a:t>
            </a:r>
            <a:br>
              <a:rPr sz="2000"/>
            </a:b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3. Радость детей.</a:t>
            </a:r>
            <a:br>
              <a:rPr sz="2000"/>
            </a:b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4. Цвет и настроение картины.</a:t>
            </a:r>
            <a:br>
              <a:rPr sz="2000"/>
            </a:b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5. Моё отношение к картин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66920" y="1773000"/>
            <a:ext cx="482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Снег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лый, пушистый, падает мохнатыми хлопьями, надел меховые шапки на крыши домов,  укутал всю землю белоснежным ковром, медленно кружится в воздухе, как стая белых мошек, чист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Девочк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бело-розовом платьице; тапочки, отороченные тёмным мехом; без пальто выбежала на крыльцо; с удивлением наблюдает; восхищённо смотрит; заворожённо смотрит на снег; лёгкий пла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Мальчик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пальто с меховым воротником; на голове- шапка-ушанка; одет по-зимнему; мечтает покататься на санках; давно наблюд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Берёз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арая; могучая; с белым стволом; ветки у берёзы гибкие, длинные, раскидист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Настроение детей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дость, восторг, восхищение, интер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Тона картин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ветлые, тёплые, розоватые, лиловые, бледно-голубые, серовато-розовый ф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66680" y="404640"/>
            <a:ext cx="4576680" cy="66963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92360" y="256536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ec6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Аркадий Александрович Плас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1893-197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79520" y="1484280"/>
            <a:ext cx="4102200" cy="525780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-458640"/>
            <a:ext cx="4948200" cy="756108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05520" y="764640"/>
            <a:ext cx="40384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м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дев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тона ка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настроение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62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не</a:t>
            </a:r>
            <a:r>
              <a:rPr b="1" lang="ru-RU" sz="2800" spc="-1" strike="noStrike" u="sng">
                <a:solidFill>
                  <a:srgbClr val="cc00ff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ый, чистый, пуш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ый, падает мохнатыми хлоп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 меховые ш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 (на)крыш_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д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утал всю землю бе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жным ков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дл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круж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ся   (в)воздухе, как стая  белых мош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69040" y="1700280"/>
            <a:ext cx="2874960" cy="439272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553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ел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овом плат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ц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ч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, отороч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е тём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х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п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ьто выб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а на крыльц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д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ением 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ённо смотри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но смотрит на сн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 пл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7940"/>
          <a:stretch/>
        </p:blipFill>
        <p:spPr>
          <a:xfrm>
            <a:off x="6553080" y="0"/>
            <a:ext cx="2590920" cy="3645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-5414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Девоч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408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в)п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ьто   (с)м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ов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тнико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голове – шапк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шанка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т п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имнем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чтает поката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я на санк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вно наблюд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7940"/>
          <a:stretch/>
        </p:blipFill>
        <p:spPr>
          <a:xfrm>
            <a:off x="6372360" y="-458640"/>
            <a:ext cx="3049560" cy="429084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-612720" y="112500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Мальчик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1640" y="26028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Передний пла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рыльцо, ещё не полностью засыпанное снегом; мальчик и девочка (сестра и бра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скидистая берё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дний пла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еревенская улица, лошадь, человек, крыши домов покрыты сне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р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гуча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белым ств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ки у б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ёзы ги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, дли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ые, р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идист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7940"/>
          <a:stretch/>
        </p:blipFill>
        <p:spPr>
          <a:xfrm>
            <a:off x="5837400" y="0"/>
            <a:ext cx="3306600" cy="4653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07640" y="1483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Б</a:t>
            </a:r>
            <a:r>
              <a:rPr b="1" lang="en-US" sz="4400" spc="-1" strike="noStrike" u="sng">
                <a:solidFill>
                  <a:srgbClr val="cc00ff"/>
                </a:solidFill>
                <a:uFillTx/>
                <a:latin typeface="Arial"/>
              </a:rPr>
              <a:t>  </a:t>
            </a: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рё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Настроение дете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36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тор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спок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хи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0" t="0" r="0" b="4861"/>
          <a:stretch/>
        </p:blipFill>
        <p:spPr>
          <a:xfrm>
            <a:off x="0" y="0"/>
            <a:ext cx="4586400" cy="6669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7:48:28Z</dcterms:created>
  <dc:creator>Татьяна</dc:creator>
  <dc:description/>
  <dc:language>en-US</dc:language>
  <cp:lastModifiedBy>ТРЕТЬЯКОFFКА</cp:lastModifiedBy>
  <dcterms:modified xsi:type="dcterms:W3CDTF">2012-01-28T18:51:22Z</dcterms:modified>
  <cp:revision>6</cp:revision>
  <dc:subject/>
  <dc:title>Слайд 1</dc:title>
</cp:coreProperties>
</file>