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0B2-9AE9-4156-A0A9-E44A1AC0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4C8-CA9F-4A51-B7CF-290261AB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C75-32E3-4A09-915B-3BC27190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9E8-5543-44B1-928E-6416869A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8406-BA2C-49B5-94C2-FE7B60F1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E9DE-88F9-45FB-AD4A-66A3C8D7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2B5F-B466-46E4-9176-CCB139E8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DD50-9389-4481-AA9C-D9ADD5B6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B033-DA28-4005-84DD-571D2331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B5BB-D65D-45B3-BA67-7E7FE379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3CDD-1551-4EB8-8DFC-BF1EAFA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576-13F1-40CB-8601-7ECCBCF2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72F6-A35C-4556-BE2A-3997D14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A948-BE74-4C74-9823-7EB746E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10D8-2120-42DC-8B28-06D7FDC4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ED6-F20D-4DD6-A862-A95152D7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517A-48B6-4F55-98AB-9E6F3287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F2A-5724-4030-B127-A1AF8A2F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D99-4914-4337-9652-7A006AB7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3B1-AB22-44CA-BB75-8CE41889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CAA-250D-4B0B-B285-2A63FB66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CE4-4C34-4AF2-8A38-883490BC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4AF-CAAB-4CE9-B19A-834F7CF0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E40-0809-4974-947D-59DE972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C0E-3D8A-4F3B-9FFE-A54B2E419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A016-5810-4C22-826B-85D12F8B1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692280"/>
            <a:ext cx="896472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>
                    <a:alpha val="52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ставка для но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>
                  <a:alpha val="52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>
                    <a:alpha val="52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>
                    <a:alpha val="52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 компьютерные ст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>
                  <a:alpha val="52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Экономическое экологическое обоснов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Экологическое и экономическое обоснова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аша подставка изготовлена из ДСП, потому что этот материал легко поддается обработке. В изготовлении использовано минимум материала. Наша подставка изготовлена из старых полок. Подставка проста в изготовлении и не требует особого оборудова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СП - материал, производимый из стружек дерева, которые смешиваю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 смолой и клеем, а после этого спрессовыва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СП не взаимодействуют с водой, то есть не коробятся, не так быстро и легко воспламеняются, по сравнение с древесиной, а также хорошо защищают от холода и не выпускают тепло. Правда у них есть и незначительные отрицательные свойства. ДСП, по сравнению с древесиной, менее прочны, а также несколько тяжелее. Основываясь на вышесказанном, можно утверждать, что данный материал не зря так популярен. Это можно объяснить как невысокой стоимостью, так и хорошим качеств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траты на материалы небольш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оимость проекта 2500ру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640" y="1773360"/>
            <a:ext cx="813780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Над проектом работали</a:t>
            </a:r>
            <a:br>
              <a:rPr sz="4800"/>
            </a:b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ученики 9 класса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40000" y="3141720"/>
            <a:ext cx="63468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лабуков Станисла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окорин Ег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Хохлов Анатол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Шатов Ант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18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блема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оборудовать компьютерные столы  подставкой для н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ать конструкцию и изготовить подставки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бор информации об имеющихся в продаже подставок для н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ать модель подстав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обрать материалы и инструменты для изготовления подстав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готовить партию подстав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следование информац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1944720" cy="138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916360" y="1125360"/>
            <a:ext cx="2923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ставка саморегу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ирующаяся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рогостоящая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6920" y="2565360"/>
            <a:ext cx="1424160" cy="1117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263700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ставка регулирующаяся,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стая в изготовлении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1728720" cy="135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203640" y="4076640"/>
            <a:ext cx="37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ставка автоматическая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добная в эксплуатации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00000" y="5300640"/>
            <a:ext cx="1871640" cy="12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132000" y="537372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ставка простая,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очень удобная в использован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02040" y="2320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3760" y="66506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56000" y="189000"/>
            <a:ext cx="36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Свои иде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60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Требования к подставк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ложная в изготовле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дорогая стои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наносит вред окружающей сре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етание со сто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добство в эксплуа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териалы недорогие, хорошо обрабатываем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ыбор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оптимальног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вариан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917640"/>
            <a:ext cx="691344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Эскиз подстав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28164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рядок выполнения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Подготовка инструментов и материалов для работы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Пиление по размерам деталей подставк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Обработка спил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Крепление деталей подставки подвижно, с помощью рояльных петел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Закрепление крючка на основной детал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Установка петель на дополнительные детали.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1:59:28Z</dcterms:created>
  <dc:creator>Хохлов</dc:creator>
  <dc:description/>
  <dc:language>en-US</dc:language>
  <cp:lastModifiedBy>user</cp:lastModifiedBy>
  <dcterms:modified xsi:type="dcterms:W3CDTF">2009-05-22T04:05:19Z</dcterms:modified>
  <cp:revision>8</cp:revision>
  <dc:subject/>
  <dc:title>Слайд 1</dc:title>
</cp:coreProperties>
</file>