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C96-E9CF-4943-8EBE-8F0B9388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382-7321-4664-B00B-FB56BA64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2B5-8CB4-4930-A17A-DD41C73D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1A7-7BA1-4DD9-91F8-7020E645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6057-B5FC-4F78-9F48-7A9AFBC5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D8A-833D-4AC0-BC22-DF8404D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F08-FEF2-4D28-B6C5-8306636D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7292-7B4E-43AC-817C-DC7E626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D96-F703-4198-AC78-5479BCE9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0DF8-C3D0-424F-9424-6B47E235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7B42-3001-4403-86F0-858D9C37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3FD-2693-4091-AD1F-2FD26F67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19B3-4EA2-4F26-9FC7-39F82417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B66A-AF85-4F92-9B48-1B164F7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A8A1-3517-4F38-9D1F-A7B2F8E3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945B-70AD-41F9-8933-18E8C73B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C5C3-221C-4F44-9496-FE8434CD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2FAF-E37B-4430-9B8C-193381B1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2A33-590C-4A0F-83A2-21719F52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A417-4373-4FB4-9D07-1EA6B6A8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104B-CFB3-4968-8651-2F294ECE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FE11-0C60-4A48-A39A-37D2AC79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0EB-6E27-468B-AF05-24EBFB21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9575-5D68-4505-8103-C5EEB64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5B63-B98F-4C33-95A5-C377FDA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9133-5CB0-4EFC-A9DF-DDFC5A3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A4BF-424A-4266-8713-178AF65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8821-16EE-4444-89D7-734B0EEA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CF8F-453E-4F3B-AC56-62F96DC6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CA52-41DA-452C-9D81-E62C8CCC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A61-8845-4D1D-9B3C-3143EE22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404-4B10-4952-89A4-A4A0394B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647-A18F-463B-85D5-A894EA34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209-5F49-452E-BC21-A9A7F059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A9C-75F9-4E1F-B291-7310162A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F8E-6054-421F-A536-775949C5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6628-4BAF-4B86-82D9-508B62BE6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D1E3-25BD-4E45-B40A-B319135F2C6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06EA-013A-4920-99BC-2BDBE86239D2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0"/>
          <p:cNvSpPr/>
          <p:nvPr/>
        </p:nvSpPr>
        <p:spPr>
          <a:xfrm>
            <a:off x="2843280" y="260280"/>
            <a:ext cx="889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Palatino Linotype"/>
              </a:rPr>
              <a:t>     </a:t>
            </a:r>
            <a:r>
              <a:rPr b="1" lang="ru-RU" sz="6600" spc="-1" strike="noStrike">
                <a:solidFill>
                  <a:srgbClr val="ffcc66"/>
                </a:solidFill>
                <a:latin typeface="Palatino Linotype"/>
              </a:rPr>
              <a:t>Техника безопасн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1619280" y="306864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DiagramTTCrystals"/>
              </a:rPr>
              <a:t>на уроках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6" descr="L41"/>
          <p:cNvPicPr/>
          <p:nvPr/>
        </p:nvPicPr>
        <p:blipFill>
          <a:blip r:embed="rId1"/>
          <a:stretch/>
        </p:blipFill>
        <p:spPr>
          <a:xfrm>
            <a:off x="755640" y="4292640"/>
            <a:ext cx="2376360" cy="2236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7" descr="L32"/>
          <p:cNvPicPr/>
          <p:nvPr/>
        </p:nvPicPr>
        <p:blipFill>
          <a:blip r:embed="rId2"/>
          <a:stretch/>
        </p:blipFill>
        <p:spPr>
          <a:xfrm>
            <a:off x="324000" y="260280"/>
            <a:ext cx="2187360" cy="2187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L47"/>
          <p:cNvPicPr/>
          <p:nvPr/>
        </p:nvPicPr>
        <p:blipFill>
          <a:blip r:embed="rId3"/>
          <a:stretch/>
        </p:blipFill>
        <p:spPr>
          <a:xfrm>
            <a:off x="5867280" y="4292640"/>
            <a:ext cx="2376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L01p2p03"/>
          <p:cNvPicPr/>
          <p:nvPr/>
        </p:nvPicPr>
        <p:blipFill>
          <a:blip r:embed="rId1"/>
          <a:stretch/>
        </p:blipFill>
        <p:spPr>
          <a:xfrm>
            <a:off x="468360" y="2349360"/>
            <a:ext cx="4464000" cy="37436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418" name="Rectangle 7"/>
          <p:cNvSpPr/>
          <p:nvPr/>
        </p:nvSpPr>
        <p:spPr>
          <a:xfrm>
            <a:off x="539640" y="6919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ринимайте пищу во время хим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кспериментов, а после их завер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щательно мойте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4751280" y="364500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икогда не пробуйте химические вещества    на 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Правила нагре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L01p2p06"/>
          <p:cNvPicPr/>
          <p:nvPr/>
        </p:nvPicPr>
        <p:blipFill>
          <a:blip r:embed="rId1"/>
          <a:stretch/>
        </p:blipFill>
        <p:spPr>
          <a:xfrm>
            <a:off x="250920" y="1773360"/>
            <a:ext cx="3854520" cy="363384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422" name="Rectangle 7"/>
          <p:cNvSpPr/>
          <p:nvPr/>
        </p:nvSpPr>
        <p:spPr>
          <a:xfrm>
            <a:off x="4211640" y="1263600"/>
            <a:ext cx="46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целях безопасност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ирку заполняют    жидкостью только на 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закрепляют в держат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Держите пробирку вых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от себя, а также в сторону,       противоположную от любого   человека, находящего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облиз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284720" y="508464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нагревании слегка потряхивайте содержимое проби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L01p2p09"/>
          <p:cNvPicPr/>
          <p:nvPr/>
        </p:nvPicPr>
        <p:blipFill>
          <a:blip r:embed="rId1"/>
          <a:stretch/>
        </p:blipFill>
        <p:spPr>
          <a:xfrm>
            <a:off x="5076720" y="1773360"/>
            <a:ext cx="3397320" cy="31003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425" name="Picture 7" descr="L01p2p04"/>
          <p:cNvPicPr/>
          <p:nvPr/>
        </p:nvPicPr>
        <p:blipFill>
          <a:blip r:embed="rId2"/>
          <a:stretch/>
        </p:blipFill>
        <p:spPr>
          <a:xfrm>
            <a:off x="395280" y="1557360"/>
            <a:ext cx="3338640" cy="28814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426" name="Rectangle 10"/>
          <p:cNvSpPr/>
          <p:nvPr/>
        </p:nvSpPr>
        <p:spPr>
          <a:xfrm>
            <a:off x="468360" y="34560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мните, что нюхать любое вещ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ужно очень осторож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0" y="479592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Не склоняйтесь над сосу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с кипящей жидкостью</a:t>
            </a: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4427640" y="5082480"/>
            <a:ext cx="47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ять запах вещества нужно  слегка подгоняя ладонью пары вещества в свою сторону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L03p08p01"/>
          <p:cNvPicPr/>
          <p:nvPr/>
        </p:nvPicPr>
        <p:blipFill>
          <a:blip r:embed="rId1"/>
          <a:stretch/>
        </p:blipFill>
        <p:spPr>
          <a:xfrm>
            <a:off x="1619280" y="620640"/>
            <a:ext cx="5954760" cy="45259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430" name="Rectangle 7"/>
          <p:cNvSpPr/>
          <p:nvPr/>
        </p:nvSpPr>
        <p:spPr>
          <a:xfrm>
            <a:off x="824040" y="5588640"/>
            <a:ext cx="74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Никогда не добавляйте воду в кислоту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-396720" y="259920"/>
            <a:ext cx="98280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Юные химики, пом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9933"/>
                </a:solidFill>
                <a:latin typeface="Times New Roman"/>
              </a:rPr>
              <a:t>кислоту добавляют в воду, а не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4" descr="L3p08p00"/>
          <p:cNvPicPr/>
          <p:nvPr/>
        </p:nvPicPr>
        <p:blipFill>
          <a:blip r:embed="rId1"/>
          <a:stretch/>
        </p:blipFill>
        <p:spPr>
          <a:xfrm>
            <a:off x="1979640" y="2131920"/>
            <a:ext cx="5327640" cy="36752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Обращайте особое внимание на предупредительны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L01p2p12"/>
          <p:cNvPicPr/>
          <p:nvPr/>
        </p:nvPicPr>
        <p:blipFill>
          <a:blip r:embed="rId1"/>
          <a:stretch/>
        </p:blipFill>
        <p:spPr>
          <a:xfrm>
            <a:off x="1258920" y="1700280"/>
            <a:ext cx="6618240" cy="4638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8"/>
          <p:cNvSpPr/>
          <p:nvPr/>
        </p:nvSpPr>
        <p:spPr>
          <a:xfrm>
            <a:off x="179280" y="340200"/>
            <a:ext cx="896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Правила выживания в химической лабора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 руках у вас жидкое - не разлейте, порошкообразное - не рассыпьте, газообразное - не выпустите наруж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ключили - выключ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ткрыли - закрой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зобрали - собер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ы не можете собрать - позовите на помощь умель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разбирали - не вздумайте соби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ы одолжили что-нибудь - вер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льзуетесь чем-либо, держите в чистоте и поря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ы привели что-либо в беспорядок - восстановите статус к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сдвинули что-нибудь - верните на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ы хотите воспользоваться чем-либо, принадлежащим другому, попросите разреш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Если вы не знаете, как это действует, ради бога, не трогайт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ас это не касается - не вмешивайте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знаете, как это делается - сразу спрос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ы не можете что-либо понять - почешите в затыл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горите на работе, постарайтесь, чтобы у вас ничего не загоре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Если не усвоили этих правил, не входите в лаборатор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авила выживания = здравый смысл + Т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L01p2p07"/>
          <p:cNvPicPr/>
          <p:nvPr/>
        </p:nvPicPr>
        <p:blipFill>
          <a:blip r:embed="rId1"/>
          <a:stretch/>
        </p:blipFill>
        <p:spPr>
          <a:xfrm>
            <a:off x="395280" y="836640"/>
            <a:ext cx="3960720" cy="44974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397" name="Text Box 7"/>
          <p:cNvSpPr/>
          <p:nvPr/>
        </p:nvSpPr>
        <p:spPr>
          <a:xfrm>
            <a:off x="4716360" y="1341360"/>
            <a:ext cx="41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Прежде чем приступить к выполнению эксперимента, внимательно изучи инструк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-397080" y="549000"/>
            <a:ext cx="5219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Эксперименты нужно выполнять в  строгом          соответствии   с  инструкция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спользуя точно    указ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оличества веществ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L01p2p00"/>
          <p:cNvPicPr/>
          <p:nvPr/>
        </p:nvPicPr>
        <p:blipFill>
          <a:blip r:embed="rId1"/>
          <a:stretch/>
        </p:blipFill>
        <p:spPr>
          <a:xfrm>
            <a:off x="4572000" y="1413000"/>
            <a:ext cx="4253040" cy="42480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400" name="Text Box 11"/>
          <p:cNvSpPr/>
          <p:nvPr/>
        </p:nvSpPr>
        <p:spPr>
          <a:xfrm>
            <a:off x="539640" y="3933720"/>
            <a:ext cx="396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дует помнить, что твердого вещества требуется примерно                 1/3 чайной ложки,                         а жидкости- 1-2 м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L01p2p01"/>
          <p:cNvPicPr/>
          <p:nvPr/>
        </p:nvPicPr>
        <p:blipFill>
          <a:blip r:embed="rId1"/>
          <a:stretch/>
        </p:blipFill>
        <p:spPr>
          <a:xfrm>
            <a:off x="250920" y="549360"/>
            <a:ext cx="4680000" cy="424800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402" name="Rectangle 7"/>
          <p:cNvSpPr/>
          <p:nvPr/>
        </p:nvSpPr>
        <p:spPr>
          <a:xfrm>
            <a:off x="5076720" y="62172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мните, что люб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ещество может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пасным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бращ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 ним не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971640" y="522936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з указания учителя не смешивайте неизвестные вам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8" descr="L01p2p08"/>
          <p:cNvPicPr/>
          <p:nvPr/>
        </p:nvPicPr>
        <p:blipFill>
          <a:blip r:embed="rId1"/>
          <a:stretch/>
        </p:blipFill>
        <p:spPr>
          <a:xfrm>
            <a:off x="2268360" y="692280"/>
            <a:ext cx="4032360" cy="34891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405" name="Rectangle 10"/>
          <p:cNvSpPr/>
          <p:nvPr/>
        </p:nvSpPr>
        <p:spPr>
          <a:xfrm>
            <a:off x="1187280" y="483048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льзоваться реактивами можно только из тех склян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а которых есть на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L01p2p10"/>
          <p:cNvPicPr/>
          <p:nvPr/>
        </p:nvPicPr>
        <p:blipFill>
          <a:blip r:embed="rId1"/>
          <a:stretch/>
        </p:blipFill>
        <p:spPr>
          <a:xfrm>
            <a:off x="1332000" y="333360"/>
            <a:ext cx="6033960" cy="43099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407" name="Rectangle 7"/>
          <p:cNvSpPr/>
          <p:nvPr/>
        </p:nvSpPr>
        <p:spPr>
          <a:xfrm>
            <a:off x="1042920" y="4869000"/>
            <a:ext cx="69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спользуйте только чистую лабораторную посу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 тщательно промывайте 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сле выполнения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L01p2p11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33847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409" name="Rectangle 7"/>
          <p:cNvSpPr/>
          <p:nvPr/>
        </p:nvSpPr>
        <p:spPr>
          <a:xfrm>
            <a:off x="611280" y="475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Жидкость из сосуда берите пипеткой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Новое изображение"/>
          <p:cNvPicPr/>
          <p:nvPr/>
        </p:nvPicPr>
        <p:blipFill>
          <a:blip r:embed="rId2"/>
          <a:stretch/>
        </p:blipFill>
        <p:spPr>
          <a:xfrm>
            <a:off x="4932360" y="3141720"/>
            <a:ext cx="40384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L01p2p05"/>
          <p:cNvPicPr/>
          <p:nvPr/>
        </p:nvPicPr>
        <p:blipFill>
          <a:blip r:embed="rId1"/>
          <a:stretch/>
        </p:blipFill>
        <p:spPr>
          <a:xfrm>
            <a:off x="324000" y="1484280"/>
            <a:ext cx="4105080" cy="37800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412" name="Rectangle 7"/>
          <p:cNvSpPr/>
          <p:nvPr/>
        </p:nvSpPr>
        <p:spPr>
          <a:xfrm>
            <a:off x="4246560" y="3000240"/>
            <a:ext cx="489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сле эксперимента                                       не выливайте в раков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статки реактивов – они должны быть нейтрализованы и разбавлены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4932360" y="3429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4500720" y="40464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татки веществ           не высыпайте  и                не вливайте обратно   в сосуд с чистыми вещества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L01p2p02"/>
          <p:cNvPicPr/>
          <p:nvPr/>
        </p:nvPicPr>
        <p:blipFill>
          <a:blip r:embed="rId1"/>
          <a:stretch/>
        </p:blipFill>
        <p:spPr>
          <a:xfrm>
            <a:off x="1692360" y="549360"/>
            <a:ext cx="5832360" cy="43099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416" name="Rectangle 7"/>
          <p:cNvSpPr/>
          <p:nvPr/>
        </p:nvSpPr>
        <p:spPr>
          <a:xfrm>
            <a:off x="539640" y="53226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ещества не должны храниться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 пищевыми проду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5:01:34Z</dcterms:created>
  <dc:creator>Navigator</dc:creator>
  <dc:description/>
  <dc:language>en-US</dc:language>
  <cp:lastModifiedBy>Лёля</cp:lastModifiedBy>
  <dcterms:modified xsi:type="dcterms:W3CDTF">2009-12-08T07:09:56Z</dcterms:modified>
  <cp:revision>73</cp:revision>
  <dc:subject/>
  <dc:title>Слайд 1</dc:title>
</cp:coreProperties>
</file>