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1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A8F4-DB98-4709-9C4F-8279FC7A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43DD-E9DF-42DA-8D83-3C2567D1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6820-C344-4861-A715-56B5A438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EB2-156B-4112-BD94-A8704388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01AC7-B746-4B38-AF15-49D08C7D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31ABB-15F4-432E-A1D3-1023B6BE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9920E-3FB6-4E7D-ACA1-102A16F3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C9285-0B59-4ABA-B063-EE055AF3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3B95F-1A45-4AA4-BD8B-0A5098FA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37F1D-A292-4126-A18B-FDB11EE9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9BE0A-2FA7-4FF4-BE8A-47D40BAC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A697-BC80-40FD-BBDE-1CA12E37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1EA3E-C784-4A3D-B91E-09CB180A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0CA5A-AAFC-4BE9-B608-6BB2E6D0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21E54-0C9D-4ABB-9640-97095D61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E5587-7165-4604-8A04-9ED1BCEC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97D75-8AF1-44AC-8AAA-5B30218F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4D4-A7E6-46B9-8ED7-550E6B67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B77-759D-45B5-ADAE-311ECBC2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34C-CB19-4988-A16E-D2A56FEE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754-F189-4E44-843D-3528CF64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3FC6-E08D-4F2A-AE3B-B5BE8CD6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3EBF-A0CD-4E1F-AE08-4BCC1D16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8BF-7089-4229-BC6D-3E295CAC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E22C-9810-4778-A413-DFE0454740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B11B-B9C1-4A10-9B9B-13E6D9BCFF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4_&#1075;&#1086;&#1076;" TargetMode="External"/><Relationship Id="rId2" Type="http://schemas.openxmlformats.org/officeDocument/2006/relationships/hyperlink" Target="http://ru.wikipedia.org/wiki/Rolling_Stone" TargetMode="External"/><Relationship Id="rId3" Type="http://schemas.openxmlformats.org/officeDocument/2006/relationships/hyperlink" Target="http://ru.wikipedia.org/wiki/Rolling_Stone" TargetMode="External"/><Relationship Id="rId4" Type="http://schemas.openxmlformats.org/officeDocument/2006/relationships/hyperlink" Target="http://ru.wikipedia.org/wiki/Rolling_Stone" TargetMode="Externa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The  Beatles</a:t>
            </a:r>
            <a:r>
              <a:rPr b="0" lang="ru-RU" sz="8800" spc="-1" strike="noStrike">
                <a:solidFill>
                  <a:srgbClr val="b3edff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88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320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легендарная четверк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5770440" cy="6193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27280" y="1600200"/>
            <a:ext cx="2459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org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arri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4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n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348000" y="765000"/>
            <a:ext cx="4896000" cy="5543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648320" y="3924360"/>
            <a:ext cx="4038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Is the information in these sentences TRUE or FALSE?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0643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atles Story Museum is situated in Liverpoo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atles Story Museum was founded by Paul McCart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useum was founded in 198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buy souvenirs, cups with The Beatles’ portraits and cassettes 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listen to their songs at the muse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532720" y="4653000"/>
            <a:ext cx="287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532720" y="3716280"/>
            <a:ext cx="287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532720" y="1989000"/>
            <a:ext cx="287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532720" y="2997360"/>
            <a:ext cx="287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532720" y="5589720"/>
            <a:ext cx="287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What do you know about The Beatles?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 you put these first names and surnames together to make the names of the four Beatl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      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ngo       Harr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rge    McCart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       Lenn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ohn          Lennon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Ringo        St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eorge      Harris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aul          McCartne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. Which city in England did the Beatles come from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) Londo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) Mancheste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) Liverpool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03640" y="4653000"/>
            <a:ext cx="505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. What was the first name of the group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 Johnny and Moondogs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) The Quarry Men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) The Beatles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) The Silver Beatle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516720" y="3429000"/>
            <a:ext cx="504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. What was the Beatles’ first really big hit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 “Please Please Me”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) “Yesterday”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) “ Love Me Do”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84720" y="4437000"/>
            <a:ext cx="5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5. In which year did they have their first hit?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a) 1970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962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94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003640" y="3860640"/>
            <a:ext cx="5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7272360" cy="626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. When did the group split up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a) 1970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9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076720" y="2852640"/>
            <a:ext cx="5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Достижения группы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чинение «The Beatles» «A Day In The Life» признано лучшей британской песней всех времё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2400" spc="-1" strike="noStrike" u="sng">
                <a:solidFill>
                  <a:srgbClr val="ffcfab"/>
                </a:solidFill>
                <a:uFillTx/>
                <a:latin typeface="Arial"/>
                <a:hlinkClick r:id="rId1"/>
              </a:rPr>
              <a:t>2004 год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журнал </a:t>
            </a:r>
            <a:r>
              <a:rPr b="0" lang="ru-RU" sz="2400" spc="-1" strike="noStrike" u="sng">
                <a:solidFill>
                  <a:srgbClr val="ffcfab"/>
                </a:solidFill>
                <a:uFillTx/>
                <a:latin typeface="Arial"/>
                <a:hlinkClick r:id="rId2"/>
              </a:rPr>
              <a:t>Rolling</a:t>
            </a:r>
            <a:r>
              <a:rPr b="0" lang="ru-RU" sz="2400" spc="-1" strike="noStrike" u="sng">
                <a:solidFill>
                  <a:srgbClr val="ffcfab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2400" spc="-1" strike="noStrike" u="sng">
                <a:solidFill>
                  <a:srgbClr val="ffcfab"/>
                </a:solidFill>
                <a:uFillTx/>
                <a:latin typeface="Arial"/>
                <a:hlinkClick r:id="rId4"/>
              </a:rPr>
              <a:t>Ston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публиковал 500 лучших песен всех времён и народов. В списке больше всего песен The Beatles — 23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упнейшая американская музыкальная телекомпания VH-1 опубликовала рейтинг 100 лучших альбомов в истории рок-н-ролла. На первом месте оказался альбом «Revolver» (1966) легендарной группы «The Beatles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Yesterday (1965) в XX веке она исполнялась свыше семи миллионов раз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64 году сразу три песни «The Beatles» попали в первую десятку американского хит-пара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левизионное шоу Эда Салливана с «The Beatles» (1964) собрало 73 000 000 зрител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The group disbanded in 1970, after the release of their final alb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Let It 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. On Dec. 8, 1980, John Lennon was fatally shot in New York City. In 1991, Paul McCartney's classical composition Liverpool Oratorio was performed to some acclaim in Britain and the United St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59752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          </a:t>
            </a: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YESTERDA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TERDAY ALL MY TROUBLES SEEMED SO FAR A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IT LOOKS AS THROUGH THEY’RE HERE TO ST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, I BELIEVE IN YESTER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DDENLY, I’M NOT HALF THE MAN I USED TO B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’S SHADOW HANGING OVER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, YESTERDAY, CAME SUDDEN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 SHE HAD TO GO I DON’T KN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 WOULDN’T S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SAID SOMETHING WR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I LONG FOR YESTER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TERDAY LOVE WAS SUCH AN EASY GAME TO 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I NEED A PLACE TO HIDE AWA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, I BELIVE IN YESTER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2519280" cy="3179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2665440" cy="3898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692360" y="3213000"/>
            <a:ext cx="2879640" cy="29638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5867280" y="3141720"/>
            <a:ext cx="266544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820800" y="676440"/>
            <a:ext cx="7559640" cy="52005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2" dur="2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4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43280" y="2205000"/>
            <a:ext cx="4103640" cy="237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 Beat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43280" y="189000"/>
            <a:ext cx="2016000" cy="1057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auti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333360"/>
            <a:ext cx="2016360" cy="1057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1268280"/>
            <a:ext cx="2016000" cy="1057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781360"/>
            <a:ext cx="2016000" cy="1057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28000" y="1773360"/>
            <a:ext cx="2016000" cy="1057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28000" y="3860640"/>
            <a:ext cx="2016000" cy="1057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5229360"/>
            <a:ext cx="2016000" cy="1057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59280" y="5373720"/>
            <a:ext cx="2016000" cy="1057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653000"/>
            <a:ext cx="2016000" cy="1057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e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140000" y="1196640"/>
            <a:ext cx="21564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867280" y="1341000"/>
            <a:ext cx="50508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877080" y="2852280"/>
            <a:ext cx="865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268000" y="2205000"/>
            <a:ext cx="863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72360" y="3860640"/>
            <a:ext cx="936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80000" y="4437000"/>
            <a:ext cx="7207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067280" y="4508640"/>
            <a:ext cx="43344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410920" y="4292640"/>
            <a:ext cx="100836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834920" y="3573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843280" y="2205000"/>
            <a:ext cx="4103640" cy="237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 Beat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189000"/>
            <a:ext cx="2016000" cy="1057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auti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333360"/>
            <a:ext cx="2016360" cy="1057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1268280"/>
            <a:ext cx="2016000" cy="1057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781360"/>
            <a:ext cx="2016000" cy="1057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28000" y="1773360"/>
            <a:ext cx="2016000" cy="1057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28000" y="3860640"/>
            <a:ext cx="2016000" cy="1057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5229360"/>
            <a:ext cx="2016000" cy="1057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59280" y="5373720"/>
            <a:ext cx="2016000" cy="1057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4653000"/>
            <a:ext cx="2016000" cy="1057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e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4140000" y="1196640"/>
            <a:ext cx="21564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867280" y="1341000"/>
            <a:ext cx="50508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877080" y="2852280"/>
            <a:ext cx="865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268000" y="2205000"/>
            <a:ext cx="863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2360" y="3860640"/>
            <a:ext cx="936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0000" y="4437000"/>
            <a:ext cx="7207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067280" y="4508640"/>
            <a:ext cx="43344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410920" y="4292640"/>
            <a:ext cx="100836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834920" y="3573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5596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3edff"/>
                </a:solidFill>
                <a:latin typeface="Arial"/>
              </a:rPr>
              <a:t>Liverpool</a:t>
            </a: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7770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280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12000" y="1600200"/>
            <a:ext cx="267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h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nn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940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80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44480" y="260280"/>
            <a:ext cx="52675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Pa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McCart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194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635280" y="476280"/>
            <a:ext cx="4465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9:48:42Z</dcterms:created>
  <dc:creator>Aragon</dc:creator>
  <dc:description/>
  <dc:language>en-US</dc:language>
  <cp:lastModifiedBy>Тигр</cp:lastModifiedBy>
  <dcterms:modified xsi:type="dcterms:W3CDTF">2010-02-15T18:22:51Z</dcterms:modified>
  <cp:revision>31</cp:revision>
  <dc:subject/>
  <dc:title> The  Beatles -</dc:title>
</cp:coreProperties>
</file>