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B3AE-7429-4A7B-9CC3-3D44AB404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A424-3114-4E5F-89A8-109E2012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DC24-9BE7-4EB5-AA74-7C3CDE0F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7CBB-0C74-4729-B403-396C925649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49E87-4546-4BEB-8412-825DCAF3F5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31733-37EC-4150-83DF-A47969BA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29C50-45C6-44E8-9982-2E2FEC67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18031-7FE5-4102-8CAE-8F26A734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A373E-5E08-40E3-8541-27404B4F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89A6C-2A21-4F29-8770-4965A5AE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5F956-E5B7-4058-B9BE-BD95E5FF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9A7F-0E8B-4730-BFC6-DD18E15F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E1ABF-8167-4F9C-ABA0-05A075B9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AA8E7-6152-4FAD-889F-13144212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D2C9B-F345-4931-9022-D2C2B2F1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6923F-74B2-45BE-84F6-6F604988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F8733-D3AC-4AC3-BF88-4CE39CA4C9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2A4B-2A1B-4CD7-86C4-9A9C8EF7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7648-5EDC-458B-9F10-EF9AC98B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5737-6C83-45E5-8ADA-F00375E3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8414-F11F-4544-BAB0-DEBC06B4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0C0C-B3D5-491E-B0C3-B3405ADF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38B7-DB25-404C-BEC3-C7A09FDB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ECEC-0D2C-40EF-87FC-883A6569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462-E723-4E79-8A4C-63D4277303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5DA8-C50F-4480-8778-628D687A526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7">
            <a:hlinkClick r:id="" action="ppaction://hlinkshowjump?jump=previousslide"/>
          </p:cNvPr>
          <p:cNvSpPr/>
          <p:nvPr/>
        </p:nvSpPr>
        <p:spPr>
          <a:xfrm>
            <a:off x="4067280" y="6165720"/>
            <a:ext cx="288720" cy="28764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81" h="21600">
                <a:moveTo>
                  <a:pt x="0" y="0"/>
                </a:moveTo>
                <a:lnTo>
                  <a:pt x="21681" y="0"/>
                </a:lnTo>
                <a:lnTo>
                  <a:pt x="21681" y="21600"/>
                </a:lnTo>
                <a:lnTo>
                  <a:pt x="0" y="21600"/>
                </a:lnTo>
                <a:close/>
              </a:path>
              <a:path fill="lightenLess" w="21681" h="21600">
                <a:moveTo>
                  <a:pt x="0" y="0"/>
                </a:moveTo>
                <a:lnTo>
                  <a:pt x="21681" y="0"/>
                </a:lnTo>
                <a:lnTo>
                  <a:pt x="20281" y="1400"/>
                </a:lnTo>
                <a:lnTo>
                  <a:pt x="1400" y="1400"/>
                </a:lnTo>
                <a:close/>
              </a:path>
              <a:path fill="darken" w="21681" h="21600">
                <a:moveTo>
                  <a:pt x="21681" y="0"/>
                </a:moveTo>
                <a:lnTo>
                  <a:pt x="21681" y="21600"/>
                </a:lnTo>
                <a:lnTo>
                  <a:pt x="20281" y="20200"/>
                </a:lnTo>
                <a:lnTo>
                  <a:pt x="20281" y="1400"/>
                </a:lnTo>
                <a:close/>
              </a:path>
              <a:path fill="darkenLess" w="21681" h="21600">
                <a:moveTo>
                  <a:pt x="21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1" y="20200"/>
                </a:lnTo>
                <a:close/>
              </a:path>
              <a:path fill="lighten" w="21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1" h="21600">
                <a:moveTo>
                  <a:pt x="3834" y="10800"/>
                </a:moveTo>
                <a:lnTo>
                  <a:pt x="17847" y="3794"/>
                </a:lnTo>
                <a:lnTo>
                  <a:pt x="1784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8">
            <a:hlinkClick r:id="" action="ppaction://hlinkshowjump?jump=firstslide"/>
          </p:cNvPr>
          <p:cNvSpPr/>
          <p:nvPr/>
        </p:nvSpPr>
        <p:spPr>
          <a:xfrm>
            <a:off x="439092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13527" y="3837"/>
                </a:moveTo>
                <a:lnTo>
                  <a:pt x="16103" y="6448"/>
                </a:lnTo>
                <a:lnTo>
                  <a:pt x="16103" y="4707"/>
                </a:lnTo>
                <a:lnTo>
                  <a:pt x="17879" y="4707"/>
                </a:lnTo>
                <a:lnTo>
                  <a:pt x="17879" y="8224"/>
                </a:lnTo>
                <a:lnTo>
                  <a:pt x="20490" y="10800"/>
                </a:lnTo>
                <a:lnTo>
                  <a:pt x="18836" y="10800"/>
                </a:lnTo>
                <a:lnTo>
                  <a:pt x="18836" y="17989"/>
                </a:lnTo>
                <a:lnTo>
                  <a:pt x="8218" y="17989"/>
                </a:lnTo>
                <a:lnTo>
                  <a:pt x="8218" y="10800"/>
                </a:lnTo>
                <a:lnTo>
                  <a:pt x="6564" y="10800"/>
                </a:lnTo>
                <a:close/>
              </a:path>
              <a:path fill="darkenLess" w="27054" h="21600">
                <a:moveTo>
                  <a:pt x="16103" y="6448"/>
                </a:moveTo>
                <a:lnTo>
                  <a:pt x="16103" y="4707"/>
                </a:lnTo>
                <a:lnTo>
                  <a:pt x="17879" y="4707"/>
                </a:lnTo>
                <a:lnTo>
                  <a:pt x="17879" y="8224"/>
                </a:lnTo>
                <a:close/>
              </a:path>
              <a:path fill="darkenLess" w="27054" h="21600">
                <a:moveTo>
                  <a:pt x="12604" y="14299"/>
                </a:moveTo>
                <a:lnTo>
                  <a:pt x="14450" y="14299"/>
                </a:lnTo>
                <a:lnTo>
                  <a:pt x="14450" y="17989"/>
                </a:lnTo>
                <a:lnTo>
                  <a:pt x="18836" y="17989"/>
                </a:lnTo>
                <a:lnTo>
                  <a:pt x="18836" y="10800"/>
                </a:lnTo>
                <a:lnTo>
                  <a:pt x="8218" y="10800"/>
                </a:lnTo>
                <a:lnTo>
                  <a:pt x="8218" y="17989"/>
                </a:lnTo>
                <a:lnTo>
                  <a:pt x="12604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9">
            <a:hlinkClick r:id="" action="ppaction://hlinkshowjump?jump=nextslide"/>
          </p:cNvPr>
          <p:cNvSpPr/>
          <p:nvPr/>
        </p:nvSpPr>
        <p:spPr>
          <a:xfrm>
            <a:off x="4788000" y="6165720"/>
            <a:ext cx="288720" cy="28764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81" h="21600">
                <a:moveTo>
                  <a:pt x="0" y="0"/>
                </a:moveTo>
                <a:lnTo>
                  <a:pt x="21681" y="0"/>
                </a:lnTo>
                <a:lnTo>
                  <a:pt x="21681" y="21600"/>
                </a:lnTo>
                <a:lnTo>
                  <a:pt x="0" y="21600"/>
                </a:lnTo>
                <a:close/>
              </a:path>
              <a:path fill="lightenLess" w="21681" h="21600">
                <a:moveTo>
                  <a:pt x="0" y="0"/>
                </a:moveTo>
                <a:lnTo>
                  <a:pt x="21681" y="0"/>
                </a:lnTo>
                <a:lnTo>
                  <a:pt x="20281" y="1400"/>
                </a:lnTo>
                <a:lnTo>
                  <a:pt x="1400" y="1400"/>
                </a:lnTo>
                <a:close/>
              </a:path>
              <a:path fill="darken" w="21681" h="21600">
                <a:moveTo>
                  <a:pt x="21681" y="0"/>
                </a:moveTo>
                <a:lnTo>
                  <a:pt x="21681" y="21600"/>
                </a:lnTo>
                <a:lnTo>
                  <a:pt x="20281" y="20200"/>
                </a:lnTo>
                <a:lnTo>
                  <a:pt x="20281" y="1400"/>
                </a:lnTo>
                <a:close/>
              </a:path>
              <a:path fill="darkenLess" w="21681" h="21600">
                <a:moveTo>
                  <a:pt x="21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1" y="20200"/>
                </a:lnTo>
                <a:close/>
              </a:path>
              <a:path fill="lighten" w="21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1" h="21600">
                <a:moveTo>
                  <a:pt x="3834" y="3794"/>
                </a:moveTo>
                <a:lnTo>
                  <a:pt x="17847" y="10800"/>
                </a:lnTo>
                <a:lnTo>
                  <a:pt x="383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9317-8C31-46E1-9828-8E68C7619990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122-C15B-4E26-8B48-3979CE6467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03A7-65C2-4336-917B-488FB8578A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6407280" cy="34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классе по теме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Три склонения имён существительны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5129280" cy="17528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nextslide"/>
          </p:cNvPr>
          <p:cNvSpPr/>
          <p:nvPr/>
        </p:nvSpPr>
        <p:spPr>
          <a:xfrm>
            <a:off x="457200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D1E7-C8E5-4536-93CB-B4D51EBE1C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лгоритм действий при определении склонений имён существитель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ить слово в именительный падеж, единствен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род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на окончание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скло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8186-43C8-4D3D-AAD2-7EAFDE4327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. 93, упр 17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.91, упр 1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.90, упр.1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7164360" y="2852640"/>
            <a:ext cx="1297080" cy="1079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093080" y="981000"/>
            <a:ext cx="1441440" cy="1224000"/>
          </a:xfrm>
          <a:custGeom>
            <a:avLst/>
            <a:gdLst>
              <a:gd name="textAreaLeft" fmla="*/ 445320 w 1441440"/>
              <a:gd name="textAreaRight" fmla="*/ 996120 w 1441440"/>
              <a:gd name="textAreaTop" fmla="*/ 467640 h 1224000"/>
              <a:gd name="textAreaBottom" fmla="*/ 935280 h 1224000"/>
            </a:gdLst>
            <a:ahLst/>
            <a:rect l="textAreaLeft" t="textAreaTop" r="textAreaRight" b="textAreaBottom"/>
            <a:pathLst>
              <a:path w="1441450" h="1223963">
                <a:moveTo>
                  <a:pt x="2" y="467511"/>
                </a:moveTo>
                <a:lnTo>
                  <a:pt x="550588" y="467514"/>
                </a:lnTo>
                <a:lnTo>
                  <a:pt x="720725" y="0"/>
                </a:lnTo>
                <a:lnTo>
                  <a:pt x="890862" y="467514"/>
                </a:lnTo>
                <a:lnTo>
                  <a:pt x="1441448" y="467511"/>
                </a:lnTo>
                <a:lnTo>
                  <a:pt x="996013" y="756447"/>
                </a:lnTo>
                <a:lnTo>
                  <a:pt x="1166158" y="1223959"/>
                </a:lnTo>
                <a:lnTo>
                  <a:pt x="720725" y="935018"/>
                </a:lnTo>
                <a:lnTo>
                  <a:pt x="275292" y="1223959"/>
                </a:lnTo>
                <a:lnTo>
                  <a:pt x="445437" y="756447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7236000" y="4437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53F5-24B4-4B45-BEDD-75F504E799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33cc"/>
                </a:solidFill>
                <a:latin typeface="Arial"/>
              </a:rPr>
              <a:t>Проверь себя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63640" y="2060640"/>
            <a:ext cx="60199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тгадайте ребусы и определите склонение имён существительных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камыш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0" y="4292640"/>
            <a:ext cx="2232000" cy="115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наколка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3995640" y="4797360"/>
            <a:ext cx="1779840" cy="124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оса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6012000" y="4365720"/>
            <a:ext cx="2160360" cy="1644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Число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979640" y="5300640"/>
            <a:ext cx="1728720" cy="130032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8">
            <a:hlinkClick r:id="" action="ppaction://hlinkshowjump?jump=firstslide"/>
          </p:cNvPr>
          <p:cNvSpPr/>
          <p:nvPr/>
        </p:nvSpPr>
        <p:spPr>
          <a:xfrm>
            <a:off x="4319640" y="6326280"/>
            <a:ext cx="503280" cy="531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31720"/>
              <a:gd name="textAreaBottom" fmla="*/ 499320 h 531720"/>
            </a:gdLst>
            <a:ahLst/>
            <a:rect l="textAreaLeft" t="textAreaTop" r="textAreaRight" b="textAreaBottom"/>
            <a:pathLst>
              <a:path w="21600" h="22820">
                <a:moveTo>
                  <a:pt x="0" y="0"/>
                </a:moveTo>
                <a:lnTo>
                  <a:pt x="21600" y="0"/>
                </a:lnTo>
                <a:lnTo>
                  <a:pt x="21600" y="22820"/>
                </a:lnTo>
                <a:lnTo>
                  <a:pt x="0" y="22820"/>
                </a:lnTo>
                <a:close/>
              </a:path>
              <a:path fill="lightenLess" w="21600" h="22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0">
                <a:moveTo>
                  <a:pt x="21600" y="0"/>
                </a:moveTo>
                <a:lnTo>
                  <a:pt x="21600" y="22820"/>
                </a:lnTo>
                <a:lnTo>
                  <a:pt x="20200" y="21420"/>
                </a:lnTo>
                <a:lnTo>
                  <a:pt x="20200" y="1400"/>
                </a:lnTo>
                <a:close/>
              </a:path>
              <a:path fill="darkenLess" w="21600" h="22820">
                <a:moveTo>
                  <a:pt x="21600" y="22820"/>
                </a:moveTo>
                <a:lnTo>
                  <a:pt x="0" y="22820"/>
                </a:lnTo>
                <a:lnTo>
                  <a:pt x="1400" y="21420"/>
                </a:lnTo>
                <a:lnTo>
                  <a:pt x="20200" y="21420"/>
                </a:lnTo>
                <a:close/>
              </a:path>
              <a:path fill="lighten" w="21600" h="22820">
                <a:moveTo>
                  <a:pt x="0" y="22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0"/>
                </a:lnTo>
                <a:close/>
              </a:path>
              <a:path fill="darken" w="21600" h="22820">
                <a:moveTo>
                  <a:pt x="10800" y="4447"/>
                </a:moveTo>
                <a:lnTo>
                  <a:pt x="13376" y="7058"/>
                </a:lnTo>
                <a:lnTo>
                  <a:pt x="13376" y="5317"/>
                </a:lnTo>
                <a:lnTo>
                  <a:pt x="15152" y="5317"/>
                </a:lnTo>
                <a:lnTo>
                  <a:pt x="15152" y="8834"/>
                </a:lnTo>
                <a:lnTo>
                  <a:pt x="17763" y="11410"/>
                </a:lnTo>
                <a:lnTo>
                  <a:pt x="16109" y="11410"/>
                </a:lnTo>
                <a:lnTo>
                  <a:pt x="16109" y="18599"/>
                </a:lnTo>
                <a:lnTo>
                  <a:pt x="5491" y="18599"/>
                </a:lnTo>
                <a:lnTo>
                  <a:pt x="5491" y="11410"/>
                </a:lnTo>
                <a:lnTo>
                  <a:pt x="3837" y="11410"/>
                </a:lnTo>
                <a:close/>
              </a:path>
              <a:path fill="darkenLess" w="21600" h="22820">
                <a:moveTo>
                  <a:pt x="13376" y="7058"/>
                </a:moveTo>
                <a:lnTo>
                  <a:pt x="13376" y="5317"/>
                </a:lnTo>
                <a:lnTo>
                  <a:pt x="15152" y="5317"/>
                </a:lnTo>
                <a:lnTo>
                  <a:pt x="15152" y="8834"/>
                </a:lnTo>
                <a:close/>
              </a:path>
              <a:path fill="darkenLess" w="21600" h="22820">
                <a:moveTo>
                  <a:pt x="9877" y="14909"/>
                </a:moveTo>
                <a:lnTo>
                  <a:pt x="11723" y="14909"/>
                </a:lnTo>
                <a:lnTo>
                  <a:pt x="11723" y="18599"/>
                </a:lnTo>
                <a:lnTo>
                  <a:pt x="16109" y="18599"/>
                </a:lnTo>
                <a:lnTo>
                  <a:pt x="16109" y="11410"/>
                </a:lnTo>
                <a:lnTo>
                  <a:pt x="5491" y="11410"/>
                </a:lnTo>
                <a:lnTo>
                  <a:pt x="5491" y="18599"/>
                </a:lnTo>
                <a:lnTo>
                  <a:pt x="9877" y="1859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>
            <a:hlinkClick r:id="" action="ppaction://hlinkshowjump?jump=previousslide"/>
          </p:cNvPr>
          <p:cNvSpPr/>
          <p:nvPr/>
        </p:nvSpPr>
        <p:spPr>
          <a:xfrm>
            <a:off x="4788000" y="6326280"/>
            <a:ext cx="431640" cy="531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31720"/>
              <a:gd name="textAreaBottom" fmla="*/ 504000 h 531720"/>
            </a:gdLst>
            <a:ahLst/>
            <a:rect l="textAreaLeft" t="textAreaTop" r="textAreaRight" b="textAreaBottom"/>
            <a:pathLst>
              <a:path w="21600" h="26604">
                <a:moveTo>
                  <a:pt x="0" y="0"/>
                </a:moveTo>
                <a:lnTo>
                  <a:pt x="21600" y="0"/>
                </a:lnTo>
                <a:lnTo>
                  <a:pt x="21600" y="26604"/>
                </a:lnTo>
                <a:lnTo>
                  <a:pt x="0" y="26604"/>
                </a:lnTo>
                <a:close/>
              </a:path>
              <a:path fill="lightenLess" w="21600" h="266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04">
                <a:moveTo>
                  <a:pt x="21600" y="0"/>
                </a:moveTo>
                <a:lnTo>
                  <a:pt x="21600" y="26604"/>
                </a:lnTo>
                <a:lnTo>
                  <a:pt x="20200" y="25204"/>
                </a:lnTo>
                <a:lnTo>
                  <a:pt x="20200" y="1400"/>
                </a:lnTo>
                <a:close/>
              </a:path>
              <a:path fill="darkenLess" w="21600" h="26604">
                <a:moveTo>
                  <a:pt x="21600" y="26604"/>
                </a:moveTo>
                <a:lnTo>
                  <a:pt x="0" y="26604"/>
                </a:lnTo>
                <a:lnTo>
                  <a:pt x="1400" y="25204"/>
                </a:lnTo>
                <a:lnTo>
                  <a:pt x="20200" y="25204"/>
                </a:lnTo>
                <a:close/>
              </a:path>
              <a:path fill="lighten" w="21600" h="26604">
                <a:moveTo>
                  <a:pt x="0" y="266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04"/>
                </a:lnTo>
                <a:close/>
              </a:path>
              <a:path fill="darken" w="21600" h="26604">
                <a:moveTo>
                  <a:pt x="3794" y="13302"/>
                </a:moveTo>
                <a:lnTo>
                  <a:pt x="17806" y="6296"/>
                </a:lnTo>
                <a:lnTo>
                  <a:pt x="17806" y="2030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0D84-70F5-457B-85F6-86504E7189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93, упр.1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177, упр.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5292720" y="1844640"/>
            <a:ext cx="1150920" cy="1079640"/>
          </a:xfrm>
          <a:custGeom>
            <a:avLst/>
            <a:gdLst>
              <a:gd name="textAreaLeft" fmla="*/ 355680 w 1150920"/>
              <a:gd name="textAreaRight" fmla="*/ 795240 w 115092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150938" h="1079500">
                <a:moveTo>
                  <a:pt x="1" y="412331"/>
                </a:moveTo>
                <a:lnTo>
                  <a:pt x="439622" y="412334"/>
                </a:lnTo>
                <a:lnTo>
                  <a:pt x="575469" y="0"/>
                </a:lnTo>
                <a:lnTo>
                  <a:pt x="711316" y="412334"/>
                </a:lnTo>
                <a:lnTo>
                  <a:pt x="1150937" y="412331"/>
                </a:lnTo>
                <a:lnTo>
                  <a:pt x="795275" y="667164"/>
                </a:lnTo>
                <a:lnTo>
                  <a:pt x="931129" y="1079496"/>
                </a:lnTo>
                <a:lnTo>
                  <a:pt x="575469" y="824659"/>
                </a:lnTo>
                <a:lnTo>
                  <a:pt x="219809" y="1079496"/>
                </a:lnTo>
                <a:lnTo>
                  <a:pt x="355663" y="667164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7667640" y="1916280"/>
            <a:ext cx="936720" cy="720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932360" y="37162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B46-5E49-4AD8-BD9A-47C77A80BC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ниги учат нас смелост</a:t>
            </a: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дружб</a:t>
            </a: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часть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паде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и учат нас смелост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им.сущ., Д.п.) и дружб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м.сущ., Д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Arial"/>
              </a:rPr>
              <a:t>Почему же в словах разные оконч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книга"/>
          <p:cNvPicPr/>
          <p:nvPr/>
        </p:nvPicPr>
        <p:blipFill>
          <a:blip r:embed="rId1"/>
          <a:stretch/>
        </p:blipFill>
        <p:spPr>
          <a:xfrm>
            <a:off x="6948360" y="98100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6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16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8DB6-298F-41A5-9142-0B8E78B655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91520" cy="21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5400" spc="-1" strike="noStrike">
                <a:solidFill>
                  <a:srgbClr val="000066"/>
                </a:solidFill>
                <a:latin typeface="Arial"/>
              </a:rPr>
              <a:t>Спасибо</a:t>
            </a: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7d"/>
                </a:solidFill>
                <a:latin typeface="Arial"/>
              </a:rPr>
              <a:t>за уро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СПАСИБО!!!"/>
          <p:cNvPicPr/>
          <p:nvPr/>
        </p:nvPicPr>
        <p:blipFill>
          <a:blip r:embed="rId1"/>
          <a:stretch/>
        </p:blipFill>
        <p:spPr>
          <a:xfrm>
            <a:off x="5724360" y="2492280"/>
            <a:ext cx="26956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EF3A-D269-46B2-8DAA-51F597CEE0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ся  распознавать склонения имён существ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речи,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ся  быть добр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школа"/>
          <p:cNvPicPr/>
          <p:nvPr/>
        </p:nvPicPr>
        <p:blipFill>
          <a:blip r:embed="rId1"/>
          <a:stretch/>
        </p:blipFill>
        <p:spPr>
          <a:xfrm>
            <a:off x="6732720" y="4076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3179-C19F-4317-B4AB-1C4E328F49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573000"/>
            <a:ext cx="754524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бр.т., д.бр., д.бр.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2"/>
          <p:cNvSpPr/>
          <p:nvPr/>
        </p:nvSpPr>
        <p:spPr>
          <a:xfrm>
            <a:off x="468360" y="1989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3" descr="PB062735"/>
          <p:cNvPicPr/>
          <p:nvPr/>
        </p:nvPicPr>
        <p:blipFill>
          <a:blip r:embed="rId1"/>
          <a:stretch/>
        </p:blipFill>
        <p:spPr>
          <a:xfrm>
            <a:off x="4716360" y="476280"/>
            <a:ext cx="395928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8629-2CD9-4458-ABED-013D23AD74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определить склонение имен существительн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37" descr="http://www.9151394.ru/projects/gep/143/tr3.jpg"/>
          <p:cNvPicPr/>
          <p:nvPr/>
        </p:nvPicPr>
        <p:blipFill>
          <a:blip r:embed="rId1"/>
          <a:stretch/>
        </p:blipFill>
        <p:spPr>
          <a:xfrm>
            <a:off x="324000" y="1941480"/>
            <a:ext cx="8424720" cy="4008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39"/>
          <p:cNvSpPr/>
          <p:nvPr/>
        </p:nvSpPr>
        <p:spPr>
          <a:xfrm>
            <a:off x="1800" y="22168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7134-02C3-41DE-89ED-67B222B473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799308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Д.брота приносит людям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И взамен (не) требует наг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Д.брота (с) г.дами (не) ст.р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Д.брота (от) хол.да с.гр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4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4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4622-52FB-4B80-92E2-C665D90A25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гра «Магнит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вь, ненависть, злость, вежливость, доброта, грубость, сострадание, человеколюбие, щедрость, жад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в- положительные ка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в – отрицательные ка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6516720" y="3860640"/>
            <a:ext cx="2303280" cy="2449440"/>
            <a:chOff x="6516720" y="3860640"/>
            <a:chExt cx="2303280" cy="2449440"/>
          </a:xfrm>
        </p:grpSpPr>
        <p:sp>
          <p:nvSpPr>
            <p:cNvPr id="130" name="Gear"/>
            <p:cNvSpPr/>
            <p:nvPr/>
          </p:nvSpPr>
          <p:spPr>
            <a:xfrm>
              <a:off x="7793640" y="3860640"/>
              <a:ext cx="1026360" cy="1123200"/>
            </a:xfrm>
            <a:custGeom>
              <a:avLst/>
              <a:gdLst>
                <a:gd name="textAreaLeft" fmla="*/ 207720 w 1026360"/>
                <a:gd name="textAreaRight" fmla="*/ 847800 w 1026360"/>
                <a:gd name="textAreaTop" fmla="*/ 205560 h 1123200"/>
                <a:gd name="textAreaBottom" fmla="*/ 917640 h 112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6516720" y="4323240"/>
              <a:ext cx="1226880" cy="1342800"/>
            </a:xfrm>
            <a:custGeom>
              <a:avLst/>
              <a:gdLst>
                <a:gd name="textAreaLeft" fmla="*/ 248040 w 1226880"/>
                <a:gd name="textAreaRight" fmla="*/ 1013040 w 1226880"/>
                <a:gd name="textAreaTop" fmla="*/ 246240 h 1342800"/>
                <a:gd name="textAreaBottom" fmla="*/ 1096560 h 134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7"/>
            <p:cNvSpPr/>
            <p:nvPr/>
          </p:nvSpPr>
          <p:spPr>
            <a:xfrm>
              <a:off x="7312680" y="4818600"/>
              <a:ext cx="1363680" cy="1491480"/>
            </a:xfrm>
            <a:custGeom>
              <a:avLst/>
              <a:gdLst>
                <a:gd name="textAreaLeft" fmla="*/ 276480 w 1363680"/>
                <a:gd name="textAreaRight" fmla="*/ 1126800 w 1363680"/>
                <a:gd name="textAreaTop" fmla="*/ 273240 h 1491480"/>
                <a:gd name="textAreaBottom" fmla="*/ 1217160 h 149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AD31-C4E8-4754-AFA7-B02FAEF094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в                         2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3скл                  ненависть 3с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ость 3скл           грубость 3с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дрость 3скл              жадность 3ск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та  1скл               злость 3с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олюбие 2с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радание 2скл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0B33-4C8B-466A-8B92-1003083E72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5" descr="PB062737"/>
          <p:cNvPicPr/>
          <p:nvPr/>
        </p:nvPicPr>
        <p:blipFill>
          <a:blip r:embed="rId1"/>
          <a:stretch/>
        </p:blipFill>
        <p:spPr>
          <a:xfrm>
            <a:off x="1403280" y="1413000"/>
            <a:ext cx="5975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01A8-A7E5-4D04-91ED-9FA2286B63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 проблему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 группах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определить склонение существительных, если они стоят не в именительном падеже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йте алгорит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0:35:58Z</dcterms:created>
  <dc:creator>user51</dc:creator>
  <dc:description/>
  <dc:language>en-US</dc:language>
  <cp:lastModifiedBy>пользователь</cp:lastModifiedBy>
  <dcterms:modified xsi:type="dcterms:W3CDTF">2012-02-07T07:58:48Z</dcterms:modified>
  <cp:revision>27</cp:revision>
  <dc:subject/>
  <dc:title>Урок русского языка  в 3 классе</dc:title>
</cp:coreProperties>
</file>