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8585-7E24-4358-BA37-E1D484E0B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68E9-C510-4C6E-852D-D990B3F2C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FE5-E62D-43FC-8DF3-6C5B31BC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9C1-441C-47C9-8B3B-EB9DD1E4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5CC-07C3-4A0B-8393-4522AC53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8A1-4617-4D22-8C2B-1501FCEF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084-58F9-482F-9C02-BE876E10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964-6E31-4104-B894-57CD594D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E93-9AE6-46D1-B9BE-4189547A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24F-33E1-4379-896C-0A0510CC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C6E-9769-408E-B8F7-D8B036A1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5AB-EC71-4059-9BCE-9F4F16B5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AA4-AAE5-4E74-9BA1-1089C2E7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03E-E086-49C2-94BA-EB3D5DFF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3EE8-9A33-4518-B409-D9337DAB7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бинаторика и вероятность на ЕГ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№ 12 г. о.Жуков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атематики Чернобай Н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:\Documents and Settings\Aida\Рабочий стол\НОвая ГРАФИКА сборник\image.jpeg"/>
          <p:cNvPicPr/>
          <p:nvPr/>
        </p:nvPicPr>
        <p:blipFill>
          <a:blip r:embed="rId1"/>
          <a:stretch/>
        </p:blipFill>
        <p:spPr>
          <a:xfrm>
            <a:off x="6566040" y="4992840"/>
            <a:ext cx="1962000" cy="1450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:\Documents and Settings\Aida\Рабочий стол\МОИ шаблоны ЭКСПЕРИМЕНТы\collageB.jpg"/>
          <p:cNvPicPr/>
          <p:nvPr/>
        </p:nvPicPr>
        <p:blipFill>
          <a:blip r:embed="rId2"/>
          <a:stretch/>
        </p:blipFill>
        <p:spPr>
          <a:xfrm>
            <a:off x="633240" y="420840"/>
            <a:ext cx="296892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A20E-7FBF-481E-98D2-52338AA18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5840" y="250020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открытого б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6"/>
          <p:cNvSpPr/>
          <p:nvPr/>
        </p:nvSpPr>
        <p:spPr>
          <a:xfrm>
            <a:off x="5929200" y="5111640"/>
            <a:ext cx="785880" cy="43200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7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чемпионате по гимнастике участвуют 50 спортсменок: 24 из США, 13 из Мексики, остальные — из Канады. Порядок, в котором выступают гимнастки, определяется жребием. Найдите вероятность того, что спортсменка, выступающая первой, окажется из Канад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76B6-4E4A-452E-8D8B-92CCFF22CD3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D5EE-485A-40AA-9AFB-7E3CE348E0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163320" y="2214720"/>
            <a:ext cx="50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вой выступ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сменка из Кан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74200" y="385776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3584160" y="321480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3"/>
              <p:cNvSpPr txBox="1"/>
              <p:nvPr/>
            </p:nvSpPr>
            <p:spPr>
              <a:xfrm>
                <a:off x="3429000" y="4857840"/>
                <a:ext cx="3263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Text Box 11"/>
          <p:cNvSpPr/>
          <p:nvPr/>
        </p:nvSpPr>
        <p:spPr>
          <a:xfrm>
            <a:off x="511920" y="4643280"/>
            <a:ext cx="207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н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0-(24+13)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3641760" y="392904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количеству всех гимна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Администратор\Рабочий стол\Безимени-2.png"/>
          <p:cNvPicPr/>
          <p:nvPr/>
        </p:nvPicPr>
        <p:blipFill>
          <a:blip r:embed="rId1"/>
          <a:stretch/>
        </p:blipFill>
        <p:spPr>
          <a:xfrm>
            <a:off x="357120" y="1857240"/>
            <a:ext cx="295272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6"/>
          <p:cNvSpPr/>
          <p:nvPr/>
        </p:nvSpPr>
        <p:spPr>
          <a:xfrm>
            <a:off x="5786280" y="5000760"/>
            <a:ext cx="78588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7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реднем из 1400 садовых насосов, поступивших в продажу, 14 подтекают. Найдите вероятность того, что один случайно выбранный для контроля насос не подтекает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6375-0E51-4623-A7F0-E1149723353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641F-F107-4F3F-A850-7FEE6E98C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097000" y="221472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бранный нас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дт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02560" y="392904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3655440" y="321480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3"/>
              <p:cNvSpPr txBox="1"/>
              <p:nvPr/>
            </p:nvSpPr>
            <p:spPr>
              <a:xfrm>
                <a:off x="2928960" y="4786200"/>
                <a:ext cx="35798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8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Text Box 11"/>
          <p:cNvSpPr/>
          <p:nvPr/>
        </p:nvSpPr>
        <p:spPr>
          <a:xfrm>
            <a:off x="512640" y="4714920"/>
            <a:ext cx="204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ра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400-14=13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3645720" y="3714840"/>
            <a:ext cx="45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количеству всех нас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C:\Documents and Settings\Администратор\Рабочий стол\колод.png"/>
          <p:cNvPicPr/>
          <p:nvPr/>
        </p:nvPicPr>
        <p:blipFill>
          <a:blip r:embed="rId1"/>
          <a:stretch/>
        </p:blipFill>
        <p:spPr>
          <a:xfrm>
            <a:off x="500040" y="1571760"/>
            <a:ext cx="1217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6"/>
          <p:cNvSpPr/>
          <p:nvPr/>
        </p:nvSpPr>
        <p:spPr>
          <a:xfrm>
            <a:off x="6572160" y="4929120"/>
            <a:ext cx="785880" cy="43200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63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абрика выпускает сумки. В среднем на 190 качественных сумок приходится восемь сумок со скрытыми дефектами. Найдите вероятность того, что купленная сумка окажется качественной. Результат округлите до сотых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6EAA-E218-497F-BA0C-460C2F60E2F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1FE7-DAA9-423E-BC09-4574D3360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3383280" y="2357280"/>
            <a:ext cx="48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пленная 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ась качеств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31280" y="385776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3441240" y="321480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3"/>
              <p:cNvSpPr txBox="1"/>
              <p:nvPr/>
            </p:nvSpPr>
            <p:spPr>
              <a:xfrm>
                <a:off x="2500200" y="4714920"/>
                <a:ext cx="47833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Text Box 11"/>
          <p:cNvSpPr/>
          <p:nvPr/>
        </p:nvSpPr>
        <p:spPr>
          <a:xfrm>
            <a:off x="493560" y="4643280"/>
            <a:ext cx="180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3425040" y="3786120"/>
            <a:ext cx="42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количеству всех су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0+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C:\Documents and Settings\Администратор\Рабочий стол\сс.png"/>
          <p:cNvPicPr/>
          <p:nvPr/>
        </p:nvPicPr>
        <p:blipFill>
          <a:blip r:embed="rId1"/>
          <a:stretch/>
        </p:blipFill>
        <p:spPr>
          <a:xfrm rot="20383800">
            <a:off x="244440" y="160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Администратор\Рабочий стол\сс.png"/>
          <p:cNvPicPr/>
          <p:nvPr/>
        </p:nvPicPr>
        <p:blipFill>
          <a:blip r:embed="rId2"/>
          <a:stretch/>
        </p:blipFill>
        <p:spPr>
          <a:xfrm>
            <a:off x="571680" y="17859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Documents and Settings\Администратор\Рабочий стол\сс.png"/>
          <p:cNvPicPr/>
          <p:nvPr/>
        </p:nvPicPr>
        <p:blipFill>
          <a:blip r:embed="rId3"/>
          <a:stretch/>
        </p:blipFill>
        <p:spPr>
          <a:xfrm rot="1012800">
            <a:off x="1244520" y="1530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C:\Documents and Settings\Администратор\Рабочий стол\ссс.png"/>
          <p:cNvPicPr/>
          <p:nvPr/>
        </p:nvPicPr>
        <p:blipFill>
          <a:blip r:embed="rId4"/>
          <a:stretch/>
        </p:blipFill>
        <p:spPr>
          <a:xfrm>
            <a:off x="2143080" y="2711520"/>
            <a:ext cx="1214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6"/>
          <p:cNvSpPr/>
          <p:nvPr/>
        </p:nvSpPr>
        <p:spPr>
          <a:xfrm>
            <a:off x="6156360" y="5229360"/>
            <a:ext cx="72072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45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лучайном эксперименте бросают три игральные кости. Найдите вероятность того, что в сумме выпадет 7 очков. Результат округлите до сот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A494-F868-4840-89E0-6CA592F09B5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55E5-5B13-488C-8740-BA516CEA8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Без имени-1"/>
          <p:cNvPicPr/>
          <p:nvPr/>
        </p:nvPicPr>
        <p:blipFill>
          <a:blip r:embed="rId1"/>
          <a:stretch/>
        </p:blipFill>
        <p:spPr>
          <a:xfrm>
            <a:off x="539640" y="1851120"/>
            <a:ext cx="1675080" cy="1512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2463480" y="1720800"/>
            <a:ext cx="41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адают три игральне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342880" y="213372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умме выпало 7 оч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97800" y="335772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542160" y="414972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1189800" y="414972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1766160" y="414972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542160" y="530064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1189800" y="530064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3494160" y="335772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3565800" y="3716280"/>
            <a:ext cx="27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кость - 6 вариа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я кость - 6 вариа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я кость - 6 вари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6156360" y="3789360"/>
            <a:ext cx="503280" cy="86364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6872400" y="4076640"/>
                <a:ext cx="144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3"/>
              <p:cNvSpPr txBox="1"/>
              <p:nvPr/>
            </p:nvSpPr>
            <p:spPr>
              <a:xfrm>
                <a:off x="3500280" y="5033880"/>
                <a:ext cx="34070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AutoShape 24"/>
          <p:cNvSpPr/>
          <p:nvPr/>
        </p:nvSpPr>
        <p:spPr>
          <a:xfrm>
            <a:off x="2124000" y="4149720"/>
            <a:ext cx="503280" cy="2232000"/>
          </a:xfrm>
          <a:custGeom>
            <a:avLst/>
            <a:gdLst>
              <a:gd name="textAreaLeft" fmla="*/ 0 w 503280"/>
              <a:gd name="textAreaRight" fmla="*/ 181800 w 5032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5"/>
              <p:cNvSpPr txBox="1"/>
              <p:nvPr/>
            </p:nvSpPr>
            <p:spPr>
              <a:xfrm>
                <a:off x="2700360" y="5084640"/>
                <a:ext cx="322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6"/>
          <p:cNvSpPr/>
          <p:nvPr/>
        </p:nvSpPr>
        <p:spPr>
          <a:xfrm>
            <a:off x="5572080" y="5500800"/>
            <a:ext cx="107172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F3D9-500C-4909-A2D6-16BC0F15B6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0F7E-475A-4B1A-A65A-4DE3E40ECB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монетки"/>
          <p:cNvPicPr/>
          <p:nvPr/>
        </p:nvPicPr>
        <p:blipFill>
          <a:blip r:embed="rId1"/>
          <a:stretch/>
        </p:blipFill>
        <p:spPr>
          <a:xfrm>
            <a:off x="395280" y="1916280"/>
            <a:ext cx="177804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71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лучайном эксперименте симметричную монету бросают четырежды. Найдите вероятность того, что орел не выпадет ни р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717640" y="2060640"/>
            <a:ext cx="63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е можно трактовать т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ова вероятность т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се четыре раза выпадет реш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470880" y="393372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853080" y="350028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1046880" y="4653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477000" y="501336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раза вып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3714840" y="5357880"/>
                <a:ext cx="28684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 Box 18"/>
          <p:cNvSpPr/>
          <p:nvPr/>
        </p:nvSpPr>
        <p:spPr>
          <a:xfrm>
            <a:off x="3652200" y="3929040"/>
            <a:ext cx="231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-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6235560" y="4002120"/>
            <a:ext cx="503280" cy="106992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1069920"/>
              <a:gd name="textAreaBottom" fmla="*/ 10476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7"/>
                  <a:pt x="10800" y="1453"/>
                </a:cubicBezTo>
                <a:lnTo>
                  <a:pt x="10800" y="9347"/>
                </a:lnTo>
                <a:cubicBezTo>
                  <a:pt x="10800" y="10074"/>
                  <a:pt x="16200" y="10800"/>
                  <a:pt x="21600" y="10800"/>
                </a:cubicBezTo>
                <a:cubicBezTo>
                  <a:pt x="16200" y="10800"/>
                  <a:pt x="10800" y="11527"/>
                  <a:pt x="10800" y="12253"/>
                </a:cubicBezTo>
                <a:lnTo>
                  <a:pt x="10800" y="20147"/>
                </a:lnTo>
                <a:cubicBezTo>
                  <a:pt x="10800" y="208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4"/>
              <p:cNvSpPr txBox="1"/>
              <p:nvPr/>
            </p:nvSpPr>
            <p:spPr>
              <a:xfrm>
                <a:off x="6870600" y="4289400"/>
                <a:ext cx="1609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3640" y="33300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оятность и правило произве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о 6 монет. Возможны варианты переклады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карман              2 карм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  1  1                      5  1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  1  5                      1  1 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  5  1                      1  5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 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4 ) *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5 =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   «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    «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рмане у Пети было 4 монеты по рублю и 2 монеты по 5 руб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тя, не глядя, переложил какие-то три монеты в другой карма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вероятность того, что пятирублевые монеты лежат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ых карман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647D-F45F-4242-83B2-6EB247479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C:\Documents and Settings\bad\Рабочий стол\i.jpg"/>
          <p:cNvPicPr/>
          <p:nvPr/>
        </p:nvPicPr>
        <p:blipFill>
          <a:blip r:embed="rId1"/>
          <a:stretch/>
        </p:blipFill>
        <p:spPr>
          <a:xfrm>
            <a:off x="39528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bad\Рабочий стол\i.jpg"/>
          <p:cNvPicPr/>
          <p:nvPr/>
        </p:nvPicPr>
        <p:blipFill>
          <a:blip r:embed="rId2"/>
          <a:stretch/>
        </p:blipFill>
        <p:spPr>
          <a:xfrm>
            <a:off x="118728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Documents and Settings\bad\Рабочий стол\i.jpg"/>
          <p:cNvPicPr/>
          <p:nvPr/>
        </p:nvPicPr>
        <p:blipFill>
          <a:blip r:embed="rId3"/>
          <a:stretch/>
        </p:blipFill>
        <p:spPr>
          <a:xfrm>
            <a:off x="212400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bad\Рабочий стол\i.jpg"/>
          <p:cNvPicPr/>
          <p:nvPr/>
        </p:nvPicPr>
        <p:blipFill>
          <a:blip r:embed="rId4"/>
          <a:stretch/>
        </p:blipFill>
        <p:spPr>
          <a:xfrm>
            <a:off x="291636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Documents and Settings\bad\Рабочий стол\images.jpg"/>
          <p:cNvPicPr/>
          <p:nvPr/>
        </p:nvPicPr>
        <p:blipFill>
          <a:blip r:embed="rId5"/>
          <a:stretch/>
        </p:blipFill>
        <p:spPr>
          <a:xfrm>
            <a:off x="395280" y="2602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Documents and Settings\bad\Рабочий стол\images.jpg"/>
          <p:cNvPicPr/>
          <p:nvPr/>
        </p:nvPicPr>
        <p:blipFill>
          <a:blip r:embed="rId6"/>
          <a:stretch/>
        </p:blipFill>
        <p:spPr>
          <a:xfrm>
            <a:off x="1763640" y="333360"/>
            <a:ext cx="144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3640" y="33300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оятность и правило произведения. Сочет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о 6 монет. Возможны варианты переклады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карман              2 карм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 5  1                     1  1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 1  5                     1  1  1  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ИЛИ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обор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 5  5                     1  1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 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/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/4 ) * 2 = 2/5 =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,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    «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   «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рмане у Пети было 4 монеты по рублю и 2 монеты по 5 руб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тя, не глядя, переложил какие-то три монеты в другой карма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вероятность того, что обе пятирублевые монеты лежат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м карма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6972-888A-4607-90D3-A52A1C93C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bad\Рабочий стол\i.jpg"/>
          <p:cNvPicPr/>
          <p:nvPr/>
        </p:nvPicPr>
        <p:blipFill>
          <a:blip r:embed="rId1"/>
          <a:stretch/>
        </p:blipFill>
        <p:spPr>
          <a:xfrm>
            <a:off x="39528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bad\Рабочий стол\i.jpg"/>
          <p:cNvPicPr/>
          <p:nvPr/>
        </p:nvPicPr>
        <p:blipFill>
          <a:blip r:embed="rId2"/>
          <a:stretch/>
        </p:blipFill>
        <p:spPr>
          <a:xfrm>
            <a:off x="118728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bad\Рабочий стол\i.jpg"/>
          <p:cNvPicPr/>
          <p:nvPr/>
        </p:nvPicPr>
        <p:blipFill>
          <a:blip r:embed="rId3"/>
          <a:stretch/>
        </p:blipFill>
        <p:spPr>
          <a:xfrm>
            <a:off x="212400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bad\Рабочий стол\i.jpg"/>
          <p:cNvPicPr/>
          <p:nvPr/>
        </p:nvPicPr>
        <p:blipFill>
          <a:blip r:embed="rId4"/>
          <a:stretch/>
        </p:blipFill>
        <p:spPr>
          <a:xfrm>
            <a:off x="291636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Documents and Settings\bad\Рабочий стол\images.jpg"/>
          <p:cNvPicPr/>
          <p:nvPr/>
        </p:nvPicPr>
        <p:blipFill>
          <a:blip r:embed="rId5"/>
          <a:stretch/>
        </p:blipFill>
        <p:spPr>
          <a:xfrm>
            <a:off x="395280" y="2602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Documents and Settings\bad\Рабочий стол\images.jpg"/>
          <p:cNvPicPr/>
          <p:nvPr/>
        </p:nvPicPr>
        <p:blipFill>
          <a:blip r:embed="rId6"/>
          <a:stretch/>
        </p:blipFill>
        <p:spPr>
          <a:xfrm>
            <a:off x="1763640" y="333360"/>
            <a:ext cx="144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груп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случайном эксперименте бросают две игральные кости. Найдите вероятность того, что в сумме выпадет 5 очков. Результат округлите до сот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реднем из 1400 садовых насосов, поступивших в продажу, 14 подтекают. Найдите вероятность того, что один случайно выбранный для контроля насос не подтек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груп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В случайном эксперименте бросают две игральные кости. Найдите вероятность того, что в сумме выпадет 6 очков. Результат округлите до сот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В среднем из 1300 садовых насосов, поступивших в продажу, 13 подтекают. Найдите вероятность того, что один случайно выбранный для контроля насос не подтек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13B5-EC4D-45F2-AA62-D66B46E740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оставить и решить по 3 задачи по данной т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№№ 282854, 282856, 285926 из открытого банка задач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heg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A1A9-45CA-4DEF-818D-199ED7F84C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3499-4ABF-49C3-BC19-598DC43B27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285840" y="35712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Эпиграф урока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714240" y="981000"/>
            <a:ext cx="8429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1214280" y="485784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1214280" y="52149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214280" y="557208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Без имени-1"/>
          <p:cNvPicPr/>
          <p:nvPr/>
        </p:nvPicPr>
        <p:blipFill>
          <a:blip r:embed="rId1"/>
          <a:stretch/>
        </p:blipFill>
        <p:spPr>
          <a:xfrm>
            <a:off x="611280" y="620640"/>
            <a:ext cx="194472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1"/>
          <p:cNvSpPr/>
          <p:nvPr/>
        </p:nvSpPr>
        <p:spPr>
          <a:xfrm>
            <a:off x="2286000" y="2351160"/>
            <a:ext cx="4572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«Число, место и комбинация – три взаимно перекрещивающиеся, но отличные сферы мышления, к которым можно отнести все математические иде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Bookman Old Style"/>
                <a:ea typeface="Arial Unicode MS"/>
              </a:rPr>
              <a:t>Дж. Сильве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ез имени-1"/>
          <p:cNvPicPr/>
          <p:nvPr/>
        </p:nvPicPr>
        <p:blipFill>
          <a:blip r:embed="rId2"/>
          <a:stretch/>
        </p:blipFill>
        <p:spPr>
          <a:xfrm>
            <a:off x="763560" y="773280"/>
            <a:ext cx="1944720" cy="180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Без имени-1"/>
          <p:cNvPicPr/>
          <p:nvPr/>
        </p:nvPicPr>
        <p:blipFill>
          <a:blip r:embed="rId3"/>
          <a:stretch/>
        </p:blipFill>
        <p:spPr>
          <a:xfrm>
            <a:off x="826920" y="765000"/>
            <a:ext cx="19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4E14-2454-45C5-AF84-2AB7BD0B1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357120" y="107172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тохастическим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опыт, если заранее нельзя предугадать его результаты. Результаты (исходы) такого опыта называются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обыт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071720" y="214308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сывается игральный кубик (опыт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ает двойка (событ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357120" y="307188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е, которое обязательно произойдет в результате испытания, называется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достовер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которое не может произойти, -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 невозмож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1143000" y="44290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шке лежат три картофе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214280" y="485784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– изъятие овоща из ме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214280" y="52149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оверное событие – изъятие картофе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214280" y="557208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е событие – изъятие каба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Без имени-1"/>
          <p:cNvPicPr/>
          <p:nvPr/>
        </p:nvPicPr>
        <p:blipFill>
          <a:blip r:embed="rId1"/>
          <a:stretch/>
        </p:blipFill>
        <p:spPr>
          <a:xfrm>
            <a:off x="7500960" y="2071800"/>
            <a:ext cx="5713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057A-720D-4B60-B874-14DF14E5C5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357120" y="1071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авновозможными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события, если в результате опыта ни одно из них не имеет большую возможность появления, чем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857160" y="214308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сывается мон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3"/>
          <p:cNvSpPr/>
          <p:nvPr/>
        </p:nvSpPr>
        <p:spPr>
          <a:xfrm>
            <a:off x="2300760" y="2428920"/>
            <a:ext cx="478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ение орла и выпадение решк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возможные соб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4"/>
          <p:cNvSpPr/>
          <p:nvPr/>
        </p:nvSpPr>
        <p:spPr>
          <a:xfrm>
            <a:off x="2292480" y="3286080"/>
            <a:ext cx="56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урне лежат три шара. Два белых и си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5"/>
          <p:cNvSpPr/>
          <p:nvPr/>
        </p:nvSpPr>
        <p:spPr>
          <a:xfrm>
            <a:off x="2290320" y="3643200"/>
            <a:ext cx="32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– извлечение ш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6"/>
          <p:cNvSpPr/>
          <p:nvPr/>
        </p:nvSpPr>
        <p:spPr>
          <a:xfrm>
            <a:off x="2286000" y="4000680"/>
            <a:ext cx="538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– извлекли синий шар и извлек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ый шар - неравновозмож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7"/>
          <p:cNvSpPr/>
          <p:nvPr/>
        </p:nvSpPr>
        <p:spPr>
          <a:xfrm>
            <a:off x="2291040" y="4643280"/>
            <a:ext cx="59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ение белого шара имеет больше шансов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634E-D25B-40DE-9763-4D4BB54A9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57120" y="1071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совместимыми  (несовместными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события, если наступление одного из них исключает наступление други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000080" y="2143080"/>
            <a:ext cx="75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 результате одного выбрасывания вып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(событие А) или решка (событие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214308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А и В - несовмес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1000080" y="3214800"/>
            <a:ext cx="75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результате двух выбрасываний вып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(событие А) или решка (событие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2143080" y="38577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А и В - совместны. Выпадение орла в первый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исключает выпадение решки во в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5445-FE78-44F2-BEEB-8AF5D21C8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357120" y="107172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Полной группой событий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множество всех событий рассматриваемого опыта, одно из которых обязательно произойдет, а любые два других несовмес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1143000" y="29289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ра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сывается  мон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3"/>
          <p:cNvSpPr/>
          <p:nvPr/>
        </p:nvSpPr>
        <p:spPr>
          <a:xfrm>
            <a:off x="2286000" y="3357720"/>
            <a:ext cx="56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рные событ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адение ор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ыпадение решки образуют полную групп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285840" y="221472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образующие полную группу называют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элементарны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81F2-8750-4516-B55A-B7C83E2CB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428760" y="1928880"/>
            <a:ext cx="84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Вероятн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лучайного события А называется отношение числа элементарных событий, которые благоприятствуют этому событию, к общему числу всех элементарных событий, входящих в данную группу 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85840" y="421488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(A) = m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392E-C7CC-4A1D-9E1D-4B0A6B19A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285840" y="357120"/>
            <a:ext cx="84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онечных множеств событий при нахожден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широко используют правила комбинатор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428760" y="221472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двузначных чисел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используя цифры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8;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цифры могут повторятьс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000080" y="32860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нном случае легко перебрать все комбин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1000080" y="3857760"/>
            <a:ext cx="78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1857240" y="3857760"/>
            <a:ext cx="78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2643120" y="3857760"/>
            <a:ext cx="78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авая фигурная скобка 14"/>
          <p:cNvSpPr/>
          <p:nvPr/>
        </p:nvSpPr>
        <p:spPr>
          <a:xfrm rot="5400000">
            <a:off x="1821600" y="4107600"/>
            <a:ext cx="500040" cy="20001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2000160"/>
              <a:gd name="textAreaBottom" fmla="*/ 198720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1285920" y="535788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вари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05C3-410C-4728-AD40-BD0AD20FE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500040" y="4287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пятизначных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используя цифры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8;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цифры могут повторятьс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857160" y="150012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идим, в этой задаче перебор довольно затруднител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авая фигурная скобка 14"/>
          <p:cNvSpPr/>
          <p:nvPr/>
        </p:nvSpPr>
        <p:spPr>
          <a:xfrm>
            <a:off x="5214960" y="2286000"/>
            <a:ext cx="500040" cy="342900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3429000"/>
              <a:gd name="textAreaBottom" fmla="*/ 341604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1"/>
                  <a:pt x="10800" y="262"/>
                </a:cubicBezTo>
                <a:lnTo>
                  <a:pt x="10800" y="10538"/>
                </a:lnTo>
                <a:cubicBezTo>
                  <a:pt x="10800" y="10669"/>
                  <a:pt x="16200" y="10800"/>
                  <a:pt x="21600" y="10800"/>
                </a:cubicBezTo>
                <a:cubicBezTo>
                  <a:pt x="16200" y="10800"/>
                  <a:pt x="10800" y="10931"/>
                  <a:pt x="10800" y="11062"/>
                </a:cubicBezTo>
                <a:lnTo>
                  <a:pt x="10800" y="21338"/>
                </a:lnTo>
                <a:cubicBezTo>
                  <a:pt x="10800" y="2146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3429000" y="178596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м задачу ина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785880" y="21430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785880" y="278604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тор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785880" y="35002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ретье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785880" y="421488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етверт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785880" y="492912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ят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3"/>
              <p:cNvSpPr txBox="1"/>
              <p:nvPr/>
            </p:nvSpPr>
            <p:spPr>
              <a:xfrm>
                <a:off x="5786280" y="3786120"/>
                <a:ext cx="2548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Прямоугольник 2"/>
          <p:cNvSpPr/>
          <p:nvPr/>
        </p:nvSpPr>
        <p:spPr>
          <a:xfrm>
            <a:off x="214200" y="585792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мбинаторное правило умн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5:30:21Z</dcterms:created>
  <dc:creator>Дятел</dc:creator>
  <dc:description/>
  <dc:language>en-US</dc:language>
  <cp:lastModifiedBy>Admin</cp:lastModifiedBy>
  <dcterms:modified xsi:type="dcterms:W3CDTF">2012-02-07T18:54:05Z</dcterms:modified>
  <cp:revision>90</cp:revision>
  <dc:subject/>
  <dc:title>Теория вероятности и комбинаторные правила для решение задачи ЕГЭ В10</dc:title>
</cp:coreProperties>
</file>