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D9D-BC34-4E25-AA6A-F8CD92F4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0BF-B614-4482-BC1F-FD3983C3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CB1-B1F0-4EE2-8C1A-70D2D7D9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830-82C6-448E-907F-46A9C8D8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D43-7C47-40F4-80A0-19CA4734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85A-E117-4AA0-B87D-F9FD6AFB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808-D743-4E81-8DB5-44A245D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A7E-42D8-4A35-87B6-E5D83EE5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5EF-117D-4CEC-9C2B-3283F936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BC3-879D-4A40-99E4-B463046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C59-96CC-4F3D-A73A-35EB728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7D0-D14B-47EA-869D-23E3B31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E5F4-C4A9-4B3C-8D49-015E85A3A6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ccff"/>
              </a:solidFill>
              <a:latin typeface="Tahoma"/>
            </a:endParaRPr>
          </a:p>
        </p:txBody>
      </p:sp>
      <p:pic>
        <p:nvPicPr>
          <p:cNvPr id="42" name="Picture 13" descr="3"/>
          <p:cNvPicPr/>
          <p:nvPr/>
        </p:nvPicPr>
        <p:blipFill>
          <a:blip r:embed="rId1"/>
          <a:stretch/>
        </p:blipFill>
        <p:spPr>
          <a:xfrm>
            <a:off x="19080" y="-3960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8"/>
          <p:cNvSpPr/>
          <p:nvPr/>
        </p:nvSpPr>
        <p:spPr>
          <a:xfrm>
            <a:off x="0" y="7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Закаливание организма и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его влияние  на здоровье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4116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468360" y="1484280"/>
            <a:ext cx="837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195640" y="333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00"/>
                </a:solidFill>
                <a:uFillTx/>
                <a:latin typeface="Tahoma"/>
              </a:rPr>
              <a:t>МОРЖЕ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370129997_tonnel"/>
          <p:cNvPicPr/>
          <p:nvPr/>
        </p:nvPicPr>
        <p:blipFill>
          <a:blip r:embed="rId2"/>
          <a:stretch/>
        </p:blipFill>
        <p:spPr>
          <a:xfrm>
            <a:off x="5724360" y="1197000"/>
            <a:ext cx="3240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716000" y="90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учка прячется за ле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отрит солнышко с небе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 такое чисто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оброе, лучист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Если б мы его дост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ы б его расцелов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altin_alan_2633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lang="ru-RU" sz="3200" spc="-1" strike="noStrike">
                <a:solidFill>
                  <a:srgbClr val="e5ffff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rcRect l="2394" t="0" r="2394" b="0"/>
          <a:stretch/>
        </p:blipFill>
        <p:spPr>
          <a:xfrm>
            <a:off x="250920" y="260280"/>
            <a:ext cx="8642160" cy="460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40000" y="4797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рогулку выход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ежим воздухом дыш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помни при уход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еваться по погод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ostrarImag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50920" y="2133720"/>
            <a:ext cx="414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1197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ahoma"/>
              </a:rPr>
              <a:t>ХОЖДЕНИЕ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ahoma"/>
              </a:rPr>
              <a:t>БОСИ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b27d5a759f3533dd97bde572cc072e39"/>
          <p:cNvPicPr/>
          <p:nvPr/>
        </p:nvPicPr>
        <p:blipFill>
          <a:blip r:embed="rId1"/>
          <a:stretch/>
        </p:blipFill>
        <p:spPr>
          <a:xfrm>
            <a:off x="6084720" y="162864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292086379_upujqyny0lik12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320" y="4292280"/>
            <a:ext cx="8821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Автор</a:t>
            </a:r>
            <a:r>
              <a:rPr b="0" lang="en-US" sz="3200" spc="-1" strike="noStrike">
                <a:solidFill>
                  <a:srgbClr val="7030a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Сафонова Антонина Иван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МОУ СОШ №1 г. Климовс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23" descr="sky&amp;fu2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588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4"/>
          <p:cNvSpPr/>
          <p:nvPr/>
        </p:nvSpPr>
        <p:spPr>
          <a:xfrm>
            <a:off x="4140360" y="-136800"/>
            <a:ext cx="47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ff00"/>
              </a:solidFill>
              <a:latin typeface="Shruti"/>
            </a:endParaRPr>
          </a:p>
        </p:txBody>
      </p:sp>
      <p:pic>
        <p:nvPicPr>
          <p:cNvPr id="49" name="Picture 7" descr="vwsupl_gk4mu8ipa42y73"/>
          <p:cNvPicPr/>
          <p:nvPr/>
        </p:nvPicPr>
        <p:blipFill>
          <a:blip r:embed="rId1"/>
          <a:stretch/>
        </p:blipFill>
        <p:spPr>
          <a:xfrm>
            <a:off x="1440" y="190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10504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ные закаливающие процедуры, а те, кто держит тело в тепле, приобретают изнеженность мышц, слабость нервов, обмороки и кровотечение.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98747_214732021_2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45200" y="-1080"/>
            <a:ext cx="76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ahoma"/>
              </a:rPr>
              <a:t>Что происходит при охлаждении тела?(купание в рек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958320"/>
            <a:ext cx="38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33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Сначала сужаются кожные сосуды, кровь отливает к внутренним органам, кожа бледне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12000" y="1074600"/>
            <a:ext cx="313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33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Учащается и усиливается сокращение сердца,    повышается артериальное давление крови ,появляется озноб, ведущий к  усилению теплопродук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_5f205_f695bd44_XL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акаливание должно быть «на грани удовольствия», т.е. не насиловать себя чрезмерными нагрузками.</a:t>
            </a: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61" name="_s1028"/>
            <p:cNvCxnSpPr>
              <a:stCxn id="62" idx="1"/>
              <a:endCxn id="63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1029"/>
            <p:cNvCxnSpPr>
              <a:stCxn id="65" idx="1"/>
              <a:endCxn id="63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1030"/>
            <p:cNvCxnSpPr>
              <a:stCxn id="67" idx="1"/>
              <a:endCxn id="63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" name="_s1031"/>
            <p:cNvCxnSpPr>
              <a:stCxn id="69" idx="1"/>
              <a:endCxn id="63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1032"/>
            <p:cNvCxnSpPr>
              <a:stCxn id="71" idx="1"/>
              <a:endCxn id="63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33"/>
            <p:cNvCxnSpPr>
              <a:stCxn id="73" idx="1"/>
              <a:endCxn id="63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4"/>
            <p:cNvCxnSpPr>
              <a:stCxn id="75" idx="1"/>
              <a:endCxn id="63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76" name="Picture 66" descr="zakalivanie"/>
          <p:cNvPicPr/>
          <p:nvPr/>
        </p:nvPicPr>
        <p:blipFill>
          <a:blip r:embed="rId2"/>
          <a:stretch/>
        </p:blipFill>
        <p:spPr>
          <a:xfrm>
            <a:off x="0" y="1125360"/>
            <a:ext cx="2700360" cy="5413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291250_normal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0" y="549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По утрам ты закаляйс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Водой холодной обливай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Будешь ты всегда здор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ffff"/>
                </a:solidFill>
                <a:latin typeface="Tahoma"/>
              </a:rPr>
              <a:t>Тут не нужно лишних сл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6" descr="3"/>
          <p:cNvPicPr/>
          <p:nvPr/>
        </p:nvPicPr>
        <p:blipFill>
          <a:blip r:embed="rId1"/>
          <a:stretch/>
        </p:blipFill>
        <p:spPr>
          <a:xfrm>
            <a:off x="-31680" y="-3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7"/>
          <p:cNvSpPr/>
          <p:nvPr/>
        </p:nvSpPr>
        <p:spPr>
          <a:xfrm>
            <a:off x="408240" y="333000"/>
            <a:ext cx="84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КУПАНИЕ В ОТКРЫТЫХ ВОДОЁМ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24000" y="1414080"/>
            <a:ext cx="8086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user</cp:lastModifiedBy>
  <dcterms:modified xsi:type="dcterms:W3CDTF">2012-02-07T16:04:52Z</dcterms:modified>
  <cp:revision>26</cp:revision>
  <dc:subject/>
  <dc:title>Закаливание организма и его влияние на здоровье человека</dc:title>
</cp:coreProperties>
</file>