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9C2-C26F-4E2A-B6F9-0C2D132E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8BE-A461-416B-8907-99291905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ED9-552B-4E15-B11B-36C7A619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DB0-269E-4F32-9C91-C7F6FA47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9BCB-F2E6-4FBB-9429-441885B0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647E-03E0-48B0-B0C6-E5BC4DEE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904B-D51A-45C8-800F-D822D4A0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305-F45C-4D3E-B695-9087E655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A7A6-DB19-4B54-BFF5-B9C8E25F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B396-CD57-4FA6-8ED1-241D97B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2075-3743-4360-B679-8BB91A2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217-ADEC-40E8-AA8D-3A66D42D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E473-A41D-476D-BD30-755724F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6632-90F1-4621-82FC-AB004C00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37C6-DC13-4168-8224-68AA7F78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0D6D-615F-4FA1-BE3C-179E5D39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120B-AD9F-4E78-820D-37339A18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7F6-8376-4165-8A49-71CED410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18D-EC68-4A60-A8F9-791352BC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6A0-64E3-459E-9094-7F56C3FB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4DA-DFA8-4110-831A-BDFE8468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AB4-0392-494B-816E-FD48FEE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4D6-FBAA-4CE7-892B-E56003B9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927-7A52-4232-B93B-715D8C2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2CBC-AACA-43F1-90AD-33F181397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2C70-F243-4FFF-A449-B6737FCF7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jpeg"/><Relationship Id="rId3" Type="http://schemas.openxmlformats.org/officeDocument/2006/relationships/hyperlink" Target="http://images.google.ru/imgres?imgurl=http://www.chelindustry.ru/images/UKVZ_zdanie1.gif&amp;imgrefurl=http://www.chelindustry.ru/view2.php%3Fidd%3D101%26rr%3D1&amp;h=187&amp;w=275&amp;sz=44&amp;hl=ru&amp;start=2&amp;um=1&amp;tbnid=AwTjFUfweJHccM:&amp;tbnh=78&amp;tbnw=114&amp;prev=/images%3Fq%3D%25D1%2583%25D1%2581%25D1%2582%25D1%258C-%25D0%25BA%25D0%25B0%25D1%2582%25D0%25B0%25D0%25B2%25D1%2581%25D0%25BA%25D0%25B8%25D0%25B9%2B%25D0%25B2%25D0%25B0%25D0%25B3%25D0%25BE%25D0%25BD%25D0%25BE%25D1%2581%25D1%2582%25D1%2580%25D0%25BE%25D0%25B8%25D1%2582%25D0%25B5%25D0%25BB%25D1%258C%25D0%25BD%25D1%258B%25D0%25B9%26ndsp%3D18%26svnum%3D10%26um%3D1%26hl%3Dru%26lr%3D%26newwindow%3D1%26sa%3DN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ages.google.ru/imgres?imgurl=http://ch-lib.ozersk.ru/general/biblio/projects/enc/prom/images/chelmetm.jpg&amp;imgrefurl=http://ch-lib.ozersk.ru/general/biblio/projects/enc/prom/recources.html&amp;h=125&amp;w=125&amp;sz=6&amp;hl=ru&amp;start=35&amp;tbnid=5uiIIla-QTB6RM:&amp;tbnh=90&amp;tbnw=90&amp;prev=/images%3Fq%3D%25D1%2587%25D0%25B5%25D0%25BB%25D1%258F%25D0%25B1%25D0%25B8%25D0%25BD%25D1%2581%25D0%25BA%25D0%25B8%25D0%25B9%2B%25D0%25BC%25D0%25B5%25D1%2582%25D0%25B0%25D0%25BB%25D0%25BB%25D1%2583%25D1%2580%25D0%25B3%25D0%25B8%25D1%2587%25D0%25B5%25D1%2581%25D0%25BA%25D0%25B8%25D0%25B9%2B%25D0%25BA%25D0%25BE%25D0%25BC%25D0%25B1%25D0%25B8%25D0%25BD%25D0%25B0%25D1%2582%26start%3D18%26gbv%3D2%26ndsp%3D18%26svnum%3D10%26hl%3Dru%26newwindow%3D1%26sa%3DN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images.google.ru/imgres?imgurl=http://www.chelgipromez.ru/pics/uploads/logo/mechel.jpg&amp;imgrefurl=http://www.chelgipromez.ru/rus/activity/customers&amp;h=131&amp;w=149&amp;sz=4&amp;hl=ru&amp;start=6&amp;tbnid=1RQF5bm3_1yVGM:&amp;tbnh=84&amp;tbnw=95&amp;prev=/images%3Fq%3D%25D1%2587%25D0%25B5%25D0%25BB%25D1%258F%25D0%25B1%25D0%25B8%25D0%25BD%25D1%2581%25D0%25BA%25D0%25B8%25D0%25B9%2B%25D0%25BC%25D0%25B5%25D1%2582%25D0%25B0%25D0%25BB%25D0%25BB%25D1%2583%25D1%2580%25D0%25B3%25D0%25B8%25D1%2587%25D0%25B5%25D1%2581%25D0%25BA%25D0%25B8%25D0%25B9%2B%25D0%25BA%25D0%25BE%25D0%25BC%25D0%25B1%25D0%25B8%25D0%25BD%25D0%25B0%25D1%2582%26gbv%3D2%26ndsp%3D18%26svnum%3D10%26hl%3Dru%26newwindow%3D1%26sa%3DN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edbook.ru/" TargetMode="External"/><Relationship Id="rId2" Type="http://schemas.openxmlformats.org/officeDocument/2006/relationships/hyperlink" Target="http://ru.wikipedia.org/wiki/&#1063;%25" TargetMode="External"/><Relationship Id="rId3" Type="http://schemas.openxmlformats.org/officeDocument/2006/relationships/hyperlink" Target="http://wgeo.ru/russia/reg74.shtml" TargetMode="External"/><Relationship Id="rId4" Type="http://schemas.openxmlformats.org/officeDocument/2006/relationships/hyperlink" Target="http://images.google.ru/images?hl=ru&amp;q=%25" TargetMode="External"/><Relationship Id="rId5" Type="http://schemas.openxmlformats.org/officeDocument/2006/relationships/hyperlink" Target="http://www.google.ru/search?hl=ru&amp;q=%D1%25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лябинская обла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р: 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ОУ «СОШ № 67» города Магнитогор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лябинской обла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.С. Серёг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герб Челябинской области"/>
          <p:cNvPicPr/>
          <p:nvPr/>
        </p:nvPicPr>
        <p:blipFill>
          <a:blip r:embed="rId1"/>
          <a:stretch/>
        </p:blipFill>
        <p:spPr>
          <a:xfrm>
            <a:off x="3635280" y="3429000"/>
            <a:ext cx="197640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8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8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рная и цветная металл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06480" y="1600200"/>
            <a:ext cx="3138480" cy="2189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АО «Магнитогор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таллургиче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бина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АО «Челябинский Металлургический Комбина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00" y="60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8164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16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ашиностроение и металлообработ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1280" y="4005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ОО «Челябин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акто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вод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16000" y="400500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 ФГУП  «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ь-Катавский вагоностроительный завод имени С. М. Киров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2844720" cy="2062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628640"/>
            <a:ext cx="266400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АО ЧМ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АО ЧМК – гордость российской истории металлургии, он внес немалую лепту в создание обороноспособности стра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3356280"/>
            <a:ext cx="35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елябинский металлургический комбинат входит в состав ОАО "Мечел", одной из ведущих российских компаний в металлургической и горнодобывающей отрасл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871640" cy="170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437000"/>
            <a:ext cx="194472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2360" y="3213000"/>
            <a:ext cx="1439640" cy="107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388360" y="6237360"/>
            <a:ext cx="538200" cy="3585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2411" h="21600">
                <a:moveTo>
                  <a:pt x="0" y="0"/>
                </a:moveTo>
                <a:lnTo>
                  <a:pt x="32411" y="0"/>
                </a:lnTo>
                <a:lnTo>
                  <a:pt x="32411" y="21600"/>
                </a:lnTo>
                <a:lnTo>
                  <a:pt x="0" y="21600"/>
                </a:lnTo>
                <a:close/>
              </a:path>
              <a:path fill="lightenLess" w="32411" h="21600">
                <a:moveTo>
                  <a:pt x="0" y="0"/>
                </a:moveTo>
                <a:lnTo>
                  <a:pt x="32411" y="0"/>
                </a:lnTo>
                <a:lnTo>
                  <a:pt x="31011" y="1400"/>
                </a:lnTo>
                <a:lnTo>
                  <a:pt x="1400" y="1400"/>
                </a:lnTo>
                <a:close/>
              </a:path>
              <a:path fill="darken" w="32411" h="21600">
                <a:moveTo>
                  <a:pt x="32411" y="0"/>
                </a:moveTo>
                <a:lnTo>
                  <a:pt x="32411" y="21600"/>
                </a:lnTo>
                <a:lnTo>
                  <a:pt x="31011" y="20200"/>
                </a:lnTo>
                <a:lnTo>
                  <a:pt x="31011" y="1400"/>
                </a:lnTo>
                <a:close/>
              </a:path>
              <a:path fill="darkenLess" w="32411" h="21600">
                <a:moveTo>
                  <a:pt x="32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1" y="20200"/>
                </a:lnTo>
                <a:close/>
              </a:path>
              <a:path fill="lighten" w="32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1" h="21600">
                <a:moveTo>
                  <a:pt x="9199" y="10800"/>
                </a:moveTo>
                <a:lnTo>
                  <a:pt x="23212" y="3794"/>
                </a:lnTo>
                <a:lnTo>
                  <a:pt x="2321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АО ММ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АО «Магнитогорский металлургический комбинат» является крупнейшим предприятием чёрной металлургии России, его доля в объёме металлопродукции реализуемой на внутреннем рынке страны достигает 20%. Комбинат занимает первое место среди металлургических предприятий России по объемам производства и традиционно входит в двадцатку крупнейших сталелитейных компаний ми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388360" y="6308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10800"/>
                </a:moveTo>
                <a:lnTo>
                  <a:pt x="20987" y="3794"/>
                </a:lnTo>
                <a:lnTo>
                  <a:pt x="2098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2087640" cy="2017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948360" y="2781360"/>
            <a:ext cx="171468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9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елябинский Тракторный Завод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машиностроитель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в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о разработке и производству промышленных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актор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бульдозеров, трубоукладчиков, погрузчиков, минитракторов, двигателей к ним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годы ВОВ завод производил танк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77080" y="1628640"/>
            <a:ext cx="1798560" cy="1417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1801800" cy="14382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8604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8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80"/>
                            </p:stCondLst>
                            <p:childTnLst>
                              <p:par>
                                <p:cTn id="4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8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08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сть – катавский вагоностроительный завод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007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снован в 1758 году. Завод строит трамваи с 1901 го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944720" cy="1533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56000" y="4797360"/>
            <a:ext cx="2232000" cy="1513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59280" y="2490840"/>
            <a:ext cx="3888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роме трамваев завод изготавливает газорегулирующее оборудование, трубопроводную арматуру, насосы, товары народного потребления, а также выполняет оборонные заказы, в частности, производит маневровые космические двигател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908000" y="3141720"/>
            <a:ext cx="1562400" cy="1571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459640" y="63817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сточн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redbook.ru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http://ru.wikipedia.org/wiki/%D0%A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http://wgeo.ru/russia/reg74.s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http://images.google.ru/images?hl=ru&amp;q=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http://www.google.ru/search?hl=ru&amp;q=%D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держ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Крупные гор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Природные заповедники и пар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отрасли промышл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еографическое полож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лябинская область — южная часть Урала. Условная граница между Европой и Азией проводится в основном по водораздельным хребтам Уральских гор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карта Челябинской области"/>
          <p:cNvPicPr/>
          <p:nvPr/>
        </p:nvPicPr>
        <p:blipFill>
          <a:blip r:embed="rId1"/>
          <a:stretch/>
        </p:blipFill>
        <p:spPr>
          <a:xfrm>
            <a:off x="0" y="1341360"/>
            <a:ext cx="2484360" cy="316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03640" y="3357000"/>
            <a:ext cx="33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лощадь Челябинской области  равна 88,5 тысяч кв.км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раничит с Башкирией, Свердловской, Курганской, Оренбургской областями, Казахстаном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лавные реки - Урал, Миасс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2549520" cy="30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17080" y="616572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2160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лябинс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34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лябинск – крупнейший центр металлургии, машиностроения и металлообработки, легкой и пищевой промышленности. Население более 1 миллиона человек. Большое значение имел Челябинск во время ВОВ, как тыловой город. Является административным центром Челябинской области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Челябинск"/>
          <p:cNvPicPr/>
          <p:nvPr/>
        </p:nvPicPr>
        <p:blipFill>
          <a:blip r:embed="rId2"/>
          <a:stretch/>
        </p:blipFill>
        <p:spPr>
          <a:xfrm>
            <a:off x="2627280" y="3976560"/>
            <a:ext cx="3600360" cy="2200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Челяюинский пруд"/>
          <p:cNvPicPr/>
          <p:nvPr/>
        </p:nvPicPr>
        <p:blipFill>
          <a:blip r:embed="rId3"/>
          <a:stretch/>
        </p:blipFill>
        <p:spPr>
          <a:xfrm>
            <a:off x="365040" y="3933720"/>
            <a:ext cx="168444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Церковь"/>
          <p:cNvPicPr/>
          <p:nvPr/>
        </p:nvPicPr>
        <p:blipFill>
          <a:blip r:embed="rId4"/>
          <a:stretch/>
        </p:blipFill>
        <p:spPr>
          <a:xfrm>
            <a:off x="6732720" y="3933720"/>
            <a:ext cx="1855800" cy="237492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8604360" y="6453360"/>
            <a:ext cx="323640" cy="40464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Магнитогорск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агнитогорск, город в Челябинской области с населением 425 тыс. чел., расположен на р.Урал. Основан в 1929 г. в связи со строительством Магнитогорского металлургического комбината, статус города приобрел в 1931 г. Современный Магнитогорск - один из крупнейших центров металлургической промышленности Рос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3217680" cy="252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2400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латоус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1815 году здесь была построена оружейная фабрика (производилось холодное оружие) в 1857 — сталелитейная фабрика (были отлиты первые в России стальные пушк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начала XIX века Златоуст — центр художественной гравюры на металл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59280" y="1224000"/>
            <a:ext cx="3457800" cy="2397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932360" y="3809880"/>
            <a:ext cx="3384720" cy="2335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льменский заповедни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щадь заповедника 30,3 тыс. га. Организован как минералогический. С 1935г. Преобразован в комплексный для сохранения минеральных богатств, флоры и фауны. В заповеднике обнаружено более 200 минералов,  произрастает более 1200 видов растений, обитает более 240 видов позвоночных. Открыто около 50 стоянок древнего челов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240000" cy="23032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8604360" y="645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10800"/>
                </a:moveTo>
                <a:lnTo>
                  <a:pt x="21460" y="3794"/>
                </a:lnTo>
                <a:lnTo>
                  <a:pt x="2146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flipH="1">
            <a:off x="4789440" y="3844080"/>
            <a:ext cx="36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2880" y="1628640"/>
            <a:ext cx="2828880" cy="2592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779640" y="1484280"/>
            <a:ext cx="4989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территории национального парка «Таганай» находятся старинные минеральные копи, богатства которых представлены в коллекциях многих минералогических музеев как в России, так и за ее предел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агана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28800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2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32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2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ркаи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0" y="1599840"/>
            <a:ext cx="442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изован 19 апреля 1991г.  Площадь 3,76 тыс. га. Заповедник Аркаим – один из районов «Страны городов» , остатки одной из древнейших цивилизаций на планете (XVII-XVI века до н.э.), представляет огромную ценность для отечественной и мировой науки. В границах заповедника сохранились редкие виды растений и живот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25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700"/>
                            </p:stCondLst>
                            <p:childTnLst>
                              <p:par>
                                <p:cTn id="3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200"/>
                            </p:stCondLst>
                            <p:childTnLst>
                              <p:par>
                                <p:cTn id="3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3:04:36Z</dcterms:created>
  <dc:creator>user</dc:creator>
  <dc:description/>
  <dc:language>en-US</dc:language>
  <cp:lastModifiedBy>Таня</cp:lastModifiedBy>
  <dcterms:modified xsi:type="dcterms:W3CDTF">2012-02-03T15:59:59Z</dcterms:modified>
  <cp:revision>48</cp:revision>
  <dc:subject/>
  <dc:title>Челябинская область</dc:title>
</cp:coreProperties>
</file>