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0BE4-AE9E-4E07-B427-C692FF99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8459-331A-492F-8B4E-6978BB72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A03F-0621-4B34-B36B-14AE2BAA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1B1B-95C9-4EEA-9867-716B6824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2EC4-EE0D-49D1-8FEA-F2C4CBF3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A505-162F-4953-A28E-0652E0F8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B361-3F88-4C3F-AE4A-6C9CBE02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8EEE-417D-4B12-9803-1366FE4A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A7F5-200B-4D8C-A632-97968520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FACC-7096-4DC1-8B38-7BDAD793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5801-24D3-41ED-85FC-02C5990C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7631-CFEB-4765-A61C-46B98A30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A888-2A50-4A6F-B3E6-06C43E82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4CC5-1301-49EF-969D-2B7FE175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8860-D996-4946-98A0-367B9610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5706-B81E-4809-B9DC-A2C7D8B9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5F36-85B1-4C97-9B6E-64D6DCB0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EC9D4-9373-447A-9BD4-7E35B2F4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494AC-7AF6-46DF-A4CC-936E6773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B9D245-24F6-40EA-92A0-30A2AAB3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4044D-047A-4D95-B2C7-BDED042A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17589-8856-45B5-AEB2-9B6B5CD9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A98A-F4E8-4FC9-94BA-6BEB901A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76A2C-02A0-4AB6-8DB9-345E72CE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6995B-1BA5-405C-9A7E-FF6C3647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94159-58A8-43D7-9028-547C0401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587A6-E350-4066-A34A-C55D3714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0B37D-EA34-444F-9947-31DDC516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A2CFF5-C58F-496A-87E2-35F64055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A90B2-AE96-4C13-92BC-5D23FF38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9C0FC-E5C2-4003-8A63-EEDC1D3A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FEB65-0DAF-47CA-9789-A6FE72C6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CAC04-7605-4048-8CE5-E4EDAA1C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263C-D507-4BBD-B3CF-2EEF5F35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497F4-79BD-4DA7-97B7-A4D8B153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05DA6-FE9D-40B3-9C65-7B57E285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971DD-1ED9-4D98-AE4D-2C276134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009B1-7552-4F18-8E3E-9A44F87C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8314E-41F2-4FAF-A946-EDFA48E2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F0F84-4633-4129-B1AF-6F6B7EC3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1C191-F0A7-43CD-82E2-900931C7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AE6B5-6DE3-4C3D-88B3-04DD6516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7B29E-293E-450B-8CE9-F3B4A110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509F0A-155B-4E14-B0DC-EAE8227C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852B-5544-4EA0-A4C0-5E9DC7E4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2A862C-1A13-412B-82EE-2048A3E4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F66E10-0D70-4F42-BE4E-9E85C895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BF5914-279B-456A-B7B7-B04701C4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945BEC-FAD1-4BBD-BA0E-709C611D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E5C140-D7E5-4CAD-AE9C-44E3131B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CB42A7-20A0-4517-8FF9-BC8967BF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92D940-A559-4031-9719-4ED49AEB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242535-69E5-4D24-BF85-DAB40AEB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B1523B-6D9C-4005-9C36-24A0BF88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38F813-7476-4944-B75C-C4037113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4D2-DC94-4039-907B-3BF1455A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70AF5B-7993-454D-BFA5-B8166D8D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8B7310-7B42-4B98-9965-D39E764F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5DD6E8-26D1-4084-ABC0-342959D1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E58F6E-E28C-4FC6-866C-357108F8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AF0031-EEEA-484F-B132-D1D42BB1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94300F-B7C6-4A53-BFD4-A69E361E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04218A-A896-4E37-B2E3-A9D0003B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ECFEBB-7A0D-4C45-8EB1-2F302536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D88421-B51E-4A75-9EC3-BEED8A94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8231BF-88AA-43D0-BC59-E4B53BA1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56D-0279-44FF-ADDF-A29191E7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8E2A76-4581-47C9-B564-9F7707B0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14850D-047B-46A8-BE5D-05B0CA40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F0C3CA-CFFD-400C-90B6-EEF1D196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DE1F7A-8220-4B9C-A993-C43DE2BA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02B8C2-27D1-4D0A-9385-D720CE66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0117F5-25B8-43BD-AAA6-9CA30B54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413D34-3DE1-4AA1-B9ED-C353796C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9D4707-D56D-4D9E-91B2-E6E533C7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3E2F87-2A37-4016-819D-9FAE218F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42C09E-CDBF-4B96-9320-60637590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372F-6E17-4C38-9700-6F52AECC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4FB8BF-89F7-4E8A-8E7F-F0A99543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E5F9A7-8A67-45DE-A92F-6779BAE6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2F0D65-8168-4156-A606-0DFDFB56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EC3757-529C-4484-97F0-4D2DFB48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982797-3393-4CDF-9FC8-7A43F9A3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4279-0A08-4299-AF47-9C242F72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449A-1E9B-47A9-9C04-A1FF6C61582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897A-906B-4A5C-B14B-4996432DE2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2131-7032-4925-868E-C1AC9D13FFB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4D7E-58ED-4D01-BBA7-860D5B5E65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CECD-13AC-4016-BB7E-3E66589520B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2E94-CB93-4821-9DF8-CF1FB6A0FE2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8F94-42B1-4497-99EC-59DA8C1FC47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9900ff"/>
                </a:solidFill>
                <a:latin typeface="Century Schoolbook"/>
              </a:rPr>
              <a:t>БАЛЕТ</a:t>
            </a:r>
            <a:endParaRPr b="0" lang="en-US" sz="1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539640" y="2708280"/>
            <a:ext cx="7467840" cy="39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Century Schoolbook"/>
              </a:rPr>
              <a:t>БАЛЕТ</a:t>
            </a:r>
            <a:endParaRPr b="0" lang="en-US" sz="1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91440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ff"/>
                </a:solidFill>
                <a:latin typeface="Century Schoolbook"/>
              </a:rPr>
              <a:t>Кое-что о балете…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4745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9745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3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1745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0920" y="1915920"/>
            <a:ext cx="382896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Century Schoolbook"/>
              </a:rPr>
              <a:t>ПЕРВАЯ ПАЧКА    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БЫЛА СДЕЛАНА    В 1839 Г.                  ДЛЯ                </a:t>
            </a:r>
            <a:r>
              <a:rPr b="1" lang="en-US" sz="2700" spc="-1" strike="noStrike" u="sng">
                <a:solidFill>
                  <a:srgbClr val="575f6d"/>
                </a:solidFill>
                <a:uFillTx/>
                <a:latin typeface="Century Schoolbook"/>
              </a:rPr>
              <a:t>МАРИИ ТАЛЬОНИ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ПО РИСУНКУ ХУДОЖНИКА </a:t>
            </a:r>
            <a:r>
              <a:rPr b="1" lang="en-US" sz="2700" spc="-1" strike="noStrike" u="sng">
                <a:solidFill>
                  <a:srgbClr val="575f6d"/>
                </a:solidFill>
                <a:uFillTx/>
                <a:latin typeface="Century Schoolbook"/>
              </a:rPr>
              <a:t>ЭЖЕН ЛАМИ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Содержимое 3" descr="180px-AnnaPavlovaAsGiselle.jpg"/>
          <p:cNvPicPr/>
          <p:nvPr/>
        </p:nvPicPr>
        <p:blipFill>
          <a:blip r:embed="rId1"/>
          <a:stretch/>
        </p:blipFill>
        <p:spPr>
          <a:xfrm>
            <a:off x="4214880" y="333360"/>
            <a:ext cx="4500360" cy="6310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Century Schoolbook"/>
              </a:rPr>
              <a:t>ПУА́НТЫ</a:t>
            </a:r>
            <a:br>
              <a:rPr sz="2600"/>
            </a:br>
            <a:r>
              <a:rPr b="0" lang="en-US" sz="2600" spc="-1" strike="noStrike">
                <a:solidFill>
                  <a:srgbClr val="575f6d"/>
                </a:solidFill>
                <a:latin typeface="Century Schoolbook"/>
              </a:rPr>
              <a:t>— ОБУВЬ, КОТОРАЯ ИСПОЛЬЗУЕТСЯ ПРИ ИСПОЛНЕНИИ ЖЕНСКОГО КЛАССИЧЕСКОГО ТАНЦА.</a:t>
            </a:r>
            <a:br>
              <a:rPr sz="2600"/>
            </a:b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Содержимое 8" descr="cac07e3670a4c84471d01b79cf497bc8.jpg"/>
          <p:cNvPicPr/>
          <p:nvPr/>
        </p:nvPicPr>
        <p:blipFill>
          <a:blip r:embed="rId1"/>
          <a:stretch/>
        </p:blipFill>
        <p:spPr>
          <a:xfrm>
            <a:off x="2050920" y="2060640"/>
            <a:ext cx="4738680" cy="4557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8637"/>
                </a:solidFill>
                <a:latin typeface="Century Schoolbook"/>
              </a:rPr>
              <a:t>Слово ПУАНТЫ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0755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оявилось от французского </a:t>
            </a:r>
            <a:r>
              <a:rPr b="1" lang="ru-RU" sz="3600" spc="-1" strike="noStrike" u="sng">
                <a:solidFill>
                  <a:srgbClr val="9900ff"/>
                </a:solidFill>
                <a:uFillTx/>
                <a:latin typeface="Century Schoolbook"/>
              </a:rPr>
              <a:t>pointe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— острие, кончик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Century Schoolbook"/>
              </a:rPr>
              <a:t>Танец на пуантах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- танец на кончиках пальцев при вытянутом подъеме ноги; одно из средств выразительности классического танца. Исполняется в специальных туфлях — пуантах с твердым носком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60560" y="-531720"/>
            <a:ext cx="415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ПУАНТЫ ИМЕЮТ ТВЕРДЫЙ НОСОК, ИЗГОТАВЛИВАЮТСЯ ИЗ КОЖИ И ПРОПИТЫВАЮТСЯ СПЕЦИАЛЬНОЙ ПРОПИТКОЙ ДЛЯ ПРИДАНИЯ ТВЕРДОСТИ, ЗАТЕМ ОБШИВАЮТСЯ РОЗОВЫМ ИЛИ БЕЖЕВЫМ АТЛАСОМ И ЗАКРЕПЛЯЮТСЯ ЛЕНТАМИ НА НОГЕ ТАНЦОВЩИЦЫ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0" name="Содержимое 3" descr="299087c04ade.jpg"/>
          <p:cNvPicPr/>
          <p:nvPr/>
        </p:nvPicPr>
        <p:blipFill>
          <a:blip r:embed="rId1"/>
          <a:stretch/>
        </p:blipFill>
        <p:spPr>
          <a:xfrm>
            <a:off x="285840" y="214200"/>
            <a:ext cx="4214880" cy="6143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Содержимое 3" descr="En_pointe_ballet_dancer_closeup.jpg"/>
          <p:cNvPicPr/>
          <p:nvPr/>
        </p:nvPicPr>
        <p:blipFill>
          <a:blip r:embed="rId1"/>
          <a:srcRect l="0" t="0" r="3779" b="0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219280" y="-387360"/>
            <a:ext cx="3745080" cy="62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КОНСТРУКЦИЯ ПУАНТОВ СПОСОБСТВУЕТ ДОСТИЖЕНИЮ УСТОЙЧИВОСТИ ТАНЦОВЩИЦЫ НА ОПОРНОЙ НОГЕ В ПОЗАХ КЛАССИЧЕСКОГО ТАНЦА. ПО МЕРЕ ИНТЕНСИВНОСТИ ТАНЦА ТВЕРДЫЕ НОСКИ ТУФЕЛЬ РАЗМЯГЧАЮТСЯ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Содержимое 3" descr="200px-Duet_en_Pointe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00720" y="-1008000"/>
            <a:ext cx="4572000" cy="72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ЗА ОДИН СПЕКТАКЛЬ БАЛЕРИНА МОЖЕТ СМЕНИТЬ НЕСКОЛЬКО ПАР ПУАНТОВ. БАЛЕРИНА, ДО ТОГО КАК ОНА БУДЕТ ТАНЦЕВАТЬ НА ПАЛЬЦЕВЫХ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ТУФЛЯХ, ДОЛЖНА РАЗОГРЕТЬ НОГИ И САМИ ТУФЛИ. ИНАЧЕ В ХУДШЕМ СЛУЧАЕ ТАНЦОВЩИЦА МОЖЕТ ДАЖЕ СЛОМАТЬ НОГИ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Содержимое 3" descr="142065612145b75b22a5e58.jpg"/>
          <p:cNvPicPr/>
          <p:nvPr/>
        </p:nvPicPr>
        <p:blipFill>
          <a:blip r:embed="rId1"/>
          <a:srcRect l="11181" t="0" r="3701" b="0"/>
          <a:stretch/>
        </p:blipFill>
        <p:spPr>
          <a:xfrm>
            <a:off x="4357800" y="0"/>
            <a:ext cx="4390920" cy="685800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3840" y="404640"/>
            <a:ext cx="41418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n-US" sz="4000" spc="-1" strike="noStrike">
                <a:solidFill>
                  <a:srgbClr val="9900ff"/>
                </a:solidFill>
                <a:latin typeface="Century Schoolbook"/>
              </a:rPr>
              <a:t>КОЛГОТКИ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— ПРЕДМЕТ МУЖСКОЙ И ЖЕНСКОЙ ОДЕЖДЫ. ИЗГОТАВЛИВАЕТСЯ ИЗ РАЗЛИЧНЫХ ЭЛАСТИЧНЫХ МАТЕРИАЛОВ: </a:t>
            </a:r>
            <a:r>
              <a:rPr b="1" lang="en-US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ШЁЛКА</a:t>
            </a: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, </a:t>
            </a:r>
            <a:br>
              <a:rPr sz="2800"/>
            </a:br>
            <a:r>
              <a:rPr b="1" lang="en-US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НЕЙЛОНА</a:t>
            </a: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, </a:t>
            </a:r>
            <a:r>
              <a:rPr b="1" lang="en-US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СПАНДЕКСА</a:t>
            </a: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, </a:t>
            </a:r>
            <a:r>
              <a:rPr b="1" lang="en-US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ЛАЙКРЫ</a:t>
            </a: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76160" y="-1717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2611c"/>
                </a:solidFill>
                <a:latin typeface="Century Schoolbook"/>
              </a:rPr>
              <a:t>Слово КОЛГОТКИ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0" y="981000"/>
            <a:ext cx="8748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явилось от чешского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entury Schoolbook"/>
              </a:rPr>
              <a:t>kalhoty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— штаны, брюк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Колготами стали называть  чулки-рейтузы из шерсти, хлопка или синтетических материало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редназначались в основном для женщин и детей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ервые колготки появились в России в нач. 1960-х гг. из Чехословаки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Очень хорошо колготки прижились и в балет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79930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Узнали о балете мы немало,</a:t>
            </a:r>
            <a:br>
              <a:rPr sz="3200"/>
            </a:b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Балет для нас как будто бы </a:t>
            </a: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charmа</a:t>
            </a:r>
            <a:r>
              <a:rPr b="1" lang="en-US" sz="3200" spc="-1" strike="noStrike">
                <a:solidFill>
                  <a:srgbClr val="575f6d"/>
                </a:solidFill>
                <a:latin typeface="Century Schoolbook"/>
              </a:rPr>
              <a:t>n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Желаем вам узнать гораздо больше,</a:t>
            </a:r>
            <a:br>
              <a:rPr sz="3200"/>
            </a:b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Как будто вы уже </a:t>
            </a:r>
            <a:r>
              <a:rPr b="1" lang="ru-RU" sz="3200" spc="-1" strike="noStrike">
                <a:solidFill>
                  <a:srgbClr val="d2611c"/>
                </a:solidFill>
                <a:latin typeface="Century Schoolbook"/>
              </a:rPr>
              <a:t>БАЛЕТОМАН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!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94920" y="3645000"/>
            <a:ext cx="7467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БАЛЕТОМАН (образовалось из двух слов: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балет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и греческого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mania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— безумие, восторженность, страсть) -  любитель балета и постоянный его посетитель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80"/>
                            </p:stCondLst>
                            <p:childTnLst>
                              <p:par>
                                <p:cTn id="2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80"/>
                            </p:stCondLst>
                            <p:childTnLst>
                              <p:par>
                                <p:cTn id="2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1" fill="hold"/>
                                        <p:tgtEl>
                                          <p:spTgt spid="3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74760" y="692280"/>
            <a:ext cx="82296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ЭТО СЦЕНИЧЕСКОЕ  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ПРЕДСТАВЛЕНИЕ, В КОТОРОМ ВСЕ 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СОБЫТИЯ, ХАРАКТЕРЫ, МЫСЛИ И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 ПОСТУПКИ ПЕРСОНАЖЕЙ 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ПЕРЕДАЮТСЯ С ПОМОЩЬЮ 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ПЛАСТИЧЕСКОГО ДВИЖЕНИЯ — 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d2611c"/>
                </a:solidFill>
                <a:latin typeface="Century Schoolbook"/>
              </a:rPr>
              <a:t>ТАНЦА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7" name="Содержимое 4" descr="sm_fileyXfZrd.jpg"/>
          <p:cNvPicPr/>
          <p:nvPr/>
        </p:nvPicPr>
        <p:blipFill>
          <a:blip r:embed="rId1"/>
          <a:stretch/>
        </p:blipFill>
        <p:spPr>
          <a:xfrm>
            <a:off x="714240" y="3500280"/>
            <a:ext cx="7000920" cy="31435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78920" y="3068640"/>
            <a:ext cx="374508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БАЛЕТ ЗАРОДИЛСЯ В ИТАЛИИ                  </a:t>
            </a:r>
            <a:r>
              <a:rPr b="1" lang="en-US" sz="2700" spc="-1" strike="noStrike" u="sng">
                <a:solidFill>
                  <a:srgbClr val="9900ff"/>
                </a:solidFill>
                <a:uFillTx/>
                <a:latin typeface="Century Schoolbook"/>
              </a:rPr>
              <a:t>В 16 ВЕКЕ 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КАК ОБЪЕДИНЁННАЯ ЕДИНЫМ ДЕЙСТВИЕМ ИЛИ НАСТРОЕНИЕМ ТАНЦЕВАЛЬНАЯ СЦЕНКА, ЭПИЗОД В МУЗЫКАЛЬНОМ ПРЕДСТАВЛЕНИИ, ОПЕРЕ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316400" y="189000"/>
            <a:ext cx="440856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24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Содержимое 3" descr="sm_fileyXfZrd.jpg"/>
          <p:cNvPicPr/>
          <p:nvPr/>
        </p:nvPicPr>
        <p:blipFill>
          <a:blip r:embed="rId1"/>
          <a:stretch/>
        </p:blipFill>
        <p:spPr>
          <a:xfrm>
            <a:off x="900000" y="1989000"/>
            <a:ext cx="7272360" cy="4626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МУЗЫКАЛЬНУЮ ОСНОВУ ПЕРВЫХ БАЛЕТОВ СОСТАВЛЯЛИ </a:t>
            </a:r>
            <a:r>
              <a:rPr b="1" lang="en-US" sz="3000" spc="-1" strike="noStrike">
                <a:solidFill>
                  <a:srgbClr val="9900ff"/>
                </a:solidFill>
                <a:latin typeface="Century Schoolbook"/>
              </a:rPr>
              <a:t>НАРОДНЫЕ И ПРИДВОРНЫЕ ТАНЦЫ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, ВХОДИВШИЕ В СТАРИННУЮ СЮИТУ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Содержимое 3" descr="article_image-image-article.jpg"/>
          <p:cNvPicPr/>
          <p:nvPr/>
        </p:nvPicPr>
        <p:blipFill>
          <a:blip r:embed="rId1"/>
          <a:stretch/>
        </p:blipFill>
        <p:spPr>
          <a:xfrm>
            <a:off x="-541440" y="0"/>
            <a:ext cx="1022688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15800"/>
            <a:ext cx="822960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ВО ВТОРОЙ ПОЛОВИНЕ 17 ВЕКА ПОЯВЛЯЮТСЯ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Century Schoolbook"/>
              </a:rPr>
              <a:t>НОВЫЕ ТЕАТРАЛЬНЫЕ ЖАНРЫ</a:t>
            </a: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, ТАКИЕ КАК </a:t>
            </a:r>
            <a:r>
              <a:rPr b="1" lang="en-US" sz="3000" spc="-1" strike="noStrike">
                <a:solidFill>
                  <a:srgbClr val="ff00ff"/>
                </a:solidFill>
                <a:latin typeface="Century Schoolbook"/>
              </a:rPr>
              <a:t>КОМЕДИЯ-БАЛЕТ</a:t>
            </a: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, </a:t>
            </a:r>
            <a:r>
              <a:rPr b="1" lang="en-US" sz="3000" spc="-1" strike="noStrike">
                <a:solidFill>
                  <a:srgbClr val="ff00ff"/>
                </a:solidFill>
                <a:latin typeface="Century Schoolbook"/>
              </a:rPr>
              <a:t>ОПЕРА-БАЛЕ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11280" y="691920"/>
            <a:ext cx="444492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В РОССИИ ПЕРВЫЙ БАЛЕТНЫЙ СПЕКТАКЛЬ СОСТОЯЛСЯ               </a:t>
            </a:r>
            <a:r>
              <a:rPr b="1" lang="en-US" sz="3000" spc="-1" strike="noStrike" u="sng">
                <a:solidFill>
                  <a:srgbClr val="9900ff"/>
                </a:solidFill>
                <a:uFillTx/>
                <a:latin typeface="Century Schoolbook"/>
              </a:rPr>
              <a:t>8 ФЕВРАЛЯ 1673 Г.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ПРИ ДВОРЕ ЦАРЯ АЛЕКСЕЯ МИХАЙЛОВИЧА В ПОДМОСКОВНОМ СЕЛЕ ПРЕОБРАЖЕНСКО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Содержимое 3" descr="3360-2.jpg"/>
          <p:cNvPicPr/>
          <p:nvPr/>
        </p:nvPicPr>
        <p:blipFill>
          <a:blip r:embed="rId1"/>
          <a:stretch/>
        </p:blipFill>
        <p:spPr>
          <a:xfrm>
            <a:off x="214200" y="333360"/>
            <a:ext cx="3857760" cy="5975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2611c"/>
                </a:solidFill>
                <a:latin typeface="Century Schoolbook"/>
              </a:rPr>
              <a:t>БАЛЕРИНА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От итальянского </a:t>
            </a:r>
            <a:r>
              <a:rPr b="1" lang="ru-RU" sz="3600" spc="-1" strike="noStrike">
                <a:solidFill>
                  <a:srgbClr val="9900ff"/>
                </a:solidFill>
                <a:latin typeface="Century Schoolbook"/>
              </a:rPr>
              <a:t>ballerina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От позднелатинского </a:t>
            </a:r>
            <a:r>
              <a:rPr b="1" lang="ru-RU" sz="3600" spc="-1" strike="noStrike">
                <a:solidFill>
                  <a:srgbClr val="9900ff"/>
                </a:solidFill>
                <a:latin typeface="Century Schoolbook"/>
              </a:rPr>
              <a:t>ballo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— танцую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2611c"/>
                </a:solidFill>
                <a:latin typeface="Century Schoolbook"/>
              </a:rPr>
              <a:t>Балерина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- танцовщица в балетной труппе. Термин появился во второй половине 19 век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4674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ff"/>
                </a:solidFill>
                <a:latin typeface="Century Schoolbook"/>
              </a:rPr>
              <a:t>ЧТО ОДЕВАЮТ БАЛЕРИНЫ?</a:t>
            </a: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576000"/>
            <a:ext cx="39956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Century Schoolbook"/>
              </a:rPr>
              <a:t>ПАЧКА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—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КОРОТКАЯ, ПЫШНАЯ, МНОГОСЛОЙНАЯ, ЖЁСТКАЯ </a:t>
            </a:r>
            <a:br>
              <a:rPr sz="3000"/>
            </a:br>
            <a:r>
              <a:rPr b="1" lang="en-US" sz="3000" spc="-1" strike="noStrike" u="sng">
                <a:solidFill>
                  <a:srgbClr val="575f6d"/>
                </a:solidFill>
                <a:uFillTx/>
                <a:latin typeface="Century Schoolbook"/>
              </a:rPr>
              <a:t>ЮБКА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, ИСПОЛЬЗУЕМАЯ В БАЛЕТЕ ДЛЯ ТАНЦОВЩИЦ.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1" name="" descr="Файл:Snowdance.jpg"/>
          <p:cNvPicPr/>
          <p:nvPr/>
        </p:nvPicPr>
        <p:blipFill>
          <a:blip r:embed="rId1"/>
          <a:srcRect l="26518" t="33018" r="5301" b="0"/>
          <a:stretch/>
        </p:blipFill>
        <p:spPr>
          <a:xfrm>
            <a:off x="3740040" y="0"/>
            <a:ext cx="5153040" cy="68580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5:28:14Z</dcterms:created>
  <dc:creator>Andrey</dc:creator>
  <dc:description/>
  <dc:language>en-US</dc:language>
  <cp:lastModifiedBy>1</cp:lastModifiedBy>
  <dcterms:modified xsi:type="dcterms:W3CDTF">2009-05-05T01:51:30Z</dcterms:modified>
  <cp:revision>22</cp:revision>
  <dc:subject/>
  <dc:title>Балет — это сценическое представление, в котором все события, характеры, мысли и поступки персонажей передаются с помощью пластического движения — танца.</dc:title>
</cp:coreProperties>
</file>